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AB8-077E-4AD9-BE7B-14B91889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13D6-E8FB-45C7-8935-D336F93F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F33-208D-4D2C-98C5-23622C49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99EF-05D1-486E-921E-0844D587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0719-0110-497A-845E-C24F73CD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10E1-8A7E-4258-826C-4113FE84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CBD5-8ED0-4250-A263-01B6C80F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47E6-89B3-4084-AC16-8B1F0DDC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6E8E-BD58-430A-9664-7BFFC46F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25A1-B605-47F9-8B47-23CDDD11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2EBE-B00E-460E-AC35-BC7582B4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D1C0-7A2C-476E-992E-C5D9AFCB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18B4-DE55-4B90-8B50-10A1CC2469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63640" y="198900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6600"/>
                </a:solidFill>
                <a:latin typeface="Arial"/>
              </a:rPr>
              <a:t>欢迎指导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258920" y="907920"/>
            <a:ext cx="7129440" cy="42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自信——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激发潜能的最佳法宝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476280"/>
            <a:ext cx="8424720" cy="764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高一（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143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）班自信心的问卷调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628640"/>
          <a:ext cx="9144000" cy="4616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28640"/>
                    <a:ext cx="9144000" cy="46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68960" y="404640"/>
            <a:ext cx="465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00"/>
                </a:solidFill>
                <a:latin typeface="Arial"/>
              </a:rPr>
              <a:t>4.</a:t>
            </a:r>
            <a:r>
              <a:rPr b="0" lang="zh-CN" sz="6000" spc="-1" strike="noStrike">
                <a:solidFill>
                  <a:srgbClr val="ff6600"/>
                </a:solidFill>
                <a:latin typeface="Arial"/>
              </a:rPr>
              <a:t>如何培养自信心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64960" y="1341360"/>
            <a:ext cx="10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、善于发现自己的长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9160" y="1989000"/>
            <a:ext cx="14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、给自己一个微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64960" y="2637000"/>
            <a:ext cx="105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、学会积极的自我暗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9160" y="3357720"/>
            <a:ext cx="105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D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、学会自我激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07760" y="4005360"/>
            <a:ext cx="10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、感受别人的欣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50920" y="4797360"/>
            <a:ext cx="10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F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、成功的体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22160" y="5516640"/>
            <a:ext cx="105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、充实自我，提高自身素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083680" y="1116000"/>
            <a:ext cx="5159520" cy="1556280"/>
          </a:xfrm>
          <a:prstGeom prst="rect">
            <a:avLst/>
          </a:prstGeom>
          <a:noFill/>
          <a:ln w="763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拿破仑被流放到一个小岛，逃出来后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法国国王派大军去捉拿他，拿破仑随从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他快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2600" y="3413160"/>
            <a:ext cx="53895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ff0000"/>
                </a:solidFill>
                <a:latin typeface="Arial"/>
                <a:ea typeface="华文新魏"/>
              </a:rPr>
              <a:t>       </a:t>
            </a:r>
            <a:r>
              <a:rPr b="0" lang="zh-CN" sz="55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你猜拿破仑怎么办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如果你是拿破仑，你怎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么办？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55640" y="1413000"/>
            <a:ext cx="7575480" cy="30186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拿破仑却说：“跑什么？我是他们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元帅，他们是我的士兵，为什么要跑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拿破仑迎着捉他的军队走过去，仍然以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帅的气度指挥他们，结果这批军队反而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他回去抓国王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763640" y="907920"/>
            <a:ext cx="612000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丧失信心，走向失败之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143080" y="1484280"/>
            <a:ext cx="50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6600"/>
                </a:solidFill>
                <a:latin typeface="Arial"/>
              </a:rPr>
              <a:t>5.</a:t>
            </a:r>
            <a:r>
              <a:rPr b="0" lang="zh-CN" sz="7200" spc="-1" strike="noStrike">
                <a:solidFill>
                  <a:srgbClr val="ff6600"/>
                </a:solidFill>
                <a:latin typeface="Arial"/>
              </a:rPr>
              <a:t>我为同学找自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76440" y="981000"/>
            <a:ext cx="555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让自信与我们同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8160" y="2496960"/>
            <a:ext cx="508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激励小语赠同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765000"/>
            <a:ext cx="4063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6600"/>
                </a:solidFill>
                <a:latin typeface="Arial"/>
              </a:rPr>
              <a:t>7.</a:t>
            </a:r>
            <a:r>
              <a:rPr b="0" lang="zh-CN" sz="8800" spc="-1" strike="noStrike">
                <a:solidFill>
                  <a:srgbClr val="ff6600"/>
                </a:solidFill>
                <a:latin typeface="Arial"/>
              </a:rPr>
              <a:t>结束语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2708280"/>
            <a:ext cx="799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6000" spc="-1" strike="noStrike">
                <a:solidFill>
                  <a:srgbClr val="009999"/>
                </a:solidFill>
                <a:latin typeface="Arial"/>
              </a:rPr>
              <a:t>相信自己，鼓起勇气，超越自己，你就是第一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18080" y="328680"/>
            <a:ext cx="33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歌曲欣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87000" y="1778040"/>
            <a:ext cx="258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《相信自己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34080" y="260280"/>
            <a:ext cx="530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将一只跳蚤放进杯中。开始，跳蚤一下子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能从杯中跳出来。然后，心理学家在杯上盖上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明盖，跳蚤仍然会往上跳，但碰了几次盖后，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疼了，慢慢就不跳那么高了。这时心理学家再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盖拿走，却发现那只跳蚤已经永远不能跳出杯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52760" y="337644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跳蚤为什么不能跳出杯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317080" cy="680400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8532720" y="6237360"/>
            <a:ext cx="611280" cy="358560"/>
          </a:xfrm>
          <a:prstGeom prst="leftArrow">
            <a:avLst>
              <a:gd name="adj1" fmla="val 50000"/>
              <a:gd name="adj2" fmla="val 42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44600" y="3860640"/>
            <a:ext cx="56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华文新魏"/>
                <a:ea typeface="华文新魏"/>
              </a:rPr>
              <a:t>——</a:t>
            </a:r>
            <a:r>
              <a:rPr b="0" lang="zh-CN" sz="4800" spc="-1" strike="noStrike">
                <a:solidFill>
                  <a:srgbClr val="009999"/>
                </a:solidFill>
                <a:latin typeface="华文新魏"/>
                <a:ea typeface="华文新魏"/>
              </a:rPr>
              <a:t>高一（</a:t>
            </a:r>
            <a:r>
              <a:rPr b="0" lang="zh-CN" sz="4800" spc="-1" strike="noStrike">
                <a:solidFill>
                  <a:srgbClr val="009999"/>
                </a:solidFill>
                <a:latin typeface="华文新魏"/>
                <a:ea typeface="华文新魏"/>
              </a:rPr>
              <a:t>143</a:t>
            </a:r>
            <a:r>
              <a:rPr b="0" lang="zh-CN" sz="4800" spc="-1" strike="noStrike">
                <a:solidFill>
                  <a:srgbClr val="009999"/>
                </a:solidFill>
                <a:latin typeface="华文新魏"/>
                <a:ea typeface="华文新魏"/>
              </a:rPr>
              <a:t>）班主题班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20606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9900"/>
                </a:solidFill>
                <a:latin typeface="Arial"/>
              </a:rPr>
              <a:t>扬起自信的风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363320" y="1611360"/>
            <a:ext cx="6288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华文新魏"/>
              </a:rPr>
              <a:t>       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华文新魏"/>
              </a:rPr>
              <a:t>在我的字典中没有不可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华文新魏"/>
              </a:rPr>
              <a:t>的字眼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华文新魏"/>
              </a:rPr>
              <a:t>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华文新魏"/>
              </a:rPr>
              <a:t>                       ——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华文新魏"/>
              </a:rPr>
              <a:t>拿破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95520" y="404640"/>
            <a:ext cx="463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0" lang="zh-CN" sz="7200" spc="-1" strike="noStrike">
                <a:solidFill>
                  <a:srgbClr val="ff6600"/>
                </a:solidFill>
                <a:latin typeface="Arial"/>
              </a:rPr>
              <a:t>什么是自信</a:t>
            </a:r>
            <a:r>
              <a:rPr b="0" lang="zh-CN" sz="7200" spc="-1" strike="noStrike">
                <a:solidFill>
                  <a:srgbClr val="ff66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844640"/>
            <a:ext cx="84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zh-CN" sz="6000" spc="-1" strike="noStrike">
                <a:solidFill>
                  <a:srgbClr val="333399"/>
                </a:solidFill>
                <a:latin typeface="Arial"/>
              </a:rPr>
              <a:t>是相信自己有能力实现自己愿望的心理，是对自己力量的充分肯定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162864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0" lang="zh-CN" sz="7200" spc="-1" strike="noStrike">
                <a:solidFill>
                  <a:srgbClr val="ff6600"/>
                </a:solidFill>
                <a:latin typeface="Arial"/>
              </a:rPr>
              <a:t>视频欣赏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3631680" y="3500280"/>
            <a:ext cx="258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Arial"/>
              </a:rPr>
              <a:t>——</a:t>
            </a:r>
            <a:r>
              <a:rPr b="0" lang="zh-CN" sz="6000" spc="-1" strike="noStrike">
                <a:solidFill>
                  <a:srgbClr val="009999"/>
                </a:solidFill>
                <a:latin typeface="Arial"/>
              </a:rPr>
              <a:t>《李丽的故事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32800" y="1916280"/>
            <a:ext cx="563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6600"/>
                </a:solidFill>
                <a:latin typeface="Arial"/>
              </a:rPr>
              <a:t>3.“</a:t>
            </a:r>
            <a:r>
              <a:rPr b="0" lang="zh-CN" sz="7200" spc="-1" strike="noStrike">
                <a:solidFill>
                  <a:srgbClr val="ff6600"/>
                </a:solidFill>
                <a:latin typeface="Arial"/>
              </a:rPr>
              <a:t>寻找自信”的故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5600" y="3789360"/>
            <a:ext cx="600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Arial"/>
              </a:rPr>
              <a:t>——</a:t>
            </a:r>
            <a:r>
              <a:rPr b="0" lang="zh-CN" sz="6000" spc="-1" strike="noStrike">
                <a:solidFill>
                  <a:srgbClr val="009999"/>
                </a:solidFill>
                <a:latin typeface="Arial"/>
              </a:rPr>
              <a:t>我是怎样找回自信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2133720"/>
            <a:ext cx="864252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     </a:t>
            </a:r>
            <a:r>
              <a:rPr b="0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近代比较权威的看法是：正常人只运用了自身潜能的</a:t>
            </a:r>
            <a:r>
              <a:rPr b="0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％</a:t>
            </a:r>
            <a:r>
              <a:rPr b="0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---5</a:t>
            </a:r>
            <a:r>
              <a:rPr b="0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％之间。也就是说，最成功的也只运用了自身潜能的</a:t>
            </a:r>
            <a:r>
              <a:rPr b="0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5</a:t>
            </a:r>
            <a:r>
              <a:rPr b="0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％，最失败的人，只要正常，也运用了自身潜能的</a:t>
            </a:r>
            <a:r>
              <a:rPr b="0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90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66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有同学说，不是我没有自信，没有努力，是因为我比别人笨的头脑，是这样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72920" y="1557360"/>
            <a:ext cx="4174200" cy="3506040"/>
          </a:xfrm>
          <a:prstGeom prst="rect">
            <a:avLst/>
          </a:prstGeom>
          <a:noFill/>
          <a:ln cap="rnd" w="7632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苏联学者做了一个形象的比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   </a:t>
            </a: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一个正常人如果发挥了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自身的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能的一半</a:t>
            </a: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，那么他将掌握</a:t>
            </a: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40</a:t>
            </a: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多种外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学完几十门大学的课程，可以将叠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来几人厚的全苏百科全书，背得滚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烂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11:27:20Z</dcterms:created>
  <dc:creator>wq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24:09Z</dcterms:modified>
  <cp:revision>45</cp:revision>
  <dc:subject>主题班会课件(分28大类): http://shop62905894.taobao.com</dc:subject>
  <dc:title>主题班会课件(分28大类): http://shop62905894.taobao.com</dc:title>
</cp:coreProperties>
</file>