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004-A4B6-431A-A07F-E4B4CEB6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1B4-5BBE-4865-95DD-CE0C1D11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4FF-CC5F-4393-89CB-8270F5DB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28B-A4C2-437F-BDA2-47BD1B29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4BB-EA14-4A94-BA9F-15299239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055-E6FD-478E-85B6-45ACE10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972-6C16-4644-8C12-0C9E9CD1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DDB-3A14-4C87-81AA-851BAC3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8B9-7256-4926-8F48-90E36BB8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9D4-10AA-47A0-88C7-9AB29827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987-7570-462D-99F2-F0CDA829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4EC-608E-47CA-ABE5-54C48EC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97D-E27E-4952-8D4B-A3112B0FB0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981080"/>
            <a:ext cx="632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心系北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——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努力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69400" y="2746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清华、北大，让我领略国宝级人才的风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229600" cy="54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40800" y="2746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清华、北大，让我领略世界巨人的风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235160"/>
            <a:ext cx="784872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71360" y="2714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在清华北大，让我聆听世界巨人的呼吸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282680"/>
            <a:ext cx="7010280" cy="55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00600" y="1219320"/>
            <a:ext cx="649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2011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本世纪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下一个时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我将沿着北大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台阶，继续向上攀登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去领略人生更美的风景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15400" cy="601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2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9144000" cy="1175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581280"/>
            <a:ext cx="9144000" cy="124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43434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343400" y="4800600"/>
            <a:ext cx="4800600" cy="1066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0" y="5867280"/>
            <a:ext cx="4495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429080" y="5884920"/>
            <a:ext cx="480060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380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北京航天航空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31920"/>
            <a:ext cx="83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2007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年，哪所大学之门为我打开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300320"/>
            <a:ext cx="7410600" cy="55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2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838080" y="19080"/>
            <a:ext cx="1043928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915400" cy="571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3808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浙江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86800" cy="52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080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33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中国人民公安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1484280"/>
            <a:ext cx="7925040" cy="537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7180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中国科学技术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0"/>
            <a:ext cx="52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2007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年，冲击名校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517760"/>
            <a:ext cx="9144000" cy="5340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380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上海交通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南开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936720"/>
            <a:ext cx="7886880" cy="592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862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吉林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9144000" cy="5232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609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西安交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457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山东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686800" cy="498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14600" y="762120"/>
            <a:ext cx="44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中国海洋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175248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200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年我一定让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和博雅塔的影子，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同映在同一汪静水中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200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年我将在未名湖畔漫步，看遍北大每一处风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481040"/>
            <a:ext cx="7924680" cy="537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7086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80360" y="-158040"/>
            <a:ext cx="1003320" cy="75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我的大学我的梦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62840" y="1284120"/>
            <a:ext cx="1704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北大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的台阶上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我一定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到一席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地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6553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31040" y="1447920"/>
            <a:ext cx="542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2007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年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金秋，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一定要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摸北大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狮的头颅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80060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5120" y="0"/>
            <a:ext cx="556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与世界顶尖级精英为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群英荟萃，人生何憾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33920" y="3817800"/>
            <a:ext cx="5410080" cy="30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9:27:07Z</dcterms:created>
  <dc:creator>jiaoshi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7:13Z</dcterms:modified>
  <cp:revision>5</cp:revision>
  <dc:subject>主题班会课件(分28大类): http://shop62905894.taobao.com</dc:subject>
  <dc:title>主题班会课件(分28大类): http://shop62905894.taobao.com</dc:title>
</cp:coreProperties>
</file>