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AEF9E-C2F3-4123-992F-B3C65B81B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85AB0-FA47-4553-BF34-7D6A705D0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6D561-2230-45A8-B7EF-E47C036C6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39E70-2E36-4B10-A12A-B125067BA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63718-501F-4222-BAA4-AD128F2E1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1D504-B02A-4338-88BA-61816AA3D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71CA7-6FB6-4A92-B6F9-FC98C9A82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7BD15-BC14-45AD-A5F1-14A36A677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AA663-9446-40C2-AA97-88CC4542B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E05BB-4487-47A0-B13A-D73953DF7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D2DB7-2B44-4331-A9E6-4E9135333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02DAA-D0A7-43EA-AB5C-35CD93F5B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3B832-E123-40C1-ADBD-67C54D5FFC7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不管我们受到什么样的耻辱，我们几乎总是有能力恢复我们自己的名誉。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　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71640" y="1125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最高兴的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547280" y="2923920"/>
            <a:ext cx="6696360" cy="30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得了流动红旗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晚会得奖了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班干很负责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同学们关系更融洽了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最不满意的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纪律自觉性不够，有些人开始散漫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女生宿舍的问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化学课太随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最推崇的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59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杨树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李永红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梁琼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黄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劳婵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姜丽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何成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是什么将我们绊倒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课外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不认真，不严肃的态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吵杂的教室和宿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859880" cy="19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把名誉从我身上拿走，我的生命也就完了。——莎士比亚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24000" y="-90360"/>
            <a:ext cx="8540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华文行楷"/>
              </a:rPr>
              <a:t>最初的梦想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8459640" y="2602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24000" y="1636200"/>
            <a:ext cx="8820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如果骄傲没被现实大海冷冷拍下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又怎会懂得要多努力，才走得到远方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如果梦想不曾坠落悬崖千钧一发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又怎会晓得执着的人，有隐形翅牓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把眼泪种在心上，会开出勇敢的花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296339" fill="hold"/>
                                        <p:tgtEl>
                                          <p:spTgt spid="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5T11:40:20Z</dcterms:created>
  <dc:creator>微软用户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3T16:16:47Z</dcterms:modified>
  <cp:revision>2</cp:revision>
  <dc:subject>主题班会课件(分28大类): http://shop62905894.taobao.com</dc:subject>
  <dc:title>主题班会课件(分28大类): http://shop62905894.taobao.com</dc:title>
</cp:coreProperties>
</file>