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6.jpeg" ContentType="image/jpeg"/>
  <Override PartName="/ppt/media/image15.png" ContentType="image/png"/>
  <Override PartName="/ppt/media/image14.gif" ContentType="image/gif"/>
  <Override PartName="/ppt/media/image1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3859-3DA9-437E-A336-C45AA72EB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F823-C7DE-4A13-ABE1-F4E91BF5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7E19-AD51-4158-BD45-F935C2164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B539-C1F3-4719-8977-1FA3ED782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1C97-7D0B-4707-A99C-4D71990D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291D-2BBD-4590-B5DB-941AAD93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471E-C2B0-401D-A7CA-8B68322C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1647-291E-4915-86BA-D2CAC197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1F1D-AEC3-4CBC-A043-F779165A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3FB8-411B-470B-A501-CAA39112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DE43-FD0C-404F-A1DF-A9CFE735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F3CE-F512-4159-96F7-92E59561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4822-9C80-44A2-8AD6-919FAC0FC4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2095560"/>
            <a:ext cx="5562360" cy="4762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907320" y="0"/>
            <a:ext cx="4842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1371600"/>
            <a:ext cx="9144000" cy="468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5227560" y="158760"/>
            <a:ext cx="3784680" cy="2982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让我们一起分享你成功的喜悦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304812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99ff99"/>
                </a:solidFill>
                <a:latin typeface="Times New Roman"/>
              </a:rPr>
              <a:t>我觉得，我最大的成功是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15000" y="5334120"/>
            <a:ext cx="3200400" cy="1143000"/>
          </a:xfrm>
          <a:prstGeom prst="flowChartPunched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  <a:ea typeface="GungsuhChe"/>
              </a:rPr>
              <a:t>Let me tr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609480" y="-704880"/>
            <a:ext cx="10693440" cy="7562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0"/>
            <a:ext cx="9677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老师不在时，我们就像失去了一个支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我们就散漫起来了，包括我自己在内，晚自修寻找机会讲话诸如此类缺乏自制力的表现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　　　　　　　　　——来自我班某同学的心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057400"/>
            <a:ext cx="9144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我不禁有一些悲哀。因为没有了老师的管理，班上的一部分同学纪律放松了，或多或小对认真学习的同学有些影响，有时竟在晚自习上看小说、报纸，真荒唐。还有我们宿舍还有部分同学也因缺少自制力，冒着被扣分的危险，晚上像开集会似的，声音很大，直到半夜，而第二天上课却在“钓鱼” 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　　　　　　　　——来自某同学的心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95280" y="333360"/>
            <a:ext cx="7921800" cy="11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6600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老师不在时，我们是这样做的：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6600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2514600"/>
            <a:ext cx="2057400" cy="2514600"/>
          </a:xfrm>
          <a:prstGeom prst="wedgeEllipseCallout">
            <a:avLst>
              <a:gd name="adj1" fmla="val -32407"/>
              <a:gd name="adj2" fmla="val 6212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4495680"/>
            <a:ext cx="1990800" cy="2362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00000" y="3071880"/>
            <a:ext cx="146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终于发现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们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足之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20574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、学习缺乏自觉性和自律性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28954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、学习不够勤奋；做表面文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38480" y="37339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三、学习有畏难情绪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44956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四、学习中不敢请教老师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5181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五、没有合理安排时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14800" y="57913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六、学习缺乏钻研，易于满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50920" y="620640"/>
            <a:ext cx="835344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期中联考总动员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04920" y="4572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班级目前状况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16002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班级绝大多数同学冲刺联考意识强烈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43828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常规工作有所松懈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32767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极少数同学目标意识淡薄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3520" y="0"/>
            <a:ext cx="81532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要求（纪律方面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上课（包括晚自习）不允许睡觉、不允许随便讲话——给老师以好印象，实现班级奋斗目标（保二争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课间不允许串班，不允许高声喧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晚自习到宿舍后按时洗澡、休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中午必须按时休息，保证充足的睡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不迟到，提前十分钟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安全：不允许打架、下河洗澡、外出上网、谈恋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Times New Roman"/>
              <a:ea typeface="华文新魏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57200" y="53352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、期中联考动员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4479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意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22860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增强竞争意识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335268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学习尤其是复习阶段注意：勤苦、方法、效率相结合——抽时间做好复习巩固工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阶联考的胜利就是我们最大的收获，这次考试意义非常重大，是我们吃苦勤奋的回报，是我们认真努力的果实，也许能起到转折点的作用——这次考试是一次重大的分水岭。成功了，意味着你向大学之门又迈进了一步。如何打好这一仗，关键在于这几天时间的利用上，下面拟出我的奋斗计划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抓住要点，有计划复习，不盲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有规律的进行复习，不要专攻一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合理的分配自己的时间，该干什么，干什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注重基础，只有打好坚实的基础，才能拿到高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学们，让我们一起努力吧，为了班级荣誉，为了父母微笑，为了自己的将来，我们齐心协力，誓死一战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68580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3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imes New Roman"/>
              </a:rPr>
              <a:t>成功在于坚持！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世间最容易的事是坚持，最难的事也是坚持。说它容易，是因为只要愿意做，人人能做到；说它难，是因为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真正能做到的，终究只是少数人。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228600" y="1752480"/>
            <a:ext cx="845820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愿同学们努力学习，笑对高考！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762120"/>
            <a:ext cx="8381880" cy="302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让我们一起筹划未来，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咬定班级与个人的期中联考目标，誓创辉煌！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1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76720" y="3860640"/>
            <a:ext cx="2695320" cy="2745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</a:rPr>
              <a:t>一阶光荣榜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640" y="549360"/>
            <a:ext cx="5112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一、班级前十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0" y="1179360"/>
          <a:ext cx="9144000" cy="5678640"/>
        </p:xfrm>
        <a:graphic>
          <a:graphicData uri="http://schemas.openxmlformats.org/drawingml/2006/table">
            <a:tbl>
              <a:tblPr/>
              <a:tblGrid>
                <a:gridCol w="684360"/>
                <a:gridCol w="1439640"/>
                <a:gridCol w="1008000"/>
                <a:gridCol w="935280"/>
                <a:gridCol w="1009440"/>
                <a:gridCol w="863640"/>
                <a:gridCol w="1008000"/>
                <a:gridCol w="1152720"/>
                <a:gridCol w="1042920"/>
              </a:tblGrid>
              <a:tr h="47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语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数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英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政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历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总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名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张晓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5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吴菊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5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赵永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5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孙芳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4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李晓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4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周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4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纪佳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4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朱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4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陈晓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4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陆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4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685800" y="533520"/>
            <a:ext cx="7772400" cy="2819160"/>
          </a:xfrm>
          <a:prstGeom prst="rect">
            <a:avLst/>
          </a:prstGeom>
        </p:spPr>
        <p:txBody>
          <a:bodyPr wrap="none" lIns="90000" rIns="90000" tIns="46800" bIns="46800" anchor="t">
            <a:prstTxWarp prst="textDeflate">
              <a:avLst>
                <a:gd name="adj" fmla="val 26227"/>
              </a:avLst>
            </a:prstTxWarp>
            <a:no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cc99"/>
                </a:solidFill>
                <a:miter/>
              </a:ln>
              <a:solidFill>
                <a:srgbClr val="00ff00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二、单科状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496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语文：李晓娟</a:t>
            </a: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116</a:t>
            </a: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数学：赵永玉</a:t>
            </a: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1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英语：张晓莲    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9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政治：张晓莲    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11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历史：纪佳佳     </a:t>
            </a: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1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99ff"/>
                </a:solidFill>
                <a:latin typeface="Times New Roman"/>
              </a:rPr>
              <a:t>三、进步显著者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1374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06920" y="2852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08360" y="3573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73440" y="436572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92520" y="5805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08360" y="5013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24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5792760"/>
            <a:ext cx="9144000" cy="1065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066680" y="1371600"/>
            <a:ext cx="3697560" cy="3668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96800" y="4572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est Wish For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372600" y="380880"/>
            <a:ext cx="1447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万用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2438280"/>
            <a:ext cx="350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　　您尝试过失败吗？我愿与你分忧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257800" y="4800600"/>
            <a:ext cx="3429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谈心摘录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24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5792760"/>
            <a:ext cx="9144000" cy="1065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724120" y="1595520"/>
            <a:ext cx="3697200" cy="3668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96800" y="4572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est Wish For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72600" y="380880"/>
            <a:ext cx="1447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万用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219320"/>
            <a:ext cx="8381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　　阶段考结束了，成绩虽然没有完全出来，但我深知这次的阶段考会彻彻底底地失败。都怪我平时不努力学习，语言上巨人，行动上矮子。如果当父母看到一科科不合格的成绩，多为我担忧啊！父母为了供我读书，已经够辛苦了，现在因为我这么差劲的成绩，使他们多一点忧虑，这太不应该了。这次，我成了一个不孝子了。为什么在失败后才来后悔，而不好好准备，等待失败降临在自己关上呢？这一次是高中以来受到的最大挫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　　　　－－这是我班某同学在考后的心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3520" y="1219320"/>
            <a:ext cx="468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00"/>
                </a:solidFill>
                <a:latin typeface="Times New Roman"/>
              </a:rPr>
              <a:t>您发觉了什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63520" y="2852280"/>
            <a:ext cx="51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为什么不能在拥有的时候就好好地珍惜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39480" y="4004640"/>
            <a:ext cx="51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为什么非要在失去的时候才深深地叹息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9184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304920" y="990720"/>
            <a:ext cx="76197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学习如逆水行舟，不进则退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8" name=""/>
          <p:cNvSpPr/>
          <p:nvPr/>
        </p:nvSpPr>
        <p:spPr>
          <a:xfrm>
            <a:off x="1752480" y="2590920"/>
            <a:ext cx="620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你明白这个道理吗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成功，是世界上任何人都羡慕的；失败，是世界上任何人都害怕和讨厌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609480" y="-704880"/>
            <a:ext cx="10693440" cy="7562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457200" y="1219320"/>
            <a:ext cx="8686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我们的不足之处在哪里呢？</a:t>
            </a:r>
            <a:endParaRPr b="0" lang="en-US" sz="24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0T10:13:23Z</dcterms:created>
  <dc:creator>a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5:45:27Z</dcterms:modified>
  <cp:revision>86</cp:revision>
  <dc:subject>主题班会课件(分28大类): http://shop62905894.taobao.com</dc:subject>
  <dc:title>主题班会课件(分28大类): http://shop62905894.taobao.com</dc:title>
</cp:coreProperties>
</file>