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gif" ContentType="image/gif"/>
  <Override PartName="/ppt/media/image15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jpeg" ContentType="image/jpeg"/>
  <Override PartName="/ppt/media/image14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5128-C272-463E-984D-1074D14D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CB6-B4BD-4DD0-9348-FDCD4368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652-5B22-49F4-A475-8534544A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12A-450A-46BE-A856-D5876B47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CD72-5CAE-4939-AE41-4C95E530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CF81-B471-410A-BD12-DD295FD8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718A-CA38-4CB2-99DD-12FC8AE6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52FF-FA09-4911-9C28-23647909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BB4C-D622-454F-8068-D463F854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A3B9-9B71-4517-B5DB-19CC831B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41FE-786F-4219-B03A-7A9B1936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618-1846-492A-B7C2-C3873DB9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D02C-9665-4E37-9356-B4AC931E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AD25-0C00-4825-87C2-D6D4D323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82CC-F076-406B-B999-2B19D43A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7522-9A34-4DBB-BF60-5C335026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02F1-7BD0-4A0B-A108-65859C3C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1B89C-430B-44E1-A138-CFCBBF07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77B22-0A18-43F7-A5D9-E45B26FF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E10C6-7B11-4C4F-8CF0-CB8A5120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859B-0196-4554-AD0F-D04D1373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803A0-E0D2-4C79-9F88-B961BF78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EABD-D230-408C-BE60-644A24B3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16262-705E-4303-8B88-CFAD2845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E36A5-A778-4CCE-9187-32EF04C2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35F5E-E19C-45F6-98C5-4EC04966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8AA12-0175-4874-806C-DA596B8F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095E6-AD07-4E17-B8A2-C58B023F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7E5F8-0B1E-4B23-95F6-77C03B16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10B7E-5969-4568-BDC0-5CA8E642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49A3-7A7D-4672-9D87-D4B46743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5E7-8301-49D2-8FB5-24E50324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71A-0049-4A46-9707-D73EC999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5DD-D3C6-4833-9806-61BD27F6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2A5-097F-4881-972D-47E4F4E0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1CB6-1F24-454F-BDB1-57B20A5C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3982-1F6B-4E51-8A78-DA4EE9925AE5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936A-2547-4943-9EEF-80B84E2B56EF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2C5B-F048-49DA-8E13-5D3903EEE8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8.xml"/><Relationship Id="rId3" Type="http://schemas.openxmlformats.org/officeDocument/2006/relationships/image" Target="../media/image17.gif"/><Relationship Id="rId4" Type="http://schemas.openxmlformats.org/officeDocument/2006/relationships/slide" Target="slide9.xml"/><Relationship Id="rId5" Type="http://schemas.openxmlformats.org/officeDocument/2006/relationships/image" Target="../media/image17.gif"/><Relationship Id="rId6" Type="http://schemas.openxmlformats.org/officeDocument/2006/relationships/slide" Target="slide11.xml"/><Relationship Id="rId7" Type="http://schemas.openxmlformats.org/officeDocument/2006/relationships/image" Target="../media/image17.gif"/><Relationship Id="rId8" Type="http://schemas.openxmlformats.org/officeDocument/2006/relationships/slide" Target="slide10.xml"/><Relationship Id="rId9" Type="http://schemas.openxmlformats.org/officeDocument/2006/relationships/image" Target="../media/image17.gif"/><Relationship Id="rId10" Type="http://schemas.openxmlformats.org/officeDocument/2006/relationships/slide" Target="slide12.xml"/><Relationship Id="rId11" Type="http://schemas.openxmlformats.org/officeDocument/2006/relationships/image" Target="../media/image17.gif"/><Relationship Id="rId1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2" name=""/>
          <p:cNvSpPr txBox="1"/>
          <p:nvPr/>
        </p:nvSpPr>
        <p:spPr>
          <a:xfrm>
            <a:off x="179280" y="5013360"/>
            <a:ext cx="8496360" cy="14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8160">
                  <a:solidFill>
                    <a:srgbClr val="ff33cc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高二</a:t>
            </a:r>
            <a:r>
              <a:rPr b="1" lang="en-US" sz="1800" spc="1" strike="noStrike">
                <a:ln w="38160">
                  <a:solidFill>
                    <a:srgbClr val="ff33cc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(8)</a:t>
            </a:r>
            <a:r>
              <a:rPr b="1" lang="zh-CN" sz="1800" spc="1" strike="noStrike">
                <a:ln w="38160">
                  <a:solidFill>
                    <a:srgbClr val="ff33cc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班主题班会</a:t>
            </a:r>
            <a:endParaRPr b="1" lang="en-US" sz="1800" spc="1" strike="noStrike">
              <a:ln w="38160">
                <a:solidFill>
                  <a:srgbClr val="ff33cc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1280" y="-674640"/>
            <a:ext cx="669600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经受挫折的考验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4" name=""/>
          <p:cNvSpPr/>
          <p:nvPr/>
        </p:nvSpPr>
        <p:spPr>
          <a:xfrm>
            <a:off x="7596360" y="1197000"/>
            <a:ext cx="93636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87280" y="2492280"/>
            <a:ext cx="633600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欢迎光临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55640" y="4508640"/>
            <a:ext cx="2448000" cy="1944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411280" y="2349360"/>
            <a:ext cx="4969080" cy="137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散挫折的压力，不要把痛苦闷在心里，应当主动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师、同学或亲友倾诉，争取别人的谅解、同情与帮助，这样可以减轻挫折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强克服挫折的信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 rot="5400000">
            <a:off x="6107400" y="3332880"/>
            <a:ext cx="4200480" cy="93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学会宣泄，摆脱压力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79280" y="189000"/>
            <a:ext cx="756144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四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.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正确面对挫折的方法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55640" y="4508640"/>
            <a:ext cx="2448000" cy="1944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 rot="5400000">
            <a:off x="5472720" y="3536280"/>
            <a:ext cx="4057560" cy="81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情绪转移，寻求升华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97" name=""/>
          <p:cNvSpPr/>
          <p:nvPr/>
        </p:nvSpPr>
        <p:spPr>
          <a:xfrm>
            <a:off x="1979640" y="1989000"/>
            <a:ext cx="457200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自己的视线，遭受挫折后，一般人都会感觉度日如年，这时，可以通过自己喜爱的集邮、写作、书法、美术、音乐、舞蹈、体育锻炼等方式，使情绪得以调节，情感得以升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79280" y="189000"/>
            <a:ext cx="756144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四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.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正确面对挫折的方法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55640" y="4508640"/>
            <a:ext cx="2448000" cy="1944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 rot="5400000">
            <a:off x="6049080" y="3535920"/>
            <a:ext cx="4127400" cy="601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学会幽默，自我解嘲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01" name=""/>
          <p:cNvSpPr/>
          <p:nvPr/>
        </p:nvSpPr>
        <p:spPr>
          <a:xfrm>
            <a:off x="2987640" y="1628640"/>
            <a:ext cx="4680000" cy="2226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幽默”和“自嘲”是宣泄积郁、平衡心态、制造快乐的良方。当你遭受挫折时，不妨采用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精神胜利法，比如“吃亏是福”“破财免灾”“有失有得”等等来调节一下你失衡的心理。或者“难得糊涂”，冷静看待挫折，用幽默的方法调整心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79280" y="189000"/>
            <a:ext cx="756144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四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.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正确面对挫折的方法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55640" y="4508640"/>
            <a:ext cx="2448000" cy="1944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286000" y="2133720"/>
            <a:ext cx="4572000" cy="155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你受挫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静下心来把可能产生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原因寻找出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再寻求解决问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 rot="5400000">
            <a:off x="6072120" y="3513240"/>
            <a:ext cx="420048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寻找原因，理清思路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9280" y="189000"/>
            <a:ext cx="756144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四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.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正确面对挫折的方法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55640" y="4508640"/>
            <a:ext cx="2448000" cy="1944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042920" y="2987640"/>
            <a:ext cx="65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你遇到挫折时，要勇往直前。你的既定目标不变，努力的程度加倍。那么很快，迎接你的就将是成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 rot="5400000">
            <a:off x="5904360" y="3391560"/>
            <a:ext cx="4200840" cy="674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再接再厉，锲而不舍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79280" y="189000"/>
            <a:ext cx="756144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四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.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正确面对挫折的方法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0866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11280" y="1413000"/>
            <a:ext cx="8064360" cy="30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一切想得自然、美好一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就会发现一切都没有那么艰难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挫折暂时的失败只是我们身边的过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只有做到把挫折、失败转化为压力、变为了奋进取的动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断调整自己的心理状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坚定不移地向自己的目标迈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才会获得最终的胜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268360" y="1341360"/>
            <a:ext cx="540072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壮志雄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643280" y="4437000"/>
            <a:ext cx="102888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216760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9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946160" y="3246480"/>
            <a:ext cx="78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989000"/>
            <a:ext cx="8496360" cy="240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谢谢光临</a:t>
            </a:r>
            <a:endParaRPr b="1" lang="en-US" sz="1800" spc="1" strike="noStrike">
              <a:ln w="324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pic>
        <p:nvPicPr>
          <p:cNvPr id="21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403280" y="5805360"/>
            <a:ext cx="936720" cy="723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96000" y="5805360"/>
            <a:ext cx="657360" cy="7239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708360" y="5805360"/>
            <a:ext cx="657360" cy="7239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667640" y="5805360"/>
            <a:ext cx="657360" cy="7239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79280" y="4581360"/>
            <a:ext cx="657360" cy="2276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3924360" y="4869000"/>
            <a:ext cx="4103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中宋"/>
              </a:rPr>
              <a:t>高二（</a:t>
            </a: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中宋"/>
              </a:rPr>
              <a:t>8</a:t>
            </a: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中宋"/>
              </a:rPr>
              <a:t>）班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042920" y="4581360"/>
            <a:ext cx="4953240" cy="5716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39640" y="4724280"/>
            <a:ext cx="5456520" cy="630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2332080"/>
            <a:ext cx="406728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运就算颠沛流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运就算曲折离奇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运就算恐吓着你做人没趣味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别流泪心酸更不应舍弃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愿能一生永远陪伴你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运就算颠沛流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运就算曲折离奇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运就算恐吓着你做人没趣味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别流泪心酸更不应舍弃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愿能一生永远陪伴你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11640" y="0"/>
            <a:ext cx="4932360" cy="479736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~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生之中兜兜转转那会看清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彷徨时我也试过独坐一角像是没协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某年那幼小的我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跌倒过几多几多落泪在雨夜滂沱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生之中弯弯曲曲我也要走过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何时有你有你伴我给我热烈地拍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红日之火燃点真的我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伴行千山也定能踏过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让晚风轻轻吹过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伴送着清幽花香像是在祝福你我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让晚星轻轻闪过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闪出你每个希冀如浪花快要沾湿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39640" y="0"/>
            <a:ext cx="208764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红日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50920" y="3213000"/>
            <a:ext cx="5761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他们该怎么办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661080" y="3751200"/>
            <a:ext cx="2482920" cy="3106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79280" y="189000"/>
            <a:ext cx="7488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一、分享您的挫折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3040200" cy="3500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34240" y="1773360"/>
            <a:ext cx="2910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心理学上对挫折的定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2852640"/>
            <a:ext cx="50115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挫折是个体从事有目的的活动过程中，遇到障碍或干扰，致使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个体动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实现，需要不能满足的情绪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71640" y="333360"/>
            <a:ext cx="727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二、挫折是不请自来的常客 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7160" y="1628640"/>
            <a:ext cx="1843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挫折的普遍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4600" y="2492280"/>
            <a:ext cx="184356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挫折的必然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64000" y="2349360"/>
            <a:ext cx="5329080" cy="34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中学阶段，我们都展开理想的翅膀向往着美好的未来，但人生的道路往往迂回曲折，坎坷不平。生活的大海并不是风平浪静，海面上有惊涛骇浪，水里有漩涡暗礁，而我们只是一个不熟练的水手，缺乏经验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些都会阻碍我们人生的航船向前进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76480" y="1413000"/>
            <a:ext cx="891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的一生不可能总是一帆风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71640" y="333360"/>
            <a:ext cx="727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二、挫折是不请自来的常客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826920" y="3068640"/>
            <a:ext cx="30402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47960" y="-1080"/>
            <a:ext cx="356220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19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56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00000" y="2708280"/>
            <a:ext cx="77058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京申奥形象大使、曾经的体操冠军桑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她在一次比赛训练中不幸摔伤瘫痪时，所有的人都为她叹息。但当她始终微笑着面对伤痛、面对世界时，所有的人都被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桑兰微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感动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们记住了桑兰，不是因为金牌，而是因为她在挫折面前勇敢的微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16000" y="4684680"/>
            <a:ext cx="6192720" cy="459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也许你在某件事上是“倒霉”的，但你在其他方面可能依然很幸运。和那些不幸者相比，你或许还是一个十分幸运的人。“生活是一面镜子，你对它笑，它就笑；你对它哭，它就哭。”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3699000"/>
            <a:ext cx="6192720" cy="82548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何问题都隐含着创造的可能。挫折给人以打击，带来损失和痛苦，但同时也能使人奋起、成熟，从中得到锻炼，正如大文豪巴尔扎克所说：“世界上的事情永远不是绝对的，结果完全因人而异。苦难对于天才是一块垫脚石，…对于能干的人是一笔财富，对于弱者是一个万丈深渊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2971800"/>
            <a:ext cx="6192720" cy="459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你的挫折不会永远存在，你还要继续生存下去！暴风消逝时，晴空必然出现；冬雪融化时，生机必然展现。生命里的冬天，会消失无踪，你的挫折当然也会获得解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116000" y="1395360"/>
            <a:ext cx="3600360" cy="647640"/>
            <a:chOff x="1116000" y="1395360"/>
            <a:chExt cx="3600360" cy="647640"/>
          </a:xfrm>
        </p:grpSpPr>
        <p:sp>
          <p:nvSpPr>
            <p:cNvPr id="160" name=""/>
            <p:cNvSpPr/>
            <p:nvPr/>
          </p:nvSpPr>
          <p:spPr>
            <a:xfrm>
              <a:off x="1116000" y="139536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16000" y="146700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每个人都会面临挫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861080" y="1467000"/>
            <a:ext cx="718920" cy="502920"/>
          </a:xfrm>
          <a:custGeom>
            <a:avLst/>
            <a:gdLst>
              <a:gd name="textAreaLeft" fmla="*/ 89640 w 718920"/>
              <a:gd name="textAreaRight" fmla="*/ 629280 w 718920"/>
              <a:gd name="textAreaTop" fmla="*/ 125640 h 502920"/>
              <a:gd name="textAreaBottom" fmla="*/ 3772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53080" y="1467000"/>
            <a:ext cx="15829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不要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2114640"/>
            <a:ext cx="6192720" cy="459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人都有烦恼，人人都面临挫折，那种没有烦恼和挫折的生活，根本是一种幻想和自欺欺人的说法。追求那种没有挫折的生活，只有徒耗生命而已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116000" y="2187720"/>
            <a:ext cx="3600360" cy="647640"/>
            <a:chOff x="1116000" y="2187720"/>
            <a:chExt cx="3600360" cy="647640"/>
          </a:xfrm>
        </p:grpSpPr>
        <p:sp>
          <p:nvSpPr>
            <p:cNvPr id="166" name=""/>
            <p:cNvSpPr/>
            <p:nvPr/>
          </p:nvSpPr>
          <p:spPr>
            <a:xfrm>
              <a:off x="1116000" y="218772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16000" y="225936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每次挫折都会过去</a:t>
              </a: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4861080" y="2259000"/>
            <a:ext cx="718920" cy="503280"/>
          </a:xfrm>
          <a:custGeom>
            <a:avLst/>
            <a:gdLst>
              <a:gd name="textAreaLeft" fmla="*/ 89640 w 718920"/>
              <a:gd name="textAreaRight" fmla="*/ 629280 w 718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16000" y="2979720"/>
            <a:ext cx="3600360" cy="647640"/>
            <a:chOff x="1116000" y="2979720"/>
            <a:chExt cx="3600360" cy="647640"/>
          </a:xfrm>
        </p:grpSpPr>
        <p:sp>
          <p:nvSpPr>
            <p:cNvPr id="170" name=""/>
            <p:cNvSpPr/>
            <p:nvPr/>
          </p:nvSpPr>
          <p:spPr>
            <a:xfrm>
              <a:off x="1116000" y="297972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16000" y="305136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每次挫折都有转折点</a:t>
              </a: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861080" y="3051000"/>
            <a:ext cx="718920" cy="503280"/>
          </a:xfrm>
          <a:custGeom>
            <a:avLst/>
            <a:gdLst>
              <a:gd name="textAreaLeft" fmla="*/ 89640 w 718920"/>
              <a:gd name="textAreaRight" fmla="*/ 629280 w 718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116000" y="3772080"/>
            <a:ext cx="3600360" cy="822240"/>
            <a:chOff x="1116000" y="3772080"/>
            <a:chExt cx="3600360" cy="822240"/>
          </a:xfrm>
        </p:grpSpPr>
        <p:sp>
          <p:nvSpPr>
            <p:cNvPr id="174" name=""/>
            <p:cNvSpPr/>
            <p:nvPr/>
          </p:nvSpPr>
          <p:spPr>
            <a:xfrm>
              <a:off x="1116000" y="3803760"/>
              <a:ext cx="3600360" cy="790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16000" y="377208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每次挫折都会对人产生影响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859280" y="3914640"/>
            <a:ext cx="719280" cy="503280"/>
          </a:xfrm>
          <a:custGeom>
            <a:avLst/>
            <a:gdLst>
              <a:gd name="textAreaLeft" fmla="*/ 89640 w 719280"/>
              <a:gd name="textAreaRight" fmla="*/ 629640 w 719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116000" y="4797360"/>
            <a:ext cx="3600360" cy="647640"/>
            <a:chOff x="1116000" y="4797360"/>
            <a:chExt cx="3600360" cy="647640"/>
          </a:xfrm>
        </p:grpSpPr>
        <p:sp>
          <p:nvSpPr>
            <p:cNvPr id="178" name=""/>
            <p:cNvSpPr/>
            <p:nvPr/>
          </p:nvSpPr>
          <p:spPr>
            <a:xfrm>
              <a:off x="1116000" y="479736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16000" y="486900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不要盯住挫折不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861080" y="4851360"/>
            <a:ext cx="718920" cy="503280"/>
          </a:xfrm>
          <a:custGeom>
            <a:avLst/>
            <a:gdLst>
              <a:gd name="textAreaLeft" fmla="*/ 89640 w 718920"/>
              <a:gd name="textAreaRight" fmla="*/ 629280 w 718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651640" y="2266920"/>
            <a:ext cx="158256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不要逃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4635360"/>
            <a:ext cx="15825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不要不能自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51640" y="3059280"/>
            <a:ext cx="158256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不要颓废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51640" y="3924360"/>
            <a:ext cx="158256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不要绝望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5516640"/>
            <a:ext cx="6192720" cy="459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挫折如果已经发生，那就应当面对它，寻找解决的办法；如果挫折已经过去，那就应当丢开它，不要老是把它保留在记忆里。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260280"/>
            <a:ext cx="7812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三、面对现阶段挫折态度、对策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blinds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1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1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92360" y="263700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析挫折产生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主客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因，正确对待挫折，不仅可以克服和消除挫折，而且还可以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磨炼自己的意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5640" y="4508640"/>
            <a:ext cx="2448000" cy="1944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179280" y="189000"/>
            <a:ext cx="756144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四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.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正确面对挫折的方法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90" name=""/>
          <p:cNvSpPr txBox="1"/>
          <p:nvPr/>
        </p:nvSpPr>
        <p:spPr>
          <a:xfrm rot="5400000">
            <a:off x="5659560" y="3060720"/>
            <a:ext cx="4114800" cy="961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正视挫折，认真分析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10:15:07Z</dcterms:created>
  <dc:creator>wmz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40:02Z</dcterms:modified>
  <cp:revision>117</cp:revision>
  <dc:subject>主题班会课件(分28大类): http://shop62905894.taobao.com</dc:subject>
  <dc:title>主题班会课件(分28大类): http://shop62905894.taobao.com</dc:title>
</cp:coreProperties>
</file>