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F97-99A9-454A-8497-76A57713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F4D-1B75-40C8-A5ED-9E49651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424-0519-4903-BCFE-A2887ACF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F21-49D3-41DE-BDCC-9F136DF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C4E-448D-43DB-9B62-C2975F0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1B6-FE02-4354-8A21-9A78171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CCD-FA6C-4100-891C-A81AB46C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875-B56A-406C-9833-C73DC8B8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A65-F034-4269-A47B-7D19505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295-0C4A-47CC-A4EB-8D9C472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CEB-1DB6-482A-B2FF-EA7671C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76D-BC85-42C1-B6CF-6205BBE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BFC-EA38-4685-B29B-14AAFB857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总理、创三好”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让我们为目标而努力奋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933720"/>
            <a:ext cx="8209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苏省淮安中学高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80480" y="907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692280"/>
          <a:ext cx="8713800" cy="5744880"/>
        </p:xfrm>
        <a:graphic>
          <a:graphicData uri="http://schemas.openxmlformats.org/drawingml/2006/table">
            <a:tbl>
              <a:tblPr/>
              <a:tblGrid>
                <a:gridCol w="576000"/>
                <a:gridCol w="1152720"/>
                <a:gridCol w="4311720"/>
                <a:gridCol w="1496880"/>
                <a:gridCol w="11764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走自己的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让别人去说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师范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敏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的思维是有限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海交通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达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真的很不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江苏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相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能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院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美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最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求更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态度决定一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家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一个人都有闪光之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就在于是否被自己发现和利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恩来总理机智幽默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，有一次，周恩来和一位美国记者谈话时，记者看到总理办公室里有一支派克钢笔，便带着几分讽刺，得意地发问：“总理阁下，也迷信我国的钢笔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听了风趣地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这是一位朝鲜朋友送给我的。这位朋友对我说：“这是美军在板门店投降签字仪式上用过的，你留下作个纪念吧！”我觉得这支钢笔的来历很有意义，就留下了贵国的这支钢笔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记者的脸一直红到了耳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080" y="76428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派克”的来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句话的电影说明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周恩来参加日内瓦会议，通知工作人员，给与会者放一部《梁山伯与祝英台》的彩色越剧片。工作人员为了使外国人能看懂中国的戏剧片，写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的说明书呈周总理审阅。周恩来批评工作人员：“不看对象，对牛弹琴”。工作人员不服气地说：“给洋人看这种电影，那才是对牛弹琴呢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那就看你怎么个弹法了”，周恩来说，“你要用十几页的说明书去弹，那是乱弹，我给你换个弹法吧，你只要在请柬上写一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您欣赏一部彩色歌剧电影，中国的《罗密欧与朱丽叶》就行了。”电影放映后，观众们看得如痴如醉，不时爆发出阵阵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，周恩来接见的美国记者不怀好意地问：“总理阁下，你们中国人为什么把人走的路叫做马路？”他听后没有急于用刺人的话反驳，而是妙趣横生地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走的是马克思主义之路，简称马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”这个美国记者仍不死心，继续出难题：“总理阁下，在我们美国，人们都是仰着头走路而你们中国人为什么低头走路，这又怎么解释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总理笑着说：“这不奇怪，问题很简单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美国人走的是下坡路，当然要仰着头走路了，而我们中国人走的是上坡路，当然是低着头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”记者又问：“中国现在有四亿人，需要修多少厕所？”这纯属无稽之谈，可是，在这样的外交场合，又不便回绝，周总理轻轻一笑回答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！一个男厕所，一个女厕所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一次记者招待会，周恩来总理介绍我国建设成就。一个西方记者问：“中国人民银行有多少资金？”这涉及到国家机密，不可能直言相告。总理眉头一皱，很快答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场的人全都愕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理解释说：“中国人民银行的货币面额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共十种主辅人民币，合计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。中国人民银行有全国人民作后盾，信用卓著，实力雄厚，人民币是世界上最有信誉的一种货币。”话音刚落，全场响起热烈的掌声。总理有意回避问题的实质，以“总面额”替代“总金额”，于是堵了外国记者的口，又不损害招待会和谐的气氛。运用曲解，使语言犀利而风趣，充分表现出他过人的应变能力和高超的语言艺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4100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藏自古就是中国的领土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下旬，周恩来总理与印度谈判中印边界问题，印方提出一个挑衅性问题：“西藏自古就是中国的领土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恩来总理说：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藏自古就是中国的领土，远的不说，至少在元代，它已经是中国的领土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方说：“时间太短了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恩来总理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“中国的元代离现在已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年的历史，如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年都被认为是时间短的话，那么，美国到现在只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年的历史，是不是美国不能成为一个国家呢？这显然是荒谬的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印方代表哑口无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在周恩来的反驳中，用了两个对比性材料来否定对方的观点。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7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与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相比较，你要否认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7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而承认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显然是站不住脚的，其结果是承认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就得承认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700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年这个事实。对比在这里产生了巨大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知道总理多少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翔宇，曾用名伍豪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苏淮安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中国无产阶级革命家、政治家、军事家和外交家，中国共产党和中华人民共和国的主要领导人，中国人民解放军的创建人之一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天津南开学校毕业后，留学日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回国。五四运动中，在天津组织觉悟社，从事反帝、反封建的革命活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去法国勤工俭学，发起组织旅欧中国少年共产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加入中国共产党，任青年团旅欧支部书记、中共旅欧支部领导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回国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领导了南昌起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中华人民共和国成立后，一直担任政府总理，兼任过外交部长，并任中共中央军委副主席，全国政协副主席、主席。是中共第五届中央政治局委员，第六届中央政治局常委，第七届中央政治局委员兼书记处书记，第九届中央政治局常委，第八届、第十届中央委员会副主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恩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出生于江苏省北部的淮安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鞠躬尽瘁全心为人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学们可能不知道，文化大革命的时候特别时行戴毛主席像章，毛主席像章越来越大，越来越精致，到现在我也还保存着“两毛巾”毛主席像章。这充分反映了广大人民群众对毛主席的爱戴之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敬爱的周总理胸前也戴了一枚毛主席像章，但是他戴的不是当流行的圆形毛主席像章，而是一种长条形的为人民服务纪念章。这枚纪念章上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方是毛主席头像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方是毛主席书写的“为人民服务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大字。有一回，周总理去广州，宾馆里的女服务员胆子挺大，要跟周总理换像章。那时候，如果能得一枚好像章，可是一件了不起的收获。周总理笑着说：“你喜欢我戴的这枚，好啊，那就送给你。”一听这话，姑娘赶紧自己动手摘下了周总理戴的像章，又把自己戴的那枚毛主席头像纪念章给周总理别在胸前。到了晚上，周总理又把那枚毛主席头像纪念章摘下来，仍然换了一枚为人民服务纪念章戴在胸前，这枚毛主席为人民服务纪念章一直戴到他去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这虽然是一件小事，可是，充分体现了敬爱的周总理为人民服务的崇高思想。鞠躬尽瘁全心为人民，是敬爱的周总理伟大一生的光辉写照。这里，讲几个周总理生前把自己置身于人民当中，与人民同甘共苦，时刻关心人民群众的衣食住行，吃穿冷暖，把全部的爱献给人民群众的故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最近班级整体状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28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在学习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已形成良好的学风，没有不认真学习的人。（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上课、作业、尊师、自习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自习仍有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个别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话（或讨论问题）、上课也有人瞎闹、没有认真对待，记笔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：我们应该怎样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纪律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体已形成良好的班风，没有胡闹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迟到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丽军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李解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王炜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盛廷俊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史旭飞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王成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伟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吴琼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自习有小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别看课外书（许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别同学中午看杂志、玩文曲星、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陈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值日卫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日生早晨值日比较到，但中午、晚读前有部分值日生不到位，大家保洁工作不够好，有乱扔现象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扫除大家比较到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周一定全部到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准备工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扫除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后全体同学回班级自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宿舍值日比较到位，迎接“文明宿舍”评比，力争“文明宿舍”；被评为文明宿舍的所有成员将记入档案，评优时优先，并且将得到班级的物质奖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第一月考时间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月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71640" y="2349360"/>
            <a:ext cx="432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我们团结一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920" y="2421000"/>
            <a:ext cx="6913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为第一次的辉煌而努力奋斗吧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692280"/>
          <a:ext cx="8640720" cy="5744880"/>
        </p:xfrm>
        <a:graphic>
          <a:graphicData uri="http://schemas.openxmlformats.org/drawingml/2006/table">
            <a:tbl>
              <a:tblPr/>
              <a:tblGrid>
                <a:gridCol w="399960"/>
                <a:gridCol w="1184040"/>
                <a:gridCol w="4391280"/>
                <a:gridCol w="1492200"/>
                <a:gridCol w="1173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座右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心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这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目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逆水行舟，不进则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东南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心有多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舞台就有多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苏州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昕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世上无难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要肯登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理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比人更高的山，没有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脚更长的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迎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说一千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道一万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如一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---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20640"/>
          <a:ext cx="8964720" cy="5783400"/>
        </p:xfrm>
        <a:graphic>
          <a:graphicData uri="http://schemas.openxmlformats.org/drawingml/2006/table">
            <a:tbl>
              <a:tblPr/>
              <a:tblGrid>
                <a:gridCol w="528840"/>
                <a:gridCol w="1130040"/>
                <a:gridCol w="4555440"/>
                <a:gridCol w="1539360"/>
                <a:gridCol w="1211040"/>
              </a:tblGrid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把正在做的事当成唯一重要的事全力以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旦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选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喜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苏州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笑到最后才是最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邮电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志在顶峰的人不会被半山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美景留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苏州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祁玉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知识是苦树上结出来的甜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态度决定一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成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othing is impossible if you put your heart into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院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765000"/>
          <a:ext cx="8713800" cy="5745240"/>
        </p:xfrm>
        <a:graphic>
          <a:graphicData uri="http://schemas.openxmlformats.org/drawingml/2006/table">
            <a:tbl>
              <a:tblPr/>
              <a:tblGrid>
                <a:gridCol w="647640"/>
                <a:gridCol w="1152720"/>
                <a:gridCol w="4240080"/>
                <a:gridCol w="1497240"/>
                <a:gridCol w="11761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浦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书山有路勤为径，学海无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苦作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书山有路勤为径，学海无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苦作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旦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相信我能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梦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不可创造的奇迹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不实现的理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籁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绩是检测个人的最好的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东南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柏森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为了我的梦想，我永不言弃，加油无止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师范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要付出过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就会有收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620640"/>
          <a:ext cx="8964720" cy="5745240"/>
        </p:xfrm>
        <a:graphic>
          <a:graphicData uri="http://schemas.openxmlformats.org/drawingml/2006/table">
            <a:tbl>
              <a:tblPr/>
              <a:tblGrid>
                <a:gridCol w="592200"/>
                <a:gridCol w="1136520"/>
                <a:gridCol w="4581720"/>
                <a:gridCol w="1485720"/>
                <a:gridCol w="1168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今天不努力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明天将努力生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师范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冲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是我的理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奋斗是我的必经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功是我的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师范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化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功是人一步一步踏踏实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走出来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院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旭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份耕耘，一份收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院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韦默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总是在变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习惯顺流而下的鱼到达悬崖边时也会逆流而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师范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冲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知识的热心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犹如在黑暗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远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东南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岩石的阻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怎能激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美丽的浪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38:56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4:13Z</dcterms:modified>
  <cp:revision>1</cp:revision>
  <dc:subject>主题班会课件(分28大类): http://shop62905894.taobao.com</dc:subject>
  <dc:title>主题班会课件(分28大类): http://shop62905894.taobao.com</dc:title>
</cp:coreProperties>
</file>