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64B-1045-4A08-9FE3-EF158E0E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D73-B320-4B39-93FE-28A786F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F7A-69BB-4791-B11A-E6625026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AF4-5F8D-4999-B5BD-D7917D7A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220-821C-4200-861B-E79C26B1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2BF-AA9D-457D-B29D-83BA6EA2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EE6-E369-4C73-8347-82DC3675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6F2-94ED-4AB9-A97A-9DBE209F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545-62D7-487A-AF1A-0C69ED1B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3EA-EAF0-4D07-B5EC-9A8D6D3D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750-3620-4B39-A858-148DC258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D3D-3070-42F3-8636-114C5434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61C-2146-42A8-8469-29CD543DA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21451;&#35850;&#22320;&#20037;&#22825;&#38271;.mp3" TargetMode="External"/><Relationship Id="rId2" Type="http://schemas.openxmlformats.org/officeDocument/2006/relationships/hyperlink" Target="file:///&#21451;&#35850;&#22320;&#20037;&#22825;&#38271;.mp3" TargetMode="External"/><Relationship Id="rId3" Type="http://schemas.openxmlformats.org/officeDocument/2006/relationships/hyperlink" Target="file:///&#21451;&#35850;&#22320;&#20037;&#22825;&#38271;.mp3" TargetMode="External"/><Relationship Id="rId4" Type="http://schemas.openxmlformats.org/officeDocument/2006/relationships/slide" Target="slide68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052640"/>
            <a:ext cx="763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学会放弃”主题班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141300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5000"/>
            <a:ext cx="9144000" cy="2442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下面让我们欣赏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散文     《学会放弃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朗诵者：翁天发、简和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有这么一个词叫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“舍得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的意思是什么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他似乎在告诉人们做什么事情有“舍”才有“得”，什么时候该“舍”，什么时候不该“舍”，什么样的“舍”会有得，什么样的“舍”不值得，这是我们所必须深入探究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5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家可以看到题目上的“放弃”二字加上了引号，这是干嘛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由很简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就是我们的放弃不是通常意义上的消极的放弃，不是叫你放弃学习，放弃追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为如果作为一名学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已经放弃了学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放弃了追求，从某种意义上说你已经不再是个学生，至少不是一个好学生。相反，我们之所以放弃，是因为为了更大的收获，就像迪卡尼奥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的放弃体现了崇高的体育精神――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和平、友谊、健康、正义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体现了他伟大的人格魅力――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友谊第一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公平竞争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而我们同学的生活、学习也应该有这种精神才行。单单为了竞争而放弃了友谊，这是不明智的，也是不可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076640"/>
            <a:ext cx="8675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6828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下面让我们来看一个小品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《分数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演者：马富传、陈裕平、郑超文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翁天发、曾月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友情提示：请注意表演者表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从表演者的表情中，我们发现了不同类型的同学的不同态度，主要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羡慕，赞赏，还有一丝嫉妒；（哇，真厉害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懈一顾，无所谓；（有什么了不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作言语，心中暗下决心；（下次我一定要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过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我封闭，与之隔离；（以后我的资料再也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借给你看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有必要吗？依我看来，根本没这必要，但这种现象在我们的生活当中却很多见。而我们提倡的是同学之间的公平合理的竞争，珍惜同学之间的纯真的友谊，建立和谐的人际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1000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下面让我们来欣赏一首诗歌，题目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《真正的友谊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朗诵者：翁天发、陈丽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友谊，像一朵鲜花，芬芳我的心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友谊，赶走了我心中的寂寞和痛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啊，真正的友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给人以无数的信心和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友谊　使人躲避虚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友谊　使人远离冷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友谊　使人不再争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396360" cy="75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化解不和，相互鼓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让我们并肩同行，建立起真正的友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友谊，像一缕阳光，温暖了人的心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解除了我的苦恼和忧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啊，真正的友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给人以无限的智慧和欢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友谊　只有诚心才会长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友谊　只有热心才会开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友谊　只有忠心才会结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互相学习，永攀高峰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让我们风雨同舟，建立起真正的友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64600" y="579276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下面请班主任作总结发言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28360" y="5562720"/>
            <a:ext cx="6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637000"/>
            <a:ext cx="9144000" cy="2288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应如何处理好同学间的竞争与友谊的关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702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首先，要培养自己的竞争意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　其次，采取正确的竞争态度和方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　再次，要在竞争中发展友谊，友谊中促进竞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　总之，同学之间要互相竞争，在竞争中要消除嫉妒心理，讲求协作友谊精神，培养向上争雄之美风。同学们，百舸争流，奋辑者为先。祝愿你们与自己的同学在竞争中永葆青春活力，友谊递增 。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09720"/>
            <a:ext cx="914400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我曾经听过这么一个故事，题目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幼圆"/>
              </a:rPr>
              <a:t>《迪卡尼奥的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幼圆"/>
              </a:rPr>
              <a:t>放弃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幼圆"/>
              </a:rPr>
              <a:t>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事内容是这样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49360"/>
            <a:ext cx="9144000" cy="2486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最后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想用歌声来结束我们的这次主题班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歌声来代表我们的祝福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们的心声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让我们一起来唱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《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友谊天长地久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38640" y="5445000"/>
            <a:ext cx="6836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86064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　　　领唱者：黄雯云、张敏娟、龚夏菁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　　　　　　　陈丽婷、曾月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480"/>
            <a:ext cx="9147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友谊天长地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老朋友怎能忘记你过去的好时光 老朋友怎能忘记你，过去的好时光，友谊万岁，朋友友谊万岁，举杯同饮同声歌颂友谊地久天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　　　　（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我们曾终日游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故乡的青山上，我们也曾力尽苦辛到处奔泊流浪，友谊万岁，朋友友谊万岁，举杯同饮同声歌颂友谊地久天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（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我们往日情意相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让我们紧握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让我们来举杯畅饮友谊地久天长，友谊万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朋友友谊万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举杯同饮同声歌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友谊地久天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老朋友怎能忘记你过去的好时光 老朋友怎能忘记你，过去的好时光，友谊万岁，朋友友谊万岁，举杯同饮同声歌颂友谊地久天长 。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结束！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在英国的曼彻斯特城，英格兰超级足球联赛第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轮的一场比赛在埃弗顿队与西汉姆联队之间进行。比赛只剩下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最后一分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时，场上的比分仍然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这时，埃弗顿队的守门员杰拉德在扑球时膝盖扭伤，巨痛使得他将四肢抱成一团在地上滚动，而足球恰好被传给了潜伏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禁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西汉姆联队的球员迪卡尼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球场上原来的一片沸腾顿时肃静下来，所有的人都在等待。迪卡尼奥离球门只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米左右，无需任何技术，只要一点点力量，就可以把球从容打进对方球门。那样，西汉姆联队就将以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获胜，在积分榜上，他们因此可以增加两分。埃弗顿队之前已经连败两轮，这个球一进，他们就将遭受苦涩的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“三连败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92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几万现场球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注视下――如果算上电视机前的观众，应该是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数百万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注视下 ，你们猜猜会是什么样的结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366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西汉姆联队的迪卡尼奥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没有用脚踢球，而是将球抱在了怀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掌声，全场雷动的掌声，如潮水般滚动的掌声，把赞美之情献给了放弃射门的迪卡尼奥，或者说，是献给迪卡尼奥体现出来的崇高的体育精神――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和平、友谊、健康、正义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4936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实际上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我们平时的学习生活过程中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这样的事情也屡见不鲜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同学们有没有听过大致相同的事例呢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同学举例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这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“迪卡尼奥”这个人物，在我们的生活当中并不抽象，只不过我们没有仔细去琢磨“迪卡尼奥精神”给我们所带来的潜移默化的影响。今天，我们就来好好地探讨一下到底什么是“迪卡尼奥精神”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0464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因此，我们把这次主题班会的主题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73360"/>
            <a:ext cx="9144000" cy="2947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《学会放弃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珍惜同学之间的友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38:08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03:49Z</dcterms:modified>
  <cp:revision>1</cp:revision>
  <dc:subject>主题班会课件(分28大类): http://shop62905894.taobao.com</dc:subject>
  <dc:title>主题班会课件(分28大类): http://shop62905894.taobao.com</dc:title>
</cp:coreProperties>
</file>