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41C-BE8A-4829-A990-9F91CC71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911-C9B5-4B94-901E-B902910A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0E1-EEA7-459C-81AE-787F5EE3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DB4-0CE5-4783-9AB1-9930732A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05C-2173-4E7C-B182-20480337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C90-541C-40ED-BD79-37EE3AED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595-4A4E-4735-AA85-23A47AE6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572-BB6A-495B-8F35-30B6A3B3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0E4-DBF1-42CA-84A2-81139A74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F3F-23A7-4805-9920-131127FB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FA8-66F9-4F3D-A9CF-589722CE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F86-DD8B-4AE8-9113-5C5A9160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A632-8E27-4D64-9C15-B9B8ADA5D0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Administrator/Local%20Settings/Temp/Rar$DI00.250/xxzj.wm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ff"/>
                </a:solidFill>
                <a:latin typeface="Arial"/>
                <a:ea typeface="华文行楷"/>
              </a:rPr>
              <a:t>相信自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第二次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）．建立自信的方法（板书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在介绍方法之前先向大家提出一个问题：“学习成绩不理想的同学如何建立学习信心？”。提出这个问题是因为很多同学进入高二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）这新集体后发觉周围强手如云，加上这次期中考很多同学觉得成绩很不理想，于是学习信心发生了动摇。而学习信心对学习成绩有很大影响。请大家带着对这个问题的思考，看如何利用接下来学习的建立自信的一般方法来解决这个问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304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刚才我们在比较自卑、自信、自大时知道自卑的人往往看不到自己的优点，所以要克服自卑、建立自信首先要清楚自己身上有些什么优点、能力和特长。认识自己的优点、能力和特长（板书）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23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个人都会有他特有的优点、特长，关键是自己能否认识到和把他们发挥出来。如何认识自己身上存在哪些优点呢？   “列优点清单”（板书）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743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大家要学会从多方位评价自己，把自己各方面的优点、长处一一罗列出来。请课后大家填好表格“我的优点”。具体详细地写出自己在学习能力、交际能力、文娱才能、体育强项、性格方面、动手能力和其它方面存在哪些优点和长处，写在自我评价一栏。再请父母、朋友、教师过目看有什么异议，写在他人评价一栏，达成共识，以保证自评优点的准确性。    当我们知道自己有这么多优点时信心自然会增强。通过“列优点清单”如发现自己有过人之处就应制定计划发展这一特长，当我们知道自己有某的优点一定要充分发挥出来。对自已不足的地方一定要改正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380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男主持对班里出现的不良现象提出问题，由各小组抢答及打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be0e3"/>
                </a:solidFill>
                <a:latin typeface="Arial"/>
              </a:rPr>
              <a:t>四、请班主任作总结性发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be0e3"/>
                </a:solidFill>
                <a:latin typeface="Arial"/>
              </a:rPr>
              <a:t>结束语：总之每个人身上总会存在优点，存在某些过人之处，如果你懂得保持自信，订立适当的目标，付出真正的努力，满怀信心地向目标一步步行进，成功将会是属于你的。希望每个同学都有美好的未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7150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六、宣布主题班会顺利结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7680" y="2536920"/>
            <a:ext cx="7407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五、最后让我们再来欣赏一遍《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相信自己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多少次挥汗如雨  伤痛曾填满记忆  只因为始终相信  去拼搏才能胜利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总是在鼓舞自己  要成功就得努力  热血在赛承腾     巨人在东方升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相信自己       你将赢得胜利创造奇迹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相信自己       梦想在你手中这是你的天地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BA  CBA  CBA  CBA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相信自己      你将超越极限超越自己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相信自己      当这一切过去你们将是第一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相信自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针对本班有部分同学学习目的不过明确，且有部分同学很不自信的现象，我们班搞了一次有意义的主题班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二、活动准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全班同学预先学会唱《相信自己》这首歌，且学会了打拍；两位同学准备好小品，电脑，活动道具等（多媒体教室一应俱全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活动过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．班主任致辞：我们班是一个团结友爱，上进的班级，同学之间的感情深厚。为了我们在以后的日子里更好的学习，深刻了解自信重要性，我们班特地搞了这次的主题班会。下面宣布主题班会开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．男女主持人发言，宣布主题班会开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．全班同学起立鼓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．全班合唱《相信自己》。（充分利用电脑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．通过演小品。分清自信，自卑，自大，充分说明自信的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引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问“同学们有谁认为自己是一个自信的人请举手”（一般只有十来个同学举手）。请一些同学说说自己不够自信的表现及不良影响，从反面例子引入自信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自信的重要性（板书）自信是成功的第一秘诀──爱默生（板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举例说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Ａ．居里夫人凭着对自己科学假设的坚定信念，在艰苦的条件下从几吨沥青中提炼出一克的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Ｂ．爱迪生在寻找一种材料做电灯丝时，曾千百次失败，被人讥笑，如果他不是对自己充满信心，就不可能坚持实验。Ｃ．９８世界杯外围赛亚洲区十强赛中，中国队由于缺乏自信导致“进军世界”的梦想再次粉碎，而卡塔尔队处于四战只得一分的劣势之下依然有争强斗胜的心，毅然换了教练，对队伍稍作调整后就取得了三连胜的辉煌战绩。中卡两队鲜明对比再次验证自信的重要性。Ｄ．请班上个别比较自信并对自信的重要性深有体会的同学谈体会。    通过以上由远而近，由名人到身边的同学等几个例子让同学深深体会要成功首先要自信。  过渡：大家知道了自信的重要性后，就要懂得判断自己是不是一个自信的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．自信的表现（板书）大家先看一个小小的表演，看有什么启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表演：“谁是自信者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38088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班上举行文艺晚会，他们是我们班上最能歌善舞的同学，我作为文娱委员当然要请他们在晚会上表演一两个节目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文：小Ａ，你这么能歌善舞，能在晚会上为我们表演一个节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Ａ：（自卑地）哎哟，我这歌喉和舞姿哪能见人呢，不要叫我出丑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文：班上的同学都很喜欢你的歌舞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Ａ：这是他们抬举我罢了，我哪有那么好的才能，而且我也没有这个胆量，你还是放过我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文：那我也不勉强了。小Ｂ，你的歌舞也很出众，你愿意为我们作表演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：哎，谢谢你的称赞。有机会让我在班上表演我当然乐意啦，而且这也是作为班集体的一分子的责任。我会尽力而为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文：谢谢你的支持。小Ｃ，你愿意参加表演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Ｃ：表演是我的强项，表演当然是非我莫属啦！（指着Ｂ）不过他和我同台表演似乎不太相配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228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问：“表演中的Ａ、Ｂ、Ｃ分别是什么心理的表现？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066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答：“Ａ是自卑心理、Ｂ是自信、Ｃ是自大心理的代表。” 结合表演中的三个人物和三幅漫画的比较，概括出自卑、自信、自大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自卑——过低地评价自己，看不到自己的优点。（板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自大——过高地评价自己，看不到自己的缺点。（板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自信——恰当地评价自己的优缺点。（板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02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过渡：现在大家基本能判断自己是否一个自信的人，如果不是的话如何着手建立自己的信心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9:37Z</dcterms:modified>
  <cp:revision>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