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521-0672-4CDC-8DAE-7BFA2D1C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613-BD09-4454-A462-B06FA267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21D-8FCD-4498-9770-8D78D65E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A36-034A-4FF3-99C3-AB55FD9A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A98-3F8F-4D66-A35C-20B76717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BCD-6DE3-4E02-890E-8669489F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25D-E2B6-49C0-B76B-632869D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9C1-2B7D-4C46-8F9E-A1901E9A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DFC-45C1-4FDB-9CFD-B33B9F85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DF9-A9C7-4056-B141-4B4A7397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8B0-838E-4779-BD7C-1F9447CE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BEC-458E-4C54-9620-D2B4329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DD8C-18F6-4E85-BBFD-8378D784F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04920"/>
            <a:ext cx="7696440" cy="38098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65200" y="372960"/>
            <a:ext cx="237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震撼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我不曾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感动的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15800" y="449280"/>
            <a:ext cx="237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感悟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我将要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沦的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419720"/>
            <a:ext cx="9524880" cy="1752480"/>
          </a:xfrm>
          <a:prstGeom prst="irregularSeal2">
            <a:avLst/>
          </a:prstGeom>
          <a:solidFill>
            <a:srgbClr val="ffff99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面对他们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该作何感想呢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43440" y="-360"/>
            <a:ext cx="16002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</a:rPr>
              <a:t>我比她幸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96080" y="304560"/>
            <a:ext cx="14479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5200" spc="-1" strike="noStrike">
                <a:solidFill>
                  <a:srgbClr val="ff3300"/>
                </a:solidFill>
                <a:latin typeface="Arial"/>
              </a:rPr>
              <a:t>她真用功呀，我呢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72400" y="0"/>
            <a:ext cx="1371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我比他享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77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867280"/>
            <a:ext cx="81532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r>
              <a:rPr b="1" lang="zh-CN" sz="5200" spc="-1" strike="noStrike">
                <a:solidFill>
                  <a:srgbClr val="ff3300"/>
                </a:solidFill>
                <a:latin typeface="隶书"/>
                <a:ea typeface="隶书"/>
              </a:rPr>
              <a:t>艰苦的生活</a:t>
            </a:r>
            <a:r>
              <a:rPr b="1" lang="en-US" sz="52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5200" spc="-1" strike="noStrike">
                <a:solidFill>
                  <a:srgbClr val="ff3300"/>
                </a:solidFill>
                <a:latin typeface="隶书"/>
                <a:ea typeface="隶书"/>
              </a:rPr>
              <a:t>锻造坚毅的眼神</a:t>
            </a:r>
            <a:r>
              <a:rPr b="1" lang="en-US" sz="5200" spc="-1" strike="noStrike">
                <a:solidFill>
                  <a:srgbClr val="ff3300"/>
                </a:solidFill>
                <a:latin typeface="隶书"/>
                <a:ea typeface="隶书"/>
              </a:rPr>
              <a:t>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用功读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67120" y="274320"/>
            <a:ext cx="16765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父母的幸福所在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57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5410080"/>
            <a:ext cx="8915400" cy="144792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82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成功只属于勇于奋斗的你</a:t>
            </a:r>
            <a:r>
              <a:rPr b="1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破釜沉舟</a:t>
            </a:r>
            <a:r>
              <a:rPr b="1" lang="en-US" sz="60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百二秦关终属楚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卧薪尝胆</a:t>
            </a:r>
            <a:r>
              <a:rPr b="1" lang="en-US" sz="60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三千越甲可吞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04920"/>
            <a:ext cx="7696440" cy="38098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65200" y="376200"/>
            <a:ext cx="237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震撼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我不曾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感动的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15800" y="452160"/>
            <a:ext cx="237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感悟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我将要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沦的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4419720"/>
            <a:ext cx="9524880" cy="1752480"/>
          </a:xfrm>
          <a:prstGeom prst="irregularSeal2">
            <a:avLst/>
          </a:prstGeom>
          <a:solidFill>
            <a:srgbClr val="ffff99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面对他们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该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宋体"/>
              </a:rPr>
              <a:t>作何感想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呢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Arial"/>
                <a:ea typeface="隶书"/>
              </a:rPr>
              <a:t>用力只能成功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Arial"/>
                <a:ea typeface="隶书"/>
              </a:rPr>
              <a:t>用心方能优秀。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Arial"/>
                <a:ea typeface="隶书"/>
              </a:rPr>
              <a:t>父母养育辛苦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Arial"/>
                <a:ea typeface="隶书"/>
              </a:rPr>
              <a:t>报恩惟有苦读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50410"/>
                </a:solidFill>
                <a:latin typeface="Arial"/>
                <a:ea typeface="黑体"/>
              </a:rPr>
              <a:t>习惯决定命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179280" y="2997360"/>
            <a:ext cx="8964720" cy="3457440"/>
          </a:xfrm>
          <a:prstGeom prst="pie">
            <a:avLst/>
          </a:pr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2843280" y="2266920"/>
            <a:ext cx="3606840" cy="759960"/>
            <a:chOff x="2843280" y="2266920"/>
            <a:chExt cx="3606840" cy="759960"/>
          </a:xfrm>
        </p:grpSpPr>
        <p:sp>
          <p:nvSpPr>
            <p:cNvPr id="126" name="Oval 5"/>
            <p:cNvSpPr/>
            <p:nvPr/>
          </p:nvSpPr>
          <p:spPr>
            <a:xfrm>
              <a:off x="2843280" y="228204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6"/>
            <p:cNvSpPr/>
            <p:nvPr/>
          </p:nvSpPr>
          <p:spPr>
            <a:xfrm>
              <a:off x="2843280" y="227052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2845440" y="2266920"/>
              <a:ext cx="358380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AutoShape 8"/>
          <p:cNvSpPr/>
          <p:nvPr/>
        </p:nvSpPr>
        <p:spPr>
          <a:xfrm>
            <a:off x="3305160" y="234936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2644920" y="192888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aa8e18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4427640" y="1573200"/>
            <a:ext cx="56664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3719520" y="127944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3738d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5416560" y="234936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4840200" y="1933560"/>
            <a:ext cx="168912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15887b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2843280" y="213372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c1c1c"/>
                </a:solidFill>
                <a:latin typeface="Arial"/>
                <a:ea typeface="黑体"/>
              </a:rPr>
              <a:t>好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962600" y="213372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黑体"/>
              </a:rPr>
              <a:t>好命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851280" y="1457280"/>
            <a:ext cx="14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黑体"/>
              </a:rPr>
              <a:t>从小事做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 rot="1218000">
            <a:off x="250560" y="198864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d301f"/>
                </a:solidFill>
                <a:latin typeface="Arial"/>
                <a:ea typeface="隶书"/>
              </a:rPr>
              <a:t>受益一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 rot="20616600">
            <a:off x="6948360" y="198900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d301f"/>
                </a:solidFill>
                <a:latin typeface="Arial"/>
                <a:ea typeface="隶书"/>
              </a:rPr>
              <a:t>受益一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1116000" y="35002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这样一首诗：丢失一个钉子，坏了一只蹄铁；坏了一只蹄铁，折了一匹战马；折了一匹战马，伤了一位骑士；伤了一位骑士，输了一场战斗；输了一场战斗，亡了一个国家。这首诗里寓意着一个宏大的哲理，那就是：要想成功必须从小事做起，而良好习惯的养成也是这样。唯有从小事做起，才能养成良好的习惯，而良好的习惯会让我们受益一生，因为习惯决定命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3635280" y="5589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d301f"/>
                </a:solidFill>
                <a:latin typeface="Arial"/>
                <a:ea typeface="华文彩云"/>
              </a:rPr>
              <a:t>美好未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4" descr="17"/>
          <p:cNvPicPr/>
          <p:nvPr/>
        </p:nvPicPr>
        <p:blipFill>
          <a:blip r:embed="rId1"/>
          <a:stretch/>
        </p:blipFill>
        <p:spPr>
          <a:xfrm>
            <a:off x="8201160" y="5478480"/>
            <a:ext cx="942840" cy="1379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19"/>
          <p:cNvPicPr/>
          <p:nvPr/>
        </p:nvPicPr>
        <p:blipFill>
          <a:blip r:embed="rId2"/>
          <a:stretch/>
        </p:blipFill>
        <p:spPr>
          <a:xfrm>
            <a:off x="0" y="5526000"/>
            <a:ext cx="10065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39000" y="0"/>
            <a:ext cx="3105000" cy="685800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妈妈 今后我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怎么办</a:t>
            </a: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?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怎么办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3440" y="-360"/>
            <a:ext cx="11430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3300"/>
                </a:solidFill>
                <a:latin typeface="Arial"/>
              </a:rPr>
              <a:t>餐厅的饭好吃极了！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791320"/>
            <a:ext cx="9144000" cy="106668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苦难的生活教给我怎样坚强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bai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16:11:07Z</dcterms:modified>
  <cp:revision>11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