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40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13.png" ContentType="image/pn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6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92.png" ContentType="image/png"/>
  <Override PartName="/ppt/media/image54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7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7E01-FAB3-40B5-BC94-92891D1C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D2B8-67C3-4531-B5FF-9EF2667A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1A8-37D7-4423-81B6-9D9539F5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F871-1AEC-4086-A7EB-D5C919C6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2B4D-7A96-4810-A695-C2D0345E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709B-7DF9-4FEA-9D2C-75958DED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6BA2-8594-4DB0-AF92-C2FB5FB5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F30D-81A4-4451-83B0-F85AEE19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64F7-F4B2-4213-8A8D-03D5C588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0C8A-77A3-430F-9E8A-5817680F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AEDA-3BE9-467B-8C6A-B643BB2B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B580-57DA-434A-AA2A-3916A967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B085-059F-4C58-83ED-8B28F129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969A-4C15-4315-9F27-E9CD21F0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9A33-7FAA-4982-8CBE-73DCA852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FDF4-11E6-4286-99FD-1B5252D1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2FAE-EEDA-4815-932B-3E37FA86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56D-AE80-4CC3-91E9-D66735E6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4A09-BC71-4E90-8BA7-076C3589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9BE-CEAD-42E5-BAAE-338E7F26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7C3-4766-4445-8497-E29D4637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D8B3-A722-474A-B646-96B7D0D0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A707-4DDF-4A28-BC85-C27C4306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816-B4FF-422D-BCB5-392405FC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A533-041F-4C44-A5B3-4FA60AEC3DB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DFA3-445C-4F51-9058-7FD7EE63127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epaper.jinghua.cn/res/1/20070624/22491182614771750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blog.sina.com.cn/main/html/showpic.html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bbs.qq.com/allphoto.shtml?url=http://photocdn.sohu.com/20070627/Img250788843.jpg" TargetMode="External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://edu.sina.com.cn/gaokao/2007-06-24/195990133.shtml" TargetMode="External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http://edu.sina.com.cn/gaokao/2007-06-24/155890099.shtml" TargetMode="External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2920" y="90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200"/>
                </a:solidFill>
                <a:latin typeface="华文新魏"/>
                <a:ea typeface="华文新魏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11280" y="2637000"/>
            <a:ext cx="0" cy="1439640"/>
          </a:xfrm>
          <a:prstGeom prst="line">
            <a:avLst/>
          </a:prstGeom>
          <a:ln w="9360">
            <a:solidFill>
              <a:srgbClr val="051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71640" y="2276640"/>
            <a:ext cx="6696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高考状元谈学习方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第一时间独家连线上海市文科状元魏宏琰(音频)"/>
          <p:cNvPicPr/>
          <p:nvPr/>
        </p:nvPicPr>
        <p:blipFill>
          <a:blip r:embed="rId1"/>
          <a:stretch/>
        </p:blipFill>
        <p:spPr>
          <a:xfrm>
            <a:off x="4714920" y="260280"/>
            <a:ext cx="3868560" cy="5149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364000" y="558972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海市文科总分状元：魏宏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549360"/>
            <a:ext cx="381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状元档案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姓名：魏宏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自：控江中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考总成绩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6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政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综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爱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参加学校社团、吉他、打羽毛球、看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广东选考政治总分状元肖菲：每天跑800米(图)"/>
          <p:cNvPicPr/>
          <p:nvPr/>
        </p:nvPicPr>
        <p:blipFill>
          <a:blip r:embed="rId1"/>
          <a:srcRect l="0" t="0" r="0" b="16000"/>
          <a:stretch/>
        </p:blipFill>
        <p:spPr>
          <a:xfrm>
            <a:off x="324000" y="115920"/>
            <a:ext cx="2857320" cy="36003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348000" y="898560"/>
            <a:ext cx="54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广东选考政治总分状元肖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深圳外国语学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选择学校：保送北京外国语大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8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24000" y="371628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肖菲说，她每天都要预习功课，平均一门功课要花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钟时间。另外，她还自己在课本目录表上把每一节内容的难点和重点标出来，这样就一目了然，复习时也事半功倍了。肖菲还认为，高三这一年挺累的，每天课间都有同学趴在桌子上，抓紧时间休息，而她的“独门秘诀”则是放学后在校园体育场的跑道上跑两圈，一共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0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专访07广东高考生物总分状元胡晓烨(图)"/>
          <p:cNvPicPr/>
          <p:nvPr/>
        </p:nvPicPr>
        <p:blipFill>
          <a:blip r:embed="rId1"/>
          <a:stretch/>
        </p:blipFill>
        <p:spPr>
          <a:xfrm>
            <a:off x="5724360" y="333360"/>
            <a:ext cx="3102120" cy="38876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6084720" y="4724280"/>
            <a:ext cx="28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广东选考生物总分状元胡晓烨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9280" y="171360"/>
            <a:ext cx="55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胡说，最初听到他是状元时，他第一反应是“会不会有人耍我？”他说，的确从来没有想过，只希望自己能够过港大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数线就可以了。说到给学弟学妹们的经验，他说关键是每天要做好计划，做完就打一个勾，同时每个星期、每个学期不同阶段都要定下不同的计划。他不建议题海战术，周末他一般不搞学习，来做些补觉、上网的修整放松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他说：“成为状元的确是一个大大的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urprise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我觉得踏实努力，就不会对这三年高中生活讲后悔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057560" y="333360"/>
            <a:ext cx="4667400" cy="59752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564000" y="635652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00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年广东高考文科总分状元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严俏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5280" y="466560"/>
            <a:ext cx="33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状元档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9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明一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提前批志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香港中文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第一志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上海复旦大学经济专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07年广东高考文科状元出炉花落高明一中(图)"/>
          <p:cNvPicPr/>
          <p:nvPr/>
        </p:nvPicPr>
        <p:blipFill>
          <a:blip r:embed="rId1"/>
          <a:stretch/>
        </p:blipFill>
        <p:spPr>
          <a:xfrm>
            <a:off x="4859280" y="333360"/>
            <a:ext cx="3960720" cy="2905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216000" y="115920"/>
            <a:ext cx="47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严俏华认为，自己其实是一个“思想上叛逆型，行为上乖乖型”的女生，她的另一个典型性格就是做任何事都会尽最大努力。比如，“很多人认为文科生的数学比较差，但我经过努力，到最后每次数学考试都能考得接近满分。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年来，严俏华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4000" y="40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课余时间里，她基本上待在家里，有时看名人传记，有时看电视连续剧，有时则用蜡笔临摹小动物，还有时写一写随笔周记。高考结束后，她也是一直待在家里，没有出去逛街或者旅游。“高一时开始喜欢看网球赛，但是到现在我连网球拍都没摸过，更别提打过网球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356000" y="3500280"/>
            <a:ext cx="47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一直过着十分平静的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250920" y="954000"/>
            <a:ext cx="802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黄容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9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学校：惠州一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志愿：清华大学数理基础科学专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理科状元黄容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父母：家中务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学业：一直比较稳定，平时最喜欢物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秘诀：学习要有针对性，要善于寻找自己的弱点，然后攻克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爱好：课余有时会打一会乒乓球，虽然学过电脑，但不上网吧不玩游戏，更不会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Q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聊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好孩子：勤奋能吃苦，内向不张扬。小学初中时帮助父母卖肠粉，每月生活费铁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元，懂得家庭生活的压力，从不需要父母操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857680" cy="28479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395280" y="38880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年广东高考理科总分状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826920" y="620640"/>
            <a:ext cx="7705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黄容生说，语数外的时间一定要保证，每天早上起床后会首先读一段英语。另外针对自己的弱点多请教老师，比如语文是自己的弱项，于是平时加大阅读量，经常请教师当面点评作文，每周要写一两篇话题作文。黄容生认为一中的教师经常帮助同学们查找自身的弱点，然后按不同情况施教，这使得自己学习很有目的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黄容生说平时的生活学习都有规律，不会专门加班加点，课余有时会打一会乒乓球，虽然学过电脑，也会利用课室电脑上网查找一下资料，但从来不玩游戏，更不会聊天，“我知道一些同学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Q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但我从来没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Q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号。我家里没有电脑，也从来没有去过网吧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908000" y="3860640"/>
            <a:ext cx="1440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411280" y="3573360"/>
            <a:ext cx="720720" cy="186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1271520" y="2349360"/>
            <a:ext cx="6396120" cy="19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24000" y="189000"/>
            <a:ext cx="518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频道的电视节目，“考试前不久，纪实频道连续播放了蔡元培、马相 伯等教育界大师的纪录片，我很喜欢看，高考时还把其中的一些片段用作作文素材，感觉发挥得还不错。”在各科成绩里面，小魏的英语成绩最高，她表示英语也是自己最喜爱的学科，而学习经验就是多听、多练，“我很喜欢看原版片，比如《辛德勒的名单》、《人工智能》，平时还一直坚持收听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B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VO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些电台的节目，时间一长，语感自然就锻炼出来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0" r="0" b="31239"/>
          <a:stretch/>
        </p:blipFill>
        <p:spPr>
          <a:xfrm>
            <a:off x="5580000" y="260280"/>
            <a:ext cx="3368880" cy="2952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rcRect l="14723" t="0" r="-2989" b="38459"/>
          <a:stretch/>
        </p:blipFill>
        <p:spPr>
          <a:xfrm>
            <a:off x="5580000" y="3429000"/>
            <a:ext cx="35276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620640"/>
            <a:ext cx="946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语文和英语这两门学科上，小魏也获得了不少荣誉，比如高一时获得首届全国中学生作文比赛一等奖，高三时获得全国英语比赛高中组二等奖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    高中三年，魏宏琰一直在晚上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前休息，以保证充足的睡眠时间，班主任这么描述她上课时的神态：她总是聚精会神地听课，眼睛片刻也不会离开老师和黑板，笔记记得也最认真！因为学习效率高，小魏从未参加过辅导班，请过家教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    对于学弟学妹，小魏总结了三句话学习经验：一、多整理笔记和作业；二、平时多看书；三、平时一两次考砸了不要紧，偶尔失手是难免的。对于第三点，小魏补 充，每次模拟考，学校都会排出语文、数学和英语三门学科成绩的名次，自己一般在年级前十，但偶尔也曾考过年级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多名，但这很正常，并不能说明自己成绩下 降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8360" y="61657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理科状元胡文琦同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>
            <a:lum bright="6000"/>
          </a:blip>
          <a:srcRect l="30364" t="0" r="25783" b="0"/>
          <a:stretch/>
        </p:blipFill>
        <p:spPr>
          <a:xfrm>
            <a:off x="395280" y="331920"/>
            <a:ext cx="3753000" cy="5689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00720" y="260280"/>
            <a:ext cx="43192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胡文琦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她是班级里的“笔记女王”，也是“策划大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上海中学高三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班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班级职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班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志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清华大学工商管理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外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物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综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267080" cy="2838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24000" y="344340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她是班级里的“笔记女王”，她做的笔记常常成为同学争相传阅的范本，“出借”频率相当高，以至于借她笔记的人经常要排队；她是老师的“得力助手”，身为班长的她，拥有超强的工作能力，将班级活动组织地有声有色；她是班级活动的“策划大师”、“特派记者”，身兼数职，也能很好地处理学习与工作的关系，争分夺秒，始终保持了优异的成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42670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95280" y="33336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借她笔记的人要排队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说起胡文琦的“学习窍门”，大家的第一反应都出奇地一致，那就是她那响当当的称号——“笔记女王”。翻开胡文琦做的笔记，从来都是文字整洁，纲举目张，条理清晰。“她的笔记经常出借，而且非常抢手，借她笔记的人还要排队！”说起“笔记女王”，好友陶栋艳“爆料”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   “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果我觉得有价值的事情，我就很愿意花时间去做！”对此，胡文琦告诉记者，在高三复习阶段，每学习完一篇文言文，她必定会做有关实词、诗词和文言特殊句式的整理，这个整理可不是一般意义上的“抄抄写写”，“几乎每整理一篇文言文，都要花费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个小时的时间！”胡文琦整理笔记的功力和花费的心血，令记者颇为惊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95280" y="460440"/>
            <a:ext cx="496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认真记录教师上课所讲的点点滴滴；将自己做错的题目悉心整理成错题集；不补课、不额外做题。胡文琦沿袭了上中学生一贯的学习传统外，还有自己一套方法。高考前一周在家复习，胡文琦按高考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考试科目安排，拿前几年高考试卷模拟高考。循环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次后，原本心情就平和的胡文琦迈高考这道坎时更是轻松了很多。“查分时，我听到语文考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高兴了一下。”胡文琦说，她对自己写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600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995640" y="189000"/>
            <a:ext cx="48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作文感觉并不非常得意，没想到她的平常心，使她顺利笑到最后。很多住宿生一到高三就大打疲劳战，双休日在家早上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不到就起床，晚上熬夜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，比学校住宿规定还严格。但胡文琦在家时，每天早上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起来，背单词、听听力，晚上一到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就自觉熄灯睡觉。高三一开始，胡文琦每天还坚持跑一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米，高三紧张后期，胡文琦依然坚持每周至少跑一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米，远离感冒等小毛病，健健康康迎接高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582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天津2007年高考文理科第一名揭晓(组图)"/>
          <p:cNvPicPr/>
          <p:nvPr/>
        </p:nvPicPr>
        <p:blipFill>
          <a:blip r:embed="rId1"/>
          <a:stretch/>
        </p:blipFill>
        <p:spPr>
          <a:xfrm>
            <a:off x="468360" y="549360"/>
            <a:ext cx="8209080" cy="52545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549440" y="5734080"/>
            <a:ext cx="676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津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高考理科最高分陆宇衡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津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高考文科最高分於思雨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右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天津2007年高考文理科第一名揭晓(组图)"/>
          <p:cNvPicPr/>
          <p:nvPr/>
        </p:nvPicPr>
        <p:blipFill>
          <a:blip r:embed="rId2"/>
          <a:stretch/>
        </p:blipFill>
        <p:spPr>
          <a:xfrm>
            <a:off x="324000" y="549360"/>
            <a:ext cx="83293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39640" y="476280"/>
            <a:ext cx="388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於思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小时候就想上北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       新华中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6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＋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市级三好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单科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外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综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5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报考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北京大学光华管理学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730760" y="404640"/>
            <a:ext cx="39448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8037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16000" y="614988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2007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北京理科状元林茜　文科状元张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356000" y="40464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她是位文学少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於思雨饱读诗书，文学功底非常深厚，这是很多位老师都津津乐道的。班主任兼语文老师袁卫华介绍，她的文笔非常好，平时所写作文的立意高度，也超过同龄人。她除了写一些应试的作文外，还写一些诗歌和散文。她把自己的文学作品装订成集，送给每一位教给自己的老师。这本文集里的一篇《精灵梦》，让年级组长冯振利老师赞不绝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800160" cy="5688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38019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0920" y="189000"/>
            <a:ext cx="532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她最爱读《今晚报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於思雨酷爱文学，但父母却是理科出身。妈妈是天津工程师范学院的一名力学教师，爸爸是位医生。虽然父母对这些古典文学不太感兴趣，但是家庭气氛比较民主，父母非常尊重思雨的选择，支持她的爱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她的爱好很多，喜欢上网，也喜欢看电视，喜欢中央电视台的《百家讲坛》和《探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发现》节目。她也喜欢音乐频道，因为那里面经常播放一些古典音乐知识。不过她特别指出，自己喜欢读报纸。而且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5906" t="0" r="8819" b="22015"/>
          <a:stretch/>
        </p:blipFill>
        <p:spPr>
          <a:xfrm>
            <a:off x="5580000" y="1197000"/>
            <a:ext cx="3267000" cy="4392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rcRect l="13542" t="1785" r="23104" b="35253"/>
          <a:stretch/>
        </p:blipFill>
        <p:spPr>
          <a:xfrm>
            <a:off x="5587920" y="1197000"/>
            <a:ext cx="32623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24000" y="2664000"/>
            <a:ext cx="554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於思雨的学习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语文：重在日常积累，平时多看报纸和杂志，丰富知识，开阔眼界。丰富了知识面之后，才能总结出来一些技巧。当然，语文学习也不能脱离课本。语文高考的文言文虚词和实词考点多出自于课本，所以多读课本上的文言文，注意多多总结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156360" y="2637000"/>
            <a:ext cx="2693880" cy="4032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24000" y="189000"/>
            <a:ext cx="856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这些报纸中，我最爱读的还是《今晚报》，因为家里每年都订《今晚报》。”她说报纸上的文章能开阔自己的思路。平时，她还喜欢看书，虽然所看的书与自己的课程和考试无关，但她觉得还是受益匪浅。因为多读书能学会用另一种角度来审视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9640" y="3333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：我的英语不是很强，所以复习的时候会跟着老师走。我经常看《英语周报》，平时会做一些高考题。提高英语水平的一个好方法就是多练听力。听力材料可以是高考真题或模拟题。多练听力还会锻炼英语的语感，对做其他题也有帮助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56400" y="2565360"/>
            <a:ext cx="2954160" cy="4003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39640" y="3141720"/>
            <a:ext cx="5327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：我的经验是多做题。我做的套题至少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套以上。但我绝对不是死做题。我会经常总结一些错误、一类题的解法和一般规律，还经常思考一些大题的解题思路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79280" y="189000"/>
            <a:ext cx="6408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历史：我的经验是多看课本。我至少把教材读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遍以上，内容烂熟于心，也形成了对历史脉络的掌握。此外，可以总结一些历史专题，如中国古代政治史、经济史等。做一些高考模拟题可以明白高考考题的思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地理：最重要的是掌握地图。不仅要会读地图，还应该常默写地图。以图为纲，将知识串起来，这样地理知识也就生动起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政治：需要多读课本。尤其要熟练掌握和运用政治术语。如果不能掌握，就无法深入浅出。高考那些材料阐释题，需要运用政治术语答题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13542" t="1785" r="23104" b="35253"/>
          <a:stretch/>
        </p:blipFill>
        <p:spPr>
          <a:xfrm>
            <a:off x="6519960" y="189000"/>
            <a:ext cx="2406600" cy="3240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rcRect l="51940" t="0" r="0" b="0"/>
          <a:stretch/>
        </p:blipFill>
        <p:spPr>
          <a:xfrm>
            <a:off x="6516720" y="3284640"/>
            <a:ext cx="244800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448160" y="262080"/>
            <a:ext cx="4371840" cy="6119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50920" y="-100080"/>
            <a:ext cx="39607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陆宇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耀华中学实验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成绩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8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单科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外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报考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北京大学生命科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9640" y="30160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他觉得对于学习来说，计划是最重要的，而且越细越好。他会每天都安排好自己的学习，到了高考前夕，这个计划甚至会具体到每天几点到几点干什么。在学习的过程中，他也非常会调整自己，虽然经历过很多挫折，但他有着越挫越勇的心态。由于有着良好的理科基础，他形成了缜密的思维习惯，哪怕是一道题的解题速度和步骤，他也是经过了思考来掂量分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260280"/>
            <a:ext cx="48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虽然陆宇衡年龄较小，但是在学习上，他却显得成熟又老到，有自己的学习秘诀，他说：“我不比别人聪明，也不比别人多用功，只是找到了适合自己的学习方法而已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0" r="46762" b="20846"/>
          <a:stretch/>
        </p:blipFill>
        <p:spPr>
          <a:xfrm>
            <a:off x="611280" y="189000"/>
            <a:ext cx="3240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50920" y="260280"/>
            <a:ext cx="59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陆宇衡的学习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高中不像初中时那样，老师不会管得那么死，学习的自主性增大了。所以学习也不要像初中那样，否则会很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高一的课余时间比较多，如果能够静下心来多学点东西，高二就会轻松很多。因为高二一到，马上就像准高三了，课程变难，学习会很紧张。高一学得足，高二就轻松，也就能够顺利过渡高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高一时如果能够列个计划，弥补自己的不足，就更好了。因为到了高二、高三如果还有弱科的话，就会耽误别的学科的学习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27520" t="0" r="9882" b="0"/>
          <a:stretch/>
        </p:blipFill>
        <p:spPr>
          <a:xfrm>
            <a:off x="6156360" y="262080"/>
            <a:ext cx="27367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01480" y="371628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上学期就会萎靡不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别把名次看得太重要，因为你越把它看得重要，往往越考不好，成绩也越容易下滑。因为名次已经给了你无形的压力，压力之下的学习往往学不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尽量不要熬夜。我一般会在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一刻睡觉，最晚也从来不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5540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二的暑假也许会有海量的作业总也写不完，那么就挑出对自己有帮助的进行练习。高二暑假期间的学习很重要，这直接决定了高三开学的摸底考试好坏，也就直接决定高三大半年的心情。如果没有考好，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0" t="0" r="46762" b="0"/>
          <a:stretch/>
        </p:blipFill>
        <p:spPr>
          <a:xfrm>
            <a:off x="5580000" y="476280"/>
            <a:ext cx="29527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790800" cy="5977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572000" y="260280"/>
            <a:ext cx="4321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物档案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姓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徐蓓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云师附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省级三好生加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兴趣爱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书、玩乐器、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体育、听音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78200" y="115920"/>
            <a:ext cx="4286520" cy="3456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861080" y="357336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北京理科状元林茜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4005360"/>
            <a:ext cx="4321440" cy="2728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08000" y="476280"/>
            <a:ext cx="388944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状元档案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姓名：林茜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校：人大附中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9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2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8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外语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1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8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志愿：作为保送生被北大数学学院录取，另报考香港大学精算专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678分云南文科尖子生志愿在北大与港大间徘徊"/>
          <p:cNvPicPr/>
          <p:nvPr/>
        </p:nvPicPr>
        <p:blipFill>
          <a:blip r:embed="rId1"/>
          <a:stretch/>
        </p:blipFill>
        <p:spPr>
          <a:xfrm>
            <a:off x="468360" y="476280"/>
            <a:ext cx="3957480" cy="5689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24000" y="6237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华文中宋"/>
                <a:ea typeface="华文中宋"/>
              </a:rPr>
              <a:t>678</a:t>
            </a:r>
            <a:r>
              <a:rPr b="1" lang="zh-CN" sz="2400" spc="-1" strike="noStrike">
                <a:solidFill>
                  <a:srgbClr val="6600cc"/>
                </a:solidFill>
                <a:latin typeface="华文中宋"/>
                <a:ea typeface="华文中宋"/>
              </a:rPr>
              <a:t>分云南文科尖子生徐蓓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260280"/>
            <a:ext cx="43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前，开朗、乐观、讲义气的纳西族女孩徐蓓思，考上了师大附中。用她自己的话来说就是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一时比较散漫，高二时逐渐进入了状态，高三时较为稳定。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当很多学生在题海中奋战，把成绩提高的希望寄托于补课时，徐蓓思的好成绩却来得很轻松。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从来没补过课，没请过家教，没搞过题海战术。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成绩好的秘诀，她想了想说：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上课的时候专注，课堂上的知识一定要消化，听不懂的问题及时向老师请教。做题不在于多而在于精，课外题只是一种辅助。学习要讲效率，不断摸索出适合自己的学习方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95280" y="189000"/>
            <a:ext cx="532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要方法得当劳逸结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徐蓓思说，学习是件很容易的事。她说：“只要方法得当，劳逸结合，考高分不是问题。”徐蓓思向即将要升入高三的学弟学妹们传授了一些自己的学习心得。她说，自己学习最注重劳逸结合，学累了也会看看电影，听听音乐休息一下。语文、数学和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科目，徐蓓思每天都是在学校里进行复习，回家后主要复习文科综合。因为语文复习要注重基础知识，可以利用休息时间抄写六册语文课本中需要背诵的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678分云南文科尖子生志愿在北大与港大间徘徊"/>
          <p:cNvPicPr/>
          <p:nvPr/>
        </p:nvPicPr>
        <p:blipFill>
          <a:blip r:embed="rId1"/>
          <a:srcRect l="5458" t="0" r="14479" b="16487"/>
          <a:stretch/>
        </p:blipFill>
        <p:spPr>
          <a:xfrm>
            <a:off x="5724360" y="404640"/>
            <a:ext cx="3168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95280" y="29242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学则要注意多做题，特别是进入高三后，抓紧专题模拟试卷和真题的复习。英语则是一门可以在娱乐中学习提高的科目，看外文电影、听英文歌曲等学习方法。对于文综的历史，徐蓓思每天都要进行知识点熟悉，按照时间顺序整理笔记，罗列历史事件，在客厅、卧室到处张贴。而很多考生都认为最难的地理，徐蓓思说，只要会画地图，弄懂地球仪，地理考高分，绝对不是大问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徐蓓思"/>
          <p:cNvPicPr/>
          <p:nvPr/>
        </p:nvPicPr>
        <p:blipFill>
          <a:blip r:embed="rId1"/>
          <a:stretch/>
        </p:blipFill>
        <p:spPr>
          <a:xfrm>
            <a:off x="324000" y="189000"/>
            <a:ext cx="1871640" cy="2735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678分云南文科尖子生志愿在北大与港大间徘徊"/>
          <p:cNvPicPr/>
          <p:nvPr/>
        </p:nvPicPr>
        <p:blipFill>
          <a:blip r:embed="rId2"/>
          <a:srcRect l="9069" t="4166" r="16327" b="34235"/>
          <a:stretch/>
        </p:blipFill>
        <p:spPr>
          <a:xfrm>
            <a:off x="2411280" y="189000"/>
            <a:ext cx="2952720" cy="2736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6" name="" descr="678分云南文科尖子生志愿在北大与港大间徘徊"/>
          <p:cNvPicPr/>
          <p:nvPr/>
        </p:nvPicPr>
        <p:blipFill>
          <a:blip r:embed="rId3"/>
          <a:srcRect l="9069" t="4166" r="16327" b="34235"/>
          <a:stretch/>
        </p:blipFill>
        <p:spPr>
          <a:xfrm>
            <a:off x="5651640" y="189000"/>
            <a:ext cx="2952720" cy="2736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897440" cy="4680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4360" y="5805360"/>
            <a:ext cx="44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2007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宁夏理科状元李小龙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115920"/>
            <a:ext cx="3529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状元档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科状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李小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银川一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8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6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外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计划报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清华大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兴趣爱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打羽毛球、篮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924360" y="549360"/>
            <a:ext cx="4968720" cy="94716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李小龙认为，自己并不是很聪明的学生，但是他学习上比较踏实。该学的时候学，该玩的时候玩。他说，无论是平时的学习还是复习，他都是举一反三，在理科学习中并不是一味地搞题海战术。而对于语文、英语等，则是从初中开始，他就注意积累方法，打牢了基础知识。李小龙的估分是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8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到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9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之间。他的估分方式很特别，没有看标准答案，“我心中已经有底了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3336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宁夏理科状元李小龙：喜欢玩魔兽世界"/>
          <p:cNvPicPr/>
          <p:nvPr/>
        </p:nvPicPr>
        <p:blipFill>
          <a:blip r:embed="rId1"/>
          <a:stretch/>
        </p:blipFill>
        <p:spPr>
          <a:xfrm>
            <a:off x="3851280" y="476280"/>
            <a:ext cx="4983120" cy="5832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50920" y="549360"/>
            <a:ext cx="3457440" cy="22269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状元语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★我不聪明但我很踏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★兴趣是最好的老师，只要有兴趣，就一定能学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★该学的时候学，该玩的时候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★无论是平时的学习还是复习，我都是举一反三，在理科学习中并不是一味地搞题海战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4640"/>
            <a:ext cx="4032360" cy="6048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788000" y="549360"/>
            <a:ext cx="4356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科状元：邢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银川二中 　　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6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综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7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rcRect l="0" t="0" r="0" b="26192"/>
          <a:stretch/>
        </p:blipFill>
        <p:spPr>
          <a:xfrm>
            <a:off x="1979640" y="3645000"/>
            <a:ext cx="5238720" cy="2903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9640" y="40464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上课的时候更专注，课堂上的知识一定要消化，听不懂的问题，课间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钟消化。做题不在于多，在于精，课外题只是一种辅助。学习要讲效率，不断摸索出适合自己的学习方法。今年的高考状元“邢状”就是这样炼成的。她完全颠覆了我们心中好学生的形象———唱着流行歌解题，常常在安静的课堂上情不自禁地爆发出清脆的笑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4584600" cy="60609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79280" y="0"/>
            <a:ext cx="388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476280"/>
            <a:ext cx="36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浙江高考文科状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求芝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来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新昌中学高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总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4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科分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2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兴趣爱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看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对话浙江4位高考状元：状元是怎样炼成的"/>
          <p:cNvPicPr/>
          <p:nvPr/>
        </p:nvPicPr>
        <p:blipFill>
          <a:blip r:embed="rId1"/>
          <a:srcRect l="0" t="0" r="40546" b="0"/>
          <a:stretch/>
        </p:blipFill>
        <p:spPr>
          <a:xfrm>
            <a:off x="5292720" y="333360"/>
            <a:ext cx="3490920" cy="6191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11280" y="115920"/>
            <a:ext cx="417672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浙江省理科状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并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暨杭州市理科状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李清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99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满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5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杭州学军中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上榜感言：我的心态很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4176720" cy="2822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5280" y="260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890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德才兼备 才貌双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主管高三的副校长沈献章用“德才兼备，才貌双全”来评价这位优秀生，她稳重而不事张扬的个性给老师们留下了极为深刻的印象。秀气的林茜一直是学校数学、物理竞赛队的成员，多才多艺的她手风琴已考到中央音乐学院八级，音乐基础知识二级。高二时，想检验自己英语水平的她，第一次考托福就考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4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的高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3798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她喜爱写作，初中时就有作文在外发表，林茜认为今年的高考作文很符合自己的风格，她以《闲花细雨品恬淡》为题写了一篇散文，自我感觉不错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032360" cy="6264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643280" y="40464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李清扬和她的爸爸、老师都不约而同地把原因归结为“心态”。李清扬的语文老师蒋平对这个坐在第一排的小个子女生印象深刻，“她是班上心态最好的女生，从来不会紧张，就算没考好，她也不会在意，直到考前最后几天，她还是会在课堂上跟老师开玩笑，而且，她所有的作业本上，名字旁边都有一个她自己画的笑脸。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对话浙江4位高考状元：状元是怎样炼成的"/>
          <p:cNvPicPr/>
          <p:nvPr/>
        </p:nvPicPr>
        <p:blipFill>
          <a:blip r:embed="rId1"/>
          <a:stretch/>
        </p:blipFill>
        <p:spPr>
          <a:xfrm>
            <a:off x="395280" y="404640"/>
            <a:ext cx="3529080" cy="58737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256" name=""/>
          <p:cNvSpPr/>
          <p:nvPr/>
        </p:nvSpPr>
        <p:spPr>
          <a:xfrm>
            <a:off x="4067280" y="44280"/>
            <a:ext cx="48974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浙江省理科状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并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张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理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7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9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满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7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湖州中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上榜感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感到意外，高中从未拿第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95280" y="404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甘肃理科状元马泽强：会学习会生活的帅男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1484280"/>
            <a:ext cx="3887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全省理科第一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学校：会宁县第二中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7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科分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0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理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8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甘肃理科状元马泽强：会学习会生活的帅男孩"/>
          <p:cNvPicPr/>
          <p:nvPr/>
        </p:nvPicPr>
        <p:blipFill>
          <a:blip r:embed="rId1"/>
          <a:stretch/>
        </p:blipFill>
        <p:spPr>
          <a:xfrm>
            <a:off x="4500720" y="1197000"/>
            <a:ext cx="42861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39640" y="3333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谈到父母以及平时的学习时，马泽强说：“我的父母对于我的学习是比较重视的，但他们表现得平淡、坦然。”正是因为父母的这种教育方式，使他的学习氛围宽松而愉悦，也使他学会了主动积极地学习。“我在假期的时候会帮父母干活，但更多的时候还是主动学习。我一直在为自己制定近期目标，以近期目标的不断实现来达到我所追求的理想。对于学习，我的心态其实很平和，也很淡薄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rcRect l="0" t="0" r="0" b="28777"/>
          <a:stretch/>
        </p:blipFill>
        <p:spPr>
          <a:xfrm>
            <a:off x="611280" y="4437000"/>
            <a:ext cx="4762440" cy="2232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甘肃理科状元马泽强：会学习会生活的帅男孩"/>
          <p:cNvPicPr/>
          <p:nvPr/>
        </p:nvPicPr>
        <p:blipFill>
          <a:blip r:embed="rId2"/>
          <a:stretch/>
        </p:blipFill>
        <p:spPr>
          <a:xfrm>
            <a:off x="5580000" y="4437000"/>
            <a:ext cx="3384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35640" y="393372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甘肃2007年文科状元魏雪：坚持梦想向前飞(图)"/>
          <p:cNvPicPr/>
          <p:nvPr/>
        </p:nvPicPr>
        <p:blipFill>
          <a:blip r:embed="rId1"/>
          <a:stretch/>
        </p:blipFill>
        <p:spPr>
          <a:xfrm>
            <a:off x="1042920" y="1268280"/>
            <a:ext cx="7381800" cy="4937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55640" y="404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甘肃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文科状元魏雪：坚持梦想向前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24000" y="40464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谈起学习经验，魏雪很愿意与大家一起分享，“首先上课要认真听讲。我一般都是在课堂上把老师讲的消化了，然后课余做些题巩固一下。通常会把做错的题目多看几遍，找出自己错的原因，反复练习以免下次出错”。魏雪说自己从不熬夜复习，最晚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点，也从来没有“开小灶”补过课，保证学习的高效率和独立思考才是她制胜的“法宝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喜爱学英语的魏雪曾经获得过全国中学生英语能力竞赛一、二等奖，平常也喜欢看看《书虫》类的英语书籍开阔视野、增强英语阅读能力。一直学习很好的她并没有让爸妈多操心，她说：“爸妈对我的学习很放心，所以我自己安排学习时间，自己也很努力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654分重庆外国语学校黄文帝高考文科夺第一(图)"/>
          <p:cNvPicPr/>
          <p:nvPr/>
        </p:nvPicPr>
        <p:blipFill>
          <a:blip r:embed="rId1"/>
          <a:stretch/>
        </p:blipFill>
        <p:spPr>
          <a:xfrm>
            <a:off x="539640" y="404640"/>
            <a:ext cx="3672000" cy="2656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4788000" y="692280"/>
            <a:ext cx="37432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黄文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重庆外国语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5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外语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文科综合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39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32130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重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文科第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700分南开中学陈竞成重庆07高考理科明星(图)"/>
          <p:cNvPicPr/>
          <p:nvPr/>
        </p:nvPicPr>
        <p:blipFill>
          <a:blip r:embed="rId1"/>
          <a:stretch/>
        </p:blipFill>
        <p:spPr>
          <a:xfrm>
            <a:off x="4500720" y="189000"/>
            <a:ext cx="4224240" cy="31543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55640" y="260280"/>
            <a:ext cx="345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明星档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陈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南开中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总分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外语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科综合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9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27640" y="3284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陈竞成重庆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高考理科明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37162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陈竞的班主任肖军老师说，陈竞的第一名是环境、自觉以及陈竞所有的一种“大气”的性格所造就出的成绩。肖老师回忆高一、高二并非成绩突出，眼看着她的成绩就一步一步上来了。陈竞在他眼里活泼而不失稳重，晚上从不熬夜学习，平时就利用学校时间学习，而在课余活动、体育课，她也从不会落下，做到了真正的劳逸结合。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专访内蒙古07年高考文理科状元(图)"/>
          <p:cNvPicPr/>
          <p:nvPr/>
        </p:nvPicPr>
        <p:blipFill>
          <a:blip r:embed="rId1"/>
          <a:srcRect l="0" t="9667" r="0" b="0"/>
          <a:stretch/>
        </p:blipFill>
        <p:spPr>
          <a:xfrm>
            <a:off x="4803840" y="333360"/>
            <a:ext cx="3886200" cy="49672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148360" y="5445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内蒙古 文科状元金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11280" y="620640"/>
            <a:ext cx="360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来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呼和浩特二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总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70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各科分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2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5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理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兴趣爱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运动、唱歌、素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专访内蒙古07年高考文理科状元(图)"/>
          <p:cNvPicPr/>
          <p:nvPr/>
        </p:nvPicPr>
        <p:blipFill>
          <a:blip r:embed="rId1"/>
          <a:srcRect l="0" t="13035" r="0" b="0"/>
          <a:stretch/>
        </p:blipFill>
        <p:spPr>
          <a:xfrm>
            <a:off x="4643280" y="406440"/>
            <a:ext cx="3948120" cy="4967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861080" y="571824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内蒙古理科状元高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北京高考理科最高分考生：爱拉手风琴的林茜"/>
          <p:cNvPicPr/>
          <p:nvPr/>
        </p:nvPicPr>
        <p:blipFill>
          <a:blip r:embed="rId1"/>
          <a:stretch/>
        </p:blipFill>
        <p:spPr>
          <a:xfrm>
            <a:off x="5435640" y="4508640"/>
            <a:ext cx="3457440" cy="2315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0920" y="18900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与父母以朋友相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高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，林茜一直在学校住校，父母有意培养她独立、自强的个性，她与父母之间也一直以朋友相处。父母会经常来学校与老师交流，了解林茜在校的情况，但碰到做决定的时候，林茜总是自己拿主意，父母从来不加以干涉。林茜说，爸爸妈妈对自己的教育很开明，正因为有了这种平等、和睦的关系，使得自己在性格塑造上显得很平和，遇到问题时她会主动与父母、老师沟通，而不是憋在心里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rcRect l="0" t="0" r="0" b="13069"/>
          <a:stretch/>
        </p:blipFill>
        <p:spPr>
          <a:xfrm>
            <a:off x="5437080" y="115920"/>
            <a:ext cx="3456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喜欢看电影的淡定孩子--专访广西理科状元(图)"/>
          <p:cNvPicPr/>
          <p:nvPr/>
        </p:nvPicPr>
        <p:blipFill>
          <a:blip r:embed="rId1"/>
          <a:srcRect l="0" t="0" r="0" b="8778"/>
          <a:stretch/>
        </p:blipFill>
        <p:spPr>
          <a:xfrm>
            <a:off x="468360" y="260280"/>
            <a:ext cx="4394160" cy="57596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076720" y="260280"/>
            <a:ext cx="40672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状元档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姓名：张南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性别：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籍贯：广西桂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来自：桂林中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总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单科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兴趣爱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看电影、打羽毛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42920" y="6093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广西理科状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219640" y="3716280"/>
            <a:ext cx="3672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科状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姓名：林丽渊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：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67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校：浦北中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rcRect l="8363" t="7273" r="7934" b="18428"/>
          <a:stretch/>
        </p:blipFill>
        <p:spPr>
          <a:xfrm>
            <a:off x="4714920" y="476280"/>
            <a:ext cx="4249800" cy="29764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79280" y="11592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首先，我觉得一定要有梦想和信心，高三特别需要自信。当任何人都觉得你不行的时候，你一定要相信自己。 其次，要有个完整的学习计划，分长期和短期 长的可以是整个高三，比如我的长期目标就是高考过６５０分；短的可以是一个月，一个星期，一天。 第三，要专心干好一件事情．我仍然记得去年一位状元的一句话：塌塌实实地干好手边的事，不幻想远方遥远的东西，你的梦想一定能实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安徽理科状元吴羽菲：高中3年从没熬夜苦读(图)"/>
          <p:cNvPicPr/>
          <p:nvPr/>
        </p:nvPicPr>
        <p:blipFill>
          <a:blip r:embed="rId1"/>
          <a:stretch/>
        </p:blipFill>
        <p:spPr>
          <a:xfrm>
            <a:off x="5076720" y="26028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安徽理科状元吴羽菲：高中3年从没熬夜苦读(图)"/>
          <p:cNvPicPr/>
          <p:nvPr/>
        </p:nvPicPr>
        <p:blipFill>
          <a:blip r:embed="rId2"/>
          <a:stretch/>
        </p:blipFill>
        <p:spPr>
          <a:xfrm>
            <a:off x="5076720" y="3645000"/>
            <a:ext cx="3816360" cy="2862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79280" y="189000"/>
            <a:ext cx="50421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状元档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吴羽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休宁中学毕业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成绩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9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省级优秀生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92720" y="306864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安徽理科状元吴羽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2007年安徽省高考理科状元吴羽菲总分709(图)"/>
          <p:cNvPicPr/>
          <p:nvPr/>
        </p:nvPicPr>
        <p:blipFill>
          <a:blip r:embed="rId1"/>
          <a:srcRect l="0" t="0" r="0" b="17638"/>
          <a:stretch/>
        </p:blipFill>
        <p:spPr>
          <a:xfrm>
            <a:off x="4572000" y="333360"/>
            <a:ext cx="4032360" cy="3106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95280" y="404640"/>
            <a:ext cx="3816360" cy="11692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状元心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大家要及时调整自己的心态，找到最适合自己的学习方法并坚持！我想这就是成功的关键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0920" y="3727440"/>
            <a:ext cx="8640720" cy="1800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学习无常法纠错本收效不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吴羽菲学习的一个小窍门是，在平常的学习中她有一个专门的本子记下自己做错的题，并且不时进行回顾。高中三年，她的数学纠错本已经有厚厚的一本了。这种方法尤其在高考之前的复习中非常有效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68360" y="476280"/>
            <a:ext cx="41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关于学习方法，吴羽菲认为，其实学习没有固定的方法。她建议学弟、学妹们在学习的初期就要努力找到适合自己的学习方法，然后坚持下去。没有一种学习方法是万能的，盲目模仿别人的学习方法恐怕行不通。在学习的时候，她非常注重课堂上的学习效果，“即使有的东西老师已经讲过很多遍，再听一遍也会有很多启发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安徽理科状元吴羽菲：高中3年从没熬夜苦读(图)"/>
          <p:cNvPicPr/>
          <p:nvPr/>
        </p:nvPicPr>
        <p:blipFill>
          <a:blip r:embed="rId1"/>
          <a:srcRect l="0" t="0" r="49093" b="0"/>
          <a:stretch/>
        </p:blipFill>
        <p:spPr>
          <a:xfrm>
            <a:off x="4932360" y="620640"/>
            <a:ext cx="3813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42920" y="476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安徽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07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年文科状元司玉洁：学习最重要是有毅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安徽07年文科状元司玉洁：学习最重要是有毅力"/>
          <p:cNvPicPr/>
          <p:nvPr/>
        </p:nvPicPr>
        <p:blipFill>
          <a:blip r:embed="rId1"/>
          <a:stretch/>
        </p:blipFill>
        <p:spPr>
          <a:xfrm>
            <a:off x="468360" y="1341360"/>
            <a:ext cx="4608360" cy="33116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24000" y="4941720"/>
            <a:ext cx="47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司玉洁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与班主任潘老师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左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及母亲在一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724360" y="1989000"/>
            <a:ext cx="3095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4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826920" y="549360"/>
            <a:ext cx="36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学习最重要是有毅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作为文科第一，传授自己的学习经验。可爱的司玉洁歪着脑袋想了半天，“最重要的是有毅力要坚持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她表示，文科生一般来说背书的量很大，所以要选择合适的时间。而数学这门学科，还是要有一定的试题练习来保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安徽07年文科状元司玉洁：学习最重要是有毅力"/>
          <p:cNvPicPr/>
          <p:nvPr/>
        </p:nvPicPr>
        <p:blipFill>
          <a:blip r:embed="rId1"/>
          <a:srcRect l="28145" t="0" r="37485" b="0"/>
          <a:stretch/>
        </p:blipFill>
        <p:spPr>
          <a:xfrm>
            <a:off x="5003640" y="476280"/>
            <a:ext cx="3529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山东07文科状元：考第一不会改变什么(组图)"/>
          <p:cNvPicPr/>
          <p:nvPr/>
        </p:nvPicPr>
        <p:blipFill>
          <a:blip r:embed="rId1"/>
          <a:srcRect l="0" t="0" r="0" b="19780"/>
          <a:stretch/>
        </p:blipFill>
        <p:spPr>
          <a:xfrm>
            <a:off x="395280" y="260280"/>
            <a:ext cx="4286160" cy="34387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468360" y="3789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山东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科状元都珊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03640" y="692280"/>
            <a:ext cx="3924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状元档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来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潍坊一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总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7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各科分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基本能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兴趣爱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唱歌、弹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山东07文科状元：考第一不会改变什么(组图)"/>
          <p:cNvPicPr/>
          <p:nvPr/>
        </p:nvPicPr>
        <p:blipFill>
          <a:blip r:embed="rId2"/>
          <a:srcRect l="0" t="0" r="0" b="26952"/>
          <a:stretch/>
        </p:blipFill>
        <p:spPr>
          <a:xfrm>
            <a:off x="395280" y="4365720"/>
            <a:ext cx="42861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山东07文科状元：考第一不会改变什么(组图)"/>
          <p:cNvPicPr/>
          <p:nvPr/>
        </p:nvPicPr>
        <p:blipFill>
          <a:blip r:embed="rId1"/>
          <a:srcRect l="0" t="0" r="0" b="19780"/>
          <a:stretch/>
        </p:blipFill>
        <p:spPr>
          <a:xfrm>
            <a:off x="4932360" y="3213000"/>
            <a:ext cx="3772080" cy="34387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8496000" cy="29462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24000" y="3284640"/>
            <a:ext cx="460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0920" y="344340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我不是特别用功的那种人，我整天无忧无虑，老师常说我是‘玩着学’，我有时候也完不成作业。不过，我喜欢钻研，也比较细心。老师对我的期望值特别高，我不能让他们失望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95280" y="836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关于“窍门” 　　“最重要的是把握好节奏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“很多人都问我学习有什么窍门，其实我啥也没有，就是老师安排什么就干什么，该干什么的时候就干什么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都珊珊始终不承认自己有什么独到之处。“要说总结经验，我觉得最重要的一点就是把握好节奏感，什么时间干什么就干什么。即便完成得不好，也不磨蹭，继续下一个环节，免得一拖再拖，越拖越赶不上，失去了节奏。”除了默写诗词名句来放松，都珊珊还喜欢写读书笔记，一边放松一边“练习作文”。总之，她称自己擅长利用干自己喜欢干的又对学习有帮助的事情，进行休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9640" y="549360"/>
            <a:ext cx="3527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■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状元档案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综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北京一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中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分项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校优干（加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报考志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北京大学中文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0" r="0" b="10671"/>
          <a:stretch/>
        </p:blipFill>
        <p:spPr>
          <a:xfrm>
            <a:off x="4262400" y="404640"/>
            <a:ext cx="4486320" cy="5904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933800" y="6308640"/>
            <a:ext cx="33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北京文科状元张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218120" y="404640"/>
            <a:ext cx="45306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河南文理第一名都是女生第一志愿都是北大(图)"/>
          <p:cNvPicPr/>
          <p:nvPr/>
        </p:nvPicPr>
        <p:blipFill>
          <a:blip r:embed="rId1"/>
          <a:stretch/>
        </p:blipFill>
        <p:spPr>
          <a:xfrm>
            <a:off x="539640" y="620640"/>
            <a:ext cx="3502080" cy="57610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211640" y="115920"/>
            <a:ext cx="468144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状元档案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姓名：马冰一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爱好：电子琴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分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６６７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１２７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１５０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１４２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综２４８分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毕业学校：洛阳一高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报考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北京大学光华管理学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20000" cy="28573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39640" y="330516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掌握方法，擅于总结，离成功会更近些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“我的努力程度在我们班只能算中等，学习更需要掌握技巧和方法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马冰一说自读高一起，老师就指导大家要学会自学能力，要学会自己看书，学数学要擅于归纳，学语文要多接触语言材料……“正确的方法是成功的一半，掌握了这些，就可以不变应万变！”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网友贴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189000"/>
            <a:ext cx="5399280" cy="3591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50920" y="404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马冰一学每门课都有一个错题本，与其他同学不同的是，她对自己的错题比对日常作业要求还要严格，将错题分门别类地归纳，对每一道错题都列出正确和错误的思考过程，并写出分析意见。也正是经过这样的锻炼，马冰一奠定了扎实的基本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92360" y="3716280"/>
            <a:ext cx="55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我的秘诀就是：把它看成游戏！”马冰一说，数学很枯燥，就像坐那儿下盘棋，如果你被棋局给吓怕了，那准学不好。其实，女孩在数学上是强项，因为有难得的“认真”和“细心”，马冰一笑着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河南文理第一名都是女生第一志愿都是北大(图)"/>
          <p:cNvPicPr/>
          <p:nvPr/>
        </p:nvPicPr>
        <p:blipFill>
          <a:blip r:embed="rId1"/>
          <a:stretch/>
        </p:blipFill>
        <p:spPr>
          <a:xfrm>
            <a:off x="608040" y="476280"/>
            <a:ext cx="3819600" cy="5761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003640" y="692280"/>
            <a:ext cx="367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状元档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姓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范佳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安阳一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状元成绩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6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3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044720" y="623736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河南理科第一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260280"/>
            <a:ext cx="82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：每天做作业，要听老师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佳琳说她的语文其实不是很好，唯一的一个好办法就是“听老师的话”。因为语文老师每天都会布置一定量的作业，有时候数理化作业多了，很多同学就不写语文作业了。其实只要每天保持半个小时写语文作业的时间，就不会对语文感到陌生，考试的时候就会很熟悉。经过长期的积累以后，语文成绩是会大幅度提高的。数学：竞赛题目，让她受益不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3600720" cy="23972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788000" y="4221000"/>
            <a:ext cx="360036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826920" y="907920"/>
            <a:ext cx="7704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从高一到高三，数学老师一直为他们补习一些竞赛题目。掌握这些以后，在考场上思路就会更开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英语和生物：“背”，然后做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英语，生物，都是“背”，背完以后做题，做题后再背。化学方面，因为在搞化学竞赛，从一个制高点看高中化学课程，高考肯定没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物理：在这个弱项上多和男生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物理是佳琳的“弱项”。她认为作为女生，要想学好物理，一般是很难的。但是如果一个人心胸开朗，多和男生交谈，肯定会收获很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理科第一名709分文科第一名672分"/>
          <p:cNvPicPr/>
          <p:nvPr/>
        </p:nvPicPr>
        <p:blipFill>
          <a:blip r:embed="rId1"/>
          <a:stretch/>
        </p:blipFill>
        <p:spPr>
          <a:xfrm>
            <a:off x="1042920" y="404640"/>
            <a:ext cx="5040360" cy="37418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95280" y="4508640"/>
            <a:ext cx="842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成绩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9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外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理科综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9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357680" y="404640"/>
            <a:ext cx="729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07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陕西理科第一名　陈光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理科第一名709分文科第一名672分"/>
          <p:cNvPicPr/>
          <p:nvPr/>
        </p:nvPicPr>
        <p:blipFill>
          <a:blip r:embed="rId1"/>
          <a:stretch/>
        </p:blipFill>
        <p:spPr>
          <a:xfrm>
            <a:off x="4997520" y="476280"/>
            <a:ext cx="3897360" cy="59770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468360" y="549360"/>
            <a:ext cx="475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陕西高考文科第一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张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总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7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毕业学校：西安高新一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报考志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清华大学经济与金融国际班单科成绩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4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性格：开朗、坦率、踏实、认真、靠谱、理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星座：摩羯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偶像：希拉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916360" y="17136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秘诀：调整心态 沟通交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在交谈中，张璐说自己是住校生，这一年来，一方面在积极弥补自己在知识储备上的不足，除了数学、英语科目成绩比较突出外，自己注重了历史知识的补习，同时最重要的是，在一年中重视了心态的调整。每当在学习、考试中遇到挫折，心理发生变化的她，学会了与老师交流，她说每当遇到心理问题时，通过与老师们的沟通与交流，甚至是倾诉，自己学会了遇到问题如何调整心态，这也是成功的秘诀之一。她相信通过不懈努力，一定能取得成功，她将此概括为“苦心人天不负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0" t="0" r="39029" b="0"/>
          <a:stretch/>
        </p:blipFill>
        <p:spPr>
          <a:xfrm>
            <a:off x="395280" y="3500280"/>
            <a:ext cx="2363760" cy="29512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rcRect l="0" t="0" r="39029" b="0"/>
          <a:stretch/>
        </p:blipFill>
        <p:spPr>
          <a:xfrm>
            <a:off x="395280" y="476280"/>
            <a:ext cx="2363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50920" y="414360"/>
            <a:ext cx="482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经验：学习完全靠自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对于本次高考自己取得了第一，张璐认为只是一次人生旅途一个阶段的暂时性考核取得了成功，不能因此庆幸和自傲，其实自己同学中有许多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087880" y="477720"/>
            <a:ext cx="3876840" cy="2590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50920" y="31561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都有冲击第一的实力。人生不能总停留在一个阶段性目标上，否则就没有进步。自己的成功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自身的努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+2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父母的教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+2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老师和学校的培养。同时，她认为抓住在校学习的时间十分重要，通过学校作业消化知识是最有效的途径。学校让她感到欣慰的是学习和考试成绩不搞排名，但学生都养成了自觉学习的好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749840" y="333360"/>
            <a:ext cx="4286160" cy="3743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79280" y="26028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与不少高中生至今目标渺茫相比，张玥是一个“早立志，立长志”的高中生。“我的理想就是将来成为一名大学教授，做学问。”张玥的话掷地有声，也正是这股坚定而坚决的信念，使一向主张女儿学理科的母亲最终“妥协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4292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最喜欢的是语文和历史。”张玥说，这种爱好基本从初中开始就已经植根于她的心中。所以在分科时，她非常自然地选择了文科，尽管理科成绩并不差。北大中文系是张玥从初中以来一直的梦想，“当觉得成绩差不多时，想都没想就填了。”张妈妈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95280" y="404640"/>
            <a:ext cx="48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张璐的学习心得用一句话概括就是：成功离不开自己、老师和家长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％是自己的努力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％是老师的奉献，另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％是父母的付出。具体说就是“学习要踏实，要实打实地学习，合理规划学习时间，回家自学固然重要，但抓紧时间在学校学习则更为重要；要认真完成老师布置的作业；做到及时巩固知识；参考书不能太多，一定要选择适合自己的参考书，哪里薄弱就攻哪里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rcRect l="0" t="0" r="37144" b="0"/>
          <a:stretch/>
        </p:blipFill>
        <p:spPr>
          <a:xfrm>
            <a:off x="5364000" y="333360"/>
            <a:ext cx="36007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湖北高考成绩理科略有提高文科整体下降(图)"/>
          <p:cNvPicPr/>
          <p:nvPr/>
        </p:nvPicPr>
        <p:blipFill>
          <a:blip r:embed="rId1"/>
          <a:stretch/>
        </p:blipFill>
        <p:spPr>
          <a:xfrm>
            <a:off x="4716360" y="260280"/>
            <a:ext cx="3888000" cy="58327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95280" y="306360"/>
            <a:ext cx="41054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姓名：周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性别：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龄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毕业学校：宜昌夷陵中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总分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9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各科分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科综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76720" y="61657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湖北省理科第一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湖北高考成绩理科略有提高文科整体下降(图)"/>
          <p:cNvPicPr/>
          <p:nvPr/>
        </p:nvPicPr>
        <p:blipFill>
          <a:blip r:embed="rId1"/>
          <a:stretch/>
        </p:blipFill>
        <p:spPr>
          <a:xfrm>
            <a:off x="466560" y="333360"/>
            <a:ext cx="4537080" cy="568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684360" y="609300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湖北省文科第一名张友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435640" y="476280"/>
            <a:ext cx="345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状元档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姓名：张友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性别：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年龄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毕业学校：大冶市大冶一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高考总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高考各科分数：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外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湖北高考成绩理科略有提高文科整体下降(图)"/>
          <p:cNvPicPr/>
          <p:nvPr/>
        </p:nvPicPr>
        <p:blipFill>
          <a:blip r:embed="rId1"/>
          <a:stretch/>
        </p:blipFill>
        <p:spPr>
          <a:xfrm>
            <a:off x="611280" y="549360"/>
            <a:ext cx="3597120" cy="5010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68360" y="57340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武汉文科第一名余霏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16360" y="692280"/>
            <a:ext cx="3959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余霏霏档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姓名：余霏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性别：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年龄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毕业学校：武汉市外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总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2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各科分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外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50920" y="44280"/>
            <a:ext cx="583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：扩大阅读面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●成绩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左右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“语文成绩很一般”，余霏霏说，作文成绩也是这样的，如果不做命题作文还好一点，如果参加考试写作文，一般发挥得都不是很好。为培养语感，她经常阅读《看的。电影》、《散文》等杂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rcRect l="51673" t="0" r="0" b="32369"/>
          <a:stretch/>
        </p:blipFill>
        <p:spPr>
          <a:xfrm>
            <a:off x="5965920" y="189000"/>
            <a:ext cx="2921040" cy="33112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50920" y="35733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莫愁和苏童的小说也是她的最爱。她最喜欢的书之一是《苏菲的世界》。学语文，除重视课本之外，还要扩大阅读面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“寒暑假，以及周末的课外时间，都花在看书和听音乐上。其中，看的书大多是文学方面的。”余霏霏的梦想是当一名外交官，训练口才增长文学知识是不可或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湖北高考成绩理科略有提高文科整体下降(图)"/>
          <p:cNvPicPr/>
          <p:nvPr/>
        </p:nvPicPr>
        <p:blipFill>
          <a:blip r:embed="rId1"/>
          <a:stretch/>
        </p:blipFill>
        <p:spPr>
          <a:xfrm>
            <a:off x="4699080" y="333360"/>
            <a:ext cx="3970080" cy="56167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716360" y="602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武汉理科第一名徐懋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171360"/>
            <a:ext cx="4103640" cy="649296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徐懋祺档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姓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徐懋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性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年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毕业学校：武汉三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总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8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各科分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外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理科综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6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24000" y="11592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学习有三大“法宝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徐懋祺从小跟爷爷学书法，养成了注意力集中、有定力的好习惯。他从小就会自己安排学习计划，自觉性强，该学习就学习，该看电视就看电视，从来不需要父母督促。上课时他一定会专注地跟随老师的讲解，力求掌握每一个知识点，课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rcRect l="0" t="0" r="42461" b="0"/>
          <a:stretch/>
        </p:blipFill>
        <p:spPr>
          <a:xfrm>
            <a:off x="6156360" y="189000"/>
            <a:ext cx="2733480" cy="3456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24000" y="357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则把每次作业当成考试来做。初中和高中阶段，他从来没有参加过培优班，也没请过家教，有时作业太多做不完，他还会采取“宁缺勿滥”的原则，只挑选自己认为重点的题目精做，不搞题海战术。课余时间他也上网玩游戏、看体育新闻、打球。徐懋祺说，自制力强、合理利用时间、对学习充满兴趣是自己学习优异的三大“法宝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5076720" y="4076640"/>
            <a:ext cx="40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理科状元</a:t>
            </a:r>
            <a:br>
              <a:rPr sz="2800"/>
            </a:b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姓名：汪天一学校：曲塘中学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.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总分：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709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分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.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130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分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138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分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146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分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物理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146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分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化学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149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分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68360" y="6652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对于如何取得好成绩，汪天一总结说，主要是自己的学习意识比较强，科学安排好学习内容，有计划、有目标，对知识面有全面、深刻的理解，在解题中总结方法，活用所学知识。面临考试，心态十分重要。其实每次考砸时，他也会难过，压力也很大。但等睡醒一觉后，汪天一说自己就全都忘了。“心态好是成功的一半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549360"/>
            <a:ext cx="2879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3765240" cy="59770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932360" y="189000"/>
            <a:ext cx="338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江苏文科状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叶    枝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6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张亦弛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6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翁梅梅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6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43280" y="2847960"/>
            <a:ext cx="4249800" cy="9471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得知自己是全省文科状元，非常高兴。在老师的眼中，叶枝是个非常优秀而独立的学生，有气质有内涵，对自己的人生规划非常清晰。谈到理想，叶枝说只想当老师。能在喜欢的方面走得更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755640" y="657360"/>
            <a:ext cx="266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742160" cy="46864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684360" y="5300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江苏省文科状元叶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与省物生科目组合状元王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握手互贺高考取得好成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79280" y="18900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张玥所有的志愿几乎都和中文、历史有关，这是她最大的爱好，而这几乎全是受到父亲和外公的影响。张玥的父亲是一名历史老师，外公是大学教授，同时也是西南联大的老毕业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“学习不要突击，要重视学习效率”是张玥的经验之谈。她的学习成绩一直比较平稳，在年级里几乎是长期保持着第一的位置。“她是状元，我一点都不意外”张玥的好友赵成说，学校大考，她都是文科第一名。此外，张玥喜欢参加学校的文体活动，沟通能力很强，性格多样，有很多朋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搜狐教育频道对北京文科状元张玥进行独家专访"/>
          <p:cNvPicPr/>
          <p:nvPr/>
        </p:nvPicPr>
        <p:blipFill>
          <a:blip r:embed="rId1"/>
          <a:srcRect l="43297" t="0" r="0" b="0"/>
          <a:stretch/>
        </p:blipFill>
        <p:spPr>
          <a:xfrm>
            <a:off x="5796000" y="404640"/>
            <a:ext cx="3168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95280" y="189000"/>
            <a:ext cx="468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他经常翻开看看，认真琢磨这些错误产生的根源，举一反三，杜绝在今后的学习中出现相同或相类似的错误。在平时的学习中，禹奇锋还有一个深刻的感受就是“紧跟老师”。“在课堂上和课余时间的复习中，都要紧跟老师的思路，因为老师的指导和经验会让自己少走许多弯路”。正是有了这些正确的学习方法，禹奇锋在高考中取得了骄人的成绩，就连“短腿”的数学只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就得满分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黑龙江高考文理科状元出炉理科最高分718(图)"/>
          <p:cNvPicPr/>
          <p:nvPr/>
        </p:nvPicPr>
        <p:blipFill>
          <a:blip r:embed="rId1"/>
          <a:srcRect l="0" t="0" r="0" b="19780"/>
          <a:stretch/>
        </p:blipFill>
        <p:spPr>
          <a:xfrm>
            <a:off x="5110200" y="333360"/>
            <a:ext cx="3782880" cy="5904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5075280" y="622620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黑龙江文科状元禹奇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11280" y="754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结自己的学习方法和经验时，首推了他的学习“秘籍”——“错题本”。他说，这个记录了他所有学习错误的“错题本”不仅时刻地提醒他，不要再犯这些错误，而且还让他举一反三地思考了许多相类似的问题。良好的学习方法是取得优异成绩的“制胜法宝”，这在禹奇锋的身上得到了验证。禹奇锋说，要取得好成绩很简单，用一句话就可以总结出来：“紧跟老师，勤于回头看看自己过去的失误”。作为理科基础比较薄弱的文科生，禹奇锋与其他同学一样数学成绩不是很理想。为了弥补这一“短腿”，在老师的建议下，禹奇锋制作了一个“错题本”。他将平时学习中出现的错误，在本子上一一记录下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11280" y="43657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2200" y="57340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黑龙江理科状元鄂炎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黑龙江高考文理科状元出炉理科最高分718(图)"/>
          <p:cNvPicPr/>
          <p:nvPr/>
        </p:nvPicPr>
        <p:blipFill>
          <a:blip r:embed="rId1"/>
          <a:srcRect l="31925" t="29355" r="29926" b="0"/>
          <a:stretch/>
        </p:blipFill>
        <p:spPr>
          <a:xfrm>
            <a:off x="431640" y="549360"/>
            <a:ext cx="3708720" cy="51116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500720" y="476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和鄂炎雄聊天的时候，会觉得他很冷静，并没有想象中的喜悦。他说，自己还是有点意外。鄂炎雄报考的也是北京大学，他介绍说，在自己的高三复习生活中，触类旁通是最重要的，要从一个知识点出发，延伸出更多的知识，最后形成有效的知识网络。游泳和电脑游戏是自己最大的爱好，并表示自己是新浪的忠实用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吉林省07高考文理科状元分别报考北大清华(图)"/>
          <p:cNvPicPr/>
          <p:nvPr/>
        </p:nvPicPr>
        <p:blipFill>
          <a:blip r:embed="rId1"/>
          <a:srcRect l="0" t="0" r="0" b="8238"/>
          <a:stretch/>
        </p:blipFill>
        <p:spPr>
          <a:xfrm>
            <a:off x="324000" y="333360"/>
            <a:ext cx="4506840" cy="59752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435640" y="404640"/>
            <a:ext cx="3311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吉林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科状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胡慕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成绩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综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4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志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北京大学西班牙语专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吉林省07高考文理科状元分别报考北大清华(图)"/>
          <p:cNvPicPr/>
          <p:nvPr/>
        </p:nvPicPr>
        <p:blipFill>
          <a:blip r:embed="rId1"/>
          <a:srcRect l="0" t="0" r="0" b="14021"/>
          <a:stretch/>
        </p:blipFill>
        <p:spPr>
          <a:xfrm>
            <a:off x="4427640" y="189000"/>
            <a:ext cx="4238640" cy="27352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427640" y="2924280"/>
            <a:ext cx="4176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科状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孔令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9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志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清华大学电子信息专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476280"/>
            <a:ext cx="34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孔令兵在会上向正在高中就读的学弟学妹们介绍经验时说，保持好身体很重要，她称自己每天课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钟都要坚持跑步。另外，要用平和心态面对包括高考在内的所有考试，她平时常听古典音乐放松心情，把学习当做兴趣和习惯，所以就没有压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50920" y="4081320"/>
            <a:ext cx="86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福建高考文科状元：罗宏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来自：尤溪一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总成绩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6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科分数：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英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文综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特长爱好：硬笔书法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9680" y="115920"/>
            <a:ext cx="1768320" cy="28083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rcRect l="0" t="0" r="0" b="22498"/>
          <a:stretch/>
        </p:blipFill>
        <p:spPr>
          <a:xfrm>
            <a:off x="5076720" y="622440"/>
            <a:ext cx="3900600" cy="43192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2324160" y="333360"/>
            <a:ext cx="2392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第一是怎样炼成的：福建高考文理状元成才攻略"/>
          <p:cNvPicPr/>
          <p:nvPr/>
        </p:nvPicPr>
        <p:blipFill>
          <a:blip r:embed="rId1"/>
          <a:stretch/>
        </p:blipFill>
        <p:spPr>
          <a:xfrm>
            <a:off x="4643280" y="3639960"/>
            <a:ext cx="4229280" cy="30290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11280" y="1159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一是怎样炼成的：福建高考文理状元成才攻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000" y="692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学习贵在坚持，也要懂得劳逸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“宠辱不惊，闲看庭前花开花落；去留无意，漫随天外云卷云舒”——这是今年我省高考文科状元罗宏晟的座右铭。对于一个十几岁的女孩子来说，她能用如此淡泊的心态去面对成功或者失败，着实让我们颇感意外。这也许就是她成功的关键所在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8000" y="2852640"/>
            <a:ext cx="47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高三是高考冲刺十分关键的一年，许多高三学生、家长以及老师们的神经都绷到了“临界点”。不过，在罗宏晟看来，高考其实并没有那么可怕，适当的紧张当然是必需的，但是要学会自我减压和劳逸结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24000" y="115920"/>
            <a:ext cx="842472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学好数学没有捷径 关键是坚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　　对于大部分的文科生来说，数学是最令他们头疼的。考试成绩不理想，也往往是数学拉了不少“后腿”。罗宏晟在这次高考的数学成绩是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146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分，差四分就是满分。作为一个文科生，数学取得了如此高的成绩，一定有什么秘诀。但是，罗宏晟的回答却出乎我们的意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　　“我觉得其实我也没有什么秘诀。学好数学是没有捷径的，关键是要学会坚持。”罗宏晟这样告诉我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　　有的同学一碰到数学题，就有种惧怕心理，觉得自己一定不会做。久而久之，就由惧怕数学变成了讨厌数学，结果形成“恶性循环”，那么数学就更学不好了。其实，我们可以尝试着以一种“喜欢数学”的心态去学习数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5438880" cy="39877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1403280" y="549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福建省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07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高考理科状元：陈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92560" y="3867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00000" y="1628640"/>
            <a:ext cx="295272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校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漳州一中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70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科分数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924360" y="404640"/>
            <a:ext cx="482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保持平常心 把高考当成阶段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有的学生到了高三，变得非常紧张，吃也吃不下，睡也睡不着，生物钟都被打乱了。但是陈默一直保持着一颗平常心，并没有刻意改变生活习惯，该怎么复习就怎么复习，该几点睡就几点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“轻松的心态”是陈默取得好成绩的一个重要因素。高考前夕，父母和老师在周围为她营造了一个轻松、愉快的氛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3465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761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79280" y="6237360"/>
            <a:ext cx="88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上海高考文科状元魏宏琰、理科状元胡文琦同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rcRect l="24063" t="0" r="31843" b="13312"/>
          <a:stretch/>
        </p:blipFill>
        <p:spPr>
          <a:xfrm>
            <a:off x="4716360" y="549360"/>
            <a:ext cx="4172040" cy="56880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68360" y="54936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也让她感觉高考就像是一次普通的阶段考试。有句话说得好：“环境造就人才。”陈默能够以平常心应对高考，并且取得如此优异的成绩，和她成长的家庭环境不无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面对紧张的高考，在如此宽松的学习环境中成长起来的陈默笑着说：“她最大的感触是高考不像高考，而像一次阶段考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11280" y="620640"/>
            <a:ext cx="79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要埋头做笔记 关键是要听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对于学习，陈默一直坚持一种理念，那就是“在快乐中学习，在学习中寻找快乐”。高三期间，陈默并没有给自己什么特别安排。陈默觉得把学习当成享受，其实是一件非常快乐的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对于陈默来说，读书是一种快乐，她从来都不偏科。她学习的自主性特别强，她在学习的每个阶段，都有自己一套既定的计划来安排自己的学习。每天晚上，陈默都会事先计划好各科的学习时间，一旦有科目或难题超过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钟，她就会先放下，转到下个科目。而且，每天都保证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时的睡眠时间。有个好计划，那样听课质量就提高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932360" y="947880"/>
            <a:ext cx="396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江西：张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总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9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含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加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各科成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综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吉安一中高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班学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江西07年高考理科第一名张蕤：确立目标不放弃"/>
          <p:cNvPicPr/>
          <p:nvPr/>
        </p:nvPicPr>
        <p:blipFill>
          <a:blip r:embed="rId1"/>
          <a:srcRect l="0" t="0" r="0" b="10961"/>
          <a:stretch/>
        </p:blipFill>
        <p:spPr>
          <a:xfrm>
            <a:off x="324000" y="1125360"/>
            <a:ext cx="4298760" cy="5112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55640" y="404640"/>
            <a:ext cx="7920000" cy="5205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江西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高考理科第一名张蕤：确立目标不放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江西文科第一名朱虹璇：博览群书功底厚(图)"/>
          <p:cNvPicPr/>
          <p:nvPr/>
        </p:nvPicPr>
        <p:blipFill>
          <a:blip r:embed="rId1"/>
          <a:srcRect l="0" t="0" r="0" b="16830"/>
          <a:stretch/>
        </p:blipFill>
        <p:spPr>
          <a:xfrm>
            <a:off x="684360" y="981000"/>
            <a:ext cx="3809880" cy="2376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684360" y="3429000"/>
            <a:ext cx="7777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朱虹璇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9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月出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考分数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66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数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文综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39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南康中学高三文科实验班学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55640" y="189000"/>
            <a:ext cx="7777080" cy="581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江西文科第一名朱虹璇：博览群书功底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江西文科第一名朱虹璇：博览群书功底厚(图)"/>
          <p:cNvPicPr/>
          <p:nvPr/>
        </p:nvPicPr>
        <p:blipFill>
          <a:blip r:embed="rId2"/>
          <a:srcRect l="0" t="0" r="0" b="16830"/>
          <a:stretch/>
        </p:blipFill>
        <p:spPr>
          <a:xfrm>
            <a:off x="4716360" y="981000"/>
            <a:ext cx="38102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403280" y="537372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贵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考文科高分考生陈芳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理科高分考生高立力同是遵义人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贵州高考文理高分考生强者对话：久闻大名(图)"/>
          <p:cNvPicPr/>
          <p:nvPr/>
        </p:nvPicPr>
        <p:blipFill>
          <a:blip r:embed="rId1"/>
          <a:srcRect l="0" t="0" r="0" b="14995"/>
          <a:stretch/>
        </p:blipFill>
        <p:spPr>
          <a:xfrm>
            <a:off x="826920" y="324000"/>
            <a:ext cx="74901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贵州高考文理高分考生强者对话：久闻大名(图)"/>
          <p:cNvPicPr/>
          <p:nvPr/>
        </p:nvPicPr>
        <p:blipFill>
          <a:blip r:embed="rId1"/>
          <a:srcRect l="35302" t="0" r="0" b="14995"/>
          <a:stretch/>
        </p:blipFill>
        <p:spPr>
          <a:xfrm>
            <a:off x="4211640" y="476280"/>
            <a:ext cx="4645080" cy="59054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50920" y="1052640"/>
            <a:ext cx="374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状元档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遵义县一中高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[21]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姓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立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成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理科综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9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7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539640" y="573408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贵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科状元陈芳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贵州高考文理高分考生强者对话：久闻大名(图)"/>
          <p:cNvPicPr/>
          <p:nvPr/>
        </p:nvPicPr>
        <p:blipFill>
          <a:blip r:embed="rId1"/>
          <a:srcRect l="0" t="0" r="64707" b="14995"/>
          <a:stretch/>
        </p:blipFill>
        <p:spPr>
          <a:xfrm>
            <a:off x="846000" y="333360"/>
            <a:ext cx="2944800" cy="53276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4356000" y="507960"/>
            <a:ext cx="4464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高考成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8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7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我的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是北京大学的经济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79280" y="456120"/>
            <a:ext cx="3168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  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科状元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姓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赵旭照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数学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理科综合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专业意向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平度一中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rcRect l="38232" t="0" r="0" b="0"/>
          <a:stretch/>
        </p:blipFill>
        <p:spPr>
          <a:xfrm>
            <a:off x="3606840" y="333360"/>
            <a:ext cx="51418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995640" y="549360"/>
            <a:ext cx="468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学习循循渐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赵旭照一上高三就给自己定了三轮复习计划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第一轮：详细的复习每一个细节，直到第一次模拟考试结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第二轮：大块内容复习，知识系统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第三轮：针对高考，练习应考技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基本上就是跟着老师的进度走，注重学习技巧，并且要努力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rcRect l="64539" t="0" r="0" b="0"/>
          <a:stretch/>
        </p:blipFill>
        <p:spPr>
          <a:xfrm>
            <a:off x="755640" y="620640"/>
            <a:ext cx="2952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河北文科状元武桐：给布娃娃做衣服的快乐女孩"/>
          <p:cNvPicPr/>
          <p:nvPr/>
        </p:nvPicPr>
        <p:blipFill>
          <a:blip r:embed="rId1"/>
          <a:stretch/>
        </p:blipFill>
        <p:spPr>
          <a:xfrm>
            <a:off x="395280" y="404640"/>
            <a:ext cx="4392720" cy="35704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539640" y="4221000"/>
            <a:ext cx="7561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河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科状元    武   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总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66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语文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，数学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英语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4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，文综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3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292720" y="662040"/>
            <a:ext cx="352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经验之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题做得少，但并不意味着不去做题。完成基本的作业那肯定是必不可少，但武桐说自己喜欢对一个题翻来覆去地“想”，她认为这样很有意思。同样让武桐感到有兴趣的是那些语文课本。“很喜欢！”她这样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bai</dc:creator>
  <dc:description/>
  <dc:language>en-US</dc:language>
  <cp:lastModifiedBy>User</cp:lastModifiedBy>
  <dcterms:modified xsi:type="dcterms:W3CDTF">2013-04-13T14:12:13Z</dcterms:modified>
  <cp:revision>5</cp:revision>
  <dc:subject/>
  <dc:title>幻灯片 1</dc:title>
</cp:coreProperties>
</file>