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9.gif" ContentType="image/gif"/>
  <Override PartName="/ppt/media/image18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685-2A82-44D0-BEAA-54DF83346B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EB5-2F6E-47C1-8684-C402A70DD5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2B9-9152-4B16-841B-6705F6422C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216-1481-4AE8-B958-4E9DEBE1DB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9BF-3BE5-424A-B071-945DE34C01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12E-CE0B-4DBA-A1BE-ACD1B77776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09C-1480-42A4-B75F-21A1B786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682-6B88-4843-8B5E-AC57096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879-4F88-4980-9786-E8F32266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357-2C47-49B0-A8B4-3DD494E4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D5A-D238-4E66-8336-2CB021D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444-7E76-4356-98C1-67C284B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97D-9C3C-479D-B49D-7AEBB95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D34-EFA1-44EC-A040-2D942AC0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FD2-0646-4F42-B20A-3D48A060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CD3-E2E2-40B1-BC6E-36E0CC0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B8B-9892-4136-8D0F-500FF8E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693-4603-4AF6-B912-68462B3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A87-62F0-4CB1-AC73-E2E67EE7C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599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537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11640" y="3284640"/>
            <a:ext cx="47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a50021"/>
                </a:solidFill>
                <a:latin typeface="Times New Roman"/>
                <a:ea typeface="隶书"/>
              </a:rPr>
              <a:t>回报父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62064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a50021"/>
                </a:solidFill>
                <a:latin typeface="Times New Roman"/>
                <a:ea typeface="隶书"/>
              </a:rPr>
              <a:t>感悟母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-23760" y="5950080"/>
            <a:ext cx="9298080" cy="99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0140200">
            <a:off x="1835280" y="1052280"/>
            <a:ext cx="9144000" cy="48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2627280" y="26028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母亲的诠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404640"/>
            <a:ext cx="8838720" cy="3818160"/>
            <a:chOff x="684360" y="404640"/>
            <a:chExt cx="8838720" cy="3818160"/>
          </a:xfrm>
        </p:grpSpPr>
        <p:sp>
          <p:nvSpPr>
            <p:cNvPr id="93" name=""/>
            <p:cNvSpPr/>
            <p:nvPr/>
          </p:nvSpPr>
          <p:spPr>
            <a:xfrm>
              <a:off x="684360" y="404640"/>
              <a:ext cx="8838720" cy="38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404640"/>
              <a:ext cx="8838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仔细想想，原来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Mother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词是可以这样解释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0920" y="1700280"/>
            <a:ext cx="68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 Much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妈妈给了我很多很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349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 Old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妈妈为我操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发已爬上了您的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7200" y="3068640"/>
            <a:ext cx="44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ear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您为我流过不少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6560" y="37893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H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eart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您有一颗慈祥温暖的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437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您注视我的目光总是充满着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300640"/>
            <a:ext cx="8820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您从不欺骗我们，教导我们去做正确的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260280"/>
            <a:ext cx="57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父亲 的诠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162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Forgive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我们做错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都会微笑着宽恕我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6360" y="2639520"/>
            <a:ext cx="95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们遇到挫折时，您永远是我们最坚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Tender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的目光总是充满着温柔和慈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76640"/>
            <a:ext cx="91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H (Harbor)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我们心灵休憩的港湾，永远张开双手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迎我们这些倦鸟的归来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006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E (Endless 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对我们的爱永无止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R (Remind) 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方的我们又一次想起了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549360"/>
            <a:ext cx="8838720" cy="3817800"/>
            <a:chOff x="0" y="549360"/>
            <a:chExt cx="8838720" cy="3817800"/>
          </a:xfrm>
        </p:grpSpPr>
        <p:sp>
          <p:nvSpPr>
            <p:cNvPr id="109" name=""/>
            <p:cNvSpPr/>
            <p:nvPr/>
          </p:nvSpPr>
          <p:spPr>
            <a:xfrm>
              <a:off x="0" y="549360"/>
              <a:ext cx="88387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549360"/>
              <a:ext cx="8838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仔细想想，原来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Father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词是可以这样解释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24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</a:rPr>
              <a:t>感恩的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773360"/>
            <a:ext cx="8748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我来自偶然           像一颗尘土       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我来自何方          我情归何处        谁在下一刻呼唤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天地虽宽             这条路却难走     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我还有多少爱     我还有多少泪     要苍天知道我不认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感恩的心            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伴我一生           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感恩的心           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cc"/>
                </a:solidFill>
                <a:latin typeface="Times New Roman"/>
              </a:rPr>
              <a:t>花开花落           我一样会珍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、身边数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万秒可以折合成多少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6576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一年应有多少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点击查看原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9280" y="907920"/>
            <a:ext cx="72741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>
                        <a:alpha val="73333"/>
                      </a:srgbClr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回报父 母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>
                      <a:alpha val="73333"/>
                    </a:srgbClr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>
                        <a:alpha val="73333"/>
                      </a:srgbClr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             </a:t>
            </a: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>
                        <a:alpha val="73333"/>
                      </a:srgbClr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热爱祖 国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>
                      <a:alpha val="73333"/>
                    </a:srgbClr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2360" y="393372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60280"/>
            <a:ext cx="3530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古诗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373720"/>
            <a:ext cx="3124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孟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58053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49309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4643280" y="333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游子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635280" y="836640"/>
          <a:ext cx="5256360" cy="225108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慈母手中线，游子身上衣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临行密密缝，意恐迟迟归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谁言寸草心，报得三春晖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5600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357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042920" y="476280"/>
            <a:ext cx="1828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动画欣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10800000">
            <a:off x="0" y="-36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32480" y="404640"/>
            <a:ext cx="91152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感恩父母的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729520" y="100080"/>
            <a:ext cx="10729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是您     将我带到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教会我在成长中   如何走过沟沟坎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是您领我认识世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天寒地冻时  将我双手放入怀中温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您用爱心穿引的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那一针一线     都是您的爱在悄悄蔓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如果我是风筝   您就是拉动风筝的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如果我是一条船     您就是灯塔是港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这就是父母的爱       这就是父母的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她柔柔如水   轻轻如烟   深沉如海 恩重如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鲜花可以枯萎     沧海可变桑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但父母的爱       却永远留在我们的心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3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3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3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360" y="907920"/>
            <a:ext cx="324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男生独唱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solidFill>
                <a:srgbClr val="cc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8000" y="3573360"/>
            <a:ext cx="6142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烛光里的妈妈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63640" y="1844640"/>
            <a:ext cx="197496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小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95640" y="2924280"/>
            <a:ext cx="266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回家</a:t>
            </a:r>
            <a:endParaRPr b="1" lang="en-US" sz="6000" spc="1" strike="noStrike">
              <a:ln w="9360">
                <a:solidFill>
                  <a:srgbClr val="99cc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2484360" y="620640"/>
            <a:ext cx="5832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的生日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的体重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的身高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穿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码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喜欢颜色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喜欢水果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喜欢的花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你父母喜欢的日常消遣活动是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_____________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 rot="5400000">
            <a:off x="-1657080" y="267264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新魏"/>
              </a:rPr>
              <a:t>你是否了解你的父母？</a:t>
            </a:r>
            <a:endParaRPr b="1" lang="en-US" sz="5400" spc="1" strike="noStrike">
              <a:ln w="0">
                <a:noFill/>
              </a:ln>
              <a:solidFill>
                <a:srgbClr val="ff3399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55640" y="260280"/>
            <a:ext cx="42433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心与心的互动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48428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想对你父母说的一句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539640" y="2178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是否了解你父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539640" y="2970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是否关心你父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860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成人之后准备如何报答你父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9736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是否经常和你父母联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73408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谁是我们班最了解父母的同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1:17:3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31:08Z</dcterms:modified>
  <cp:revision>41</cp:revision>
  <dc:subject>主题班会课件(分28大类): http://shop62905894.taobao.com</dc:subject>
  <dc:title>主题班会课件(分28大类): http://shop62905894.taobao.com</dc:title>
</cp:coreProperties>
</file>