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FFE-FFED-49E2-BDAF-E7E40E0B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A79-21D5-4559-80CB-84B222CC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EAF-27CF-44DE-8872-6753E63A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83A-D529-49AF-8163-C942F02E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95F-0DBF-4F89-AF30-6C4E8D20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72-2561-487F-ADE6-5C62E8D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E9A-A586-4133-8C08-250A325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B8D-7C6F-4952-8456-6D42A79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186-BBFA-4544-98EE-873025A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3F0-3B3E-4D16-A497-B3494D5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495-50C9-4220-B861-0E04B65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21-60C4-430D-B401-2616352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88C-0934-407B-9C92-238DD91171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C:/Documents%20and%20Settings/Administrator/&#26700;&#38754;/6553500015209.mp3" TargetMode="External"/><Relationship Id="rId3" Type="http://schemas.openxmlformats.org/officeDocument/2006/relationships/hyperlink" Target="file:///C:/Documents%20and%20Settings/Administrator/&#26700;&#38754;/6553500015209.mp3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file:///C:/Documents%20and%20Settings/Administrator/&#26700;&#38754;/&#28891;&#20809;&#37324;&#30340;&#22920;&#22920;.mp3" TargetMode="External"/><Relationship Id="rId4" Type="http://schemas.openxmlformats.org/officeDocument/2006/relationships/hyperlink" Target="file:///C:/Documents%20and%20Settings/Administrator/&#26700;&#38754;/&#28891;&#20809;&#37324;&#30340;&#22920;&#22920;.mp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2708280"/>
            <a:ext cx="487656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99cc00"/>
                </a:solidFill>
                <a:latin typeface="华文楷体"/>
              </a:rPr>
              <a:t>感恩的心</a:t>
            </a:r>
            <a:endParaRPr b="1" lang="en-US" sz="9600" spc="1" strike="noStrike">
              <a:ln w="9360">
                <a:solidFill>
                  <a:srgbClr val="ff3300"/>
                </a:solidFill>
                <a:miter/>
              </a:ln>
              <a:solidFill>
                <a:srgbClr val="99cc00"/>
              </a:solidFill>
              <a:latin typeface="华文楷体"/>
              <a:ea typeface="华文楷体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589720"/>
            <a:ext cx="5333760" cy="366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589720"/>
            <a:ext cx="4248000" cy="576000"/>
          </a:xfrm>
          <a:prstGeom prst="rect">
            <a:avLst/>
          </a:prstGeom>
          <a:solidFill>
            <a:srgbClr val="f1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229360"/>
            <a:ext cx="503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邻水二中高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2009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级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班</a:t>
            </a: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19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6640"/>
            <a:ext cx="91440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上联：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一支粉笔两袖清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三尺讲台四季晴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加上五脏六腑七嘴八舌九思十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　 教必有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朝朝暮暮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诚滋桃李满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716280"/>
            <a:ext cx="853416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下联：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十卷诗赋九章勾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八索文思七纬地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连同六艺五经四书三字两雅一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　 诲人不倦点点滴滴勤育英才泽神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请欣赏下面的对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484280"/>
            <a:ext cx="47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b7fea"/>
                </a:solidFill>
                <a:latin typeface="华文彩云"/>
                <a:ea typeface="华文彩云"/>
              </a:rPr>
              <a:t>下面请听听同学的心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5560" y="3933720"/>
            <a:ext cx="1742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长大后我就成了你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老师？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24360" y="386064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66274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勤奋成才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>
                      <a:alpha val="66274"/>
                    </a:srgbClr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00000" cy="191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87280" y="2205000"/>
            <a:ext cx="6697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第三部曲  友谊长存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20200" y="31802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89000"/>
            <a:ext cx="482436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Arial Black"/>
                <a:ea typeface="宋体"/>
              </a:rPr>
              <a:t> </a:t>
            </a:r>
            <a:r>
              <a:rPr b="1" lang="zh-CN" sz="3600" spc="-1" strike="noStrike">
                <a:solidFill>
                  <a:srgbClr val="006699"/>
                </a:solidFill>
                <a:latin typeface="Arial Black"/>
                <a:ea typeface="宋体"/>
              </a:rPr>
              <a:t>朋友</a:t>
            </a:r>
            <a:br>
              <a:rPr sz="36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这些年一个人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风也过雨也走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有过泪有过错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还记得坚持甚麽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真爱过才会懂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会寂寞会回首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终有梦终有你在心中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朋友一生一起走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那些日子不再有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一句话一辈子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一生情一杯酒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朋友不曾孤单过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一声朋友你会懂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还有伤还有痛</a:t>
            </a:r>
            <a:br>
              <a:rPr sz="2400"/>
            </a:br>
            <a:r>
              <a:rPr b="1" lang="zh-CN" sz="2400" spc="-1" strike="noStrike">
                <a:solidFill>
                  <a:srgbClr val="006699"/>
                </a:solidFill>
                <a:latin typeface="Arial Black"/>
                <a:ea typeface="宋体"/>
              </a:rPr>
              <a:t>还要走还有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30995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同学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19640" y="371628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solidFill>
                    <a:srgbClr val="66ff66"/>
                  </a:solidFill>
                </a:ln>
                <a:solidFill>
                  <a:srgbClr val="ccffff">
                    <a:alpha val="46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关爱友善</a:t>
            </a:r>
            <a:endParaRPr b="0" lang="en-US" sz="1800" spc="1" strike="noStrike">
              <a:ln w="0">
                <a:solidFill>
                  <a:srgbClr val="66ff66"/>
                </a:solidFill>
              </a:ln>
              <a:solidFill>
                <a:srgbClr val="ccffff">
                  <a:alpha val="46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92360" y="306864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66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讨论：还有哪些可感恩？</a:t>
            </a:r>
            <a:endParaRPr b="0" lang="en-US" sz="1800" spc="1" strike="noStrike">
              <a:ln w="0">
                <a:noFill/>
              </a:ln>
              <a:solidFill>
                <a:srgbClr val="ff0066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620640"/>
            <a:ext cx="6697800" cy="59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生育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们使我们体验生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感激抚养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因为他们使我们不断成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帮助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们使我们度过难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感激关怀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因为他们给我们温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鼓励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们给我们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26028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449280"/>
            <a:ext cx="6553080" cy="65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感激教育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因为他们开化我们的蒙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伤害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们磨炼了我们的心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感激绊倒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因为他强化了我们的双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欺骗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们增进了我们的智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感激藐视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因为他觉醒了我们的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尊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感激遗弃我们的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因为他教会了我们该独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4680" y="23493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076d0"/>
                </a:solidFill>
                <a:latin typeface="Arial"/>
                <a:ea typeface="隶书"/>
              </a:rPr>
              <a:t>感恩，使人变得美丽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076d0"/>
                </a:solidFill>
                <a:latin typeface="Arial"/>
                <a:ea typeface="隶书"/>
              </a:rPr>
              <a:t>感恩，让世界充满爱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6640" y="76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76d0"/>
                </a:solidFill>
                <a:latin typeface="Times New Roman"/>
                <a:ea typeface="宋体"/>
              </a:rPr>
              <a:t>感恩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7640" y="-360"/>
            <a:ext cx="1441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手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语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表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演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感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恩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的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1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67280" y="333360"/>
            <a:ext cx="79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全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体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合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唱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：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让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世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界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充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满</a:t>
            </a:r>
            <a:br>
              <a:rPr sz="3600"/>
            </a:br>
            <a:r>
              <a:rPr b="1" lang="zh-CN" sz="3600" spc="-1" strike="noStrike">
                <a:solidFill>
                  <a:srgbClr val="ff2b01"/>
                </a:solidFill>
                <a:latin typeface="宋体"/>
                <a:ea typeface="宋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1173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68360" y="2349360"/>
            <a:ext cx="47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的指导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112536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宋体"/>
              </a:rPr>
              <a:t>游子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慈母手中线，游子身上衣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临行密密缝，意恐迟迟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谁言寸草心，报得三春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421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[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]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孟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9161640"/>
            <a:ext cx="9144000" cy="6048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1618920" y="0"/>
            <a:ext cx="3519000" cy="5977080"/>
            <a:chOff x="1618920" y="0"/>
            <a:chExt cx="3519000" cy="5977080"/>
          </a:xfrm>
        </p:grpSpPr>
        <p:sp>
          <p:nvSpPr>
            <p:cNvPr id="56" name=""/>
            <p:cNvSpPr txBox="1"/>
            <p:nvPr/>
          </p:nvSpPr>
          <p:spPr>
            <a:xfrm rot="5400000">
              <a:off x="525240" y="1092960"/>
              <a:ext cx="4658040" cy="2471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80000"/>
                      </a:srgbClr>
                    </a:outerShdw>
                  </a:effectLst>
                  <a:latin typeface="宋体"/>
                </a:rPr>
                <a:t>第一部曲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80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 rot="5400000">
              <a:off x="2405520" y="3245040"/>
              <a:ext cx="3816360" cy="1647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80000"/>
                      </a:srgbClr>
                    </a:outerShdw>
                  </a:effectLst>
                  <a:latin typeface="宋体"/>
                </a:rPr>
                <a:t>感恩父母</a:t>
              </a:r>
              <a:endPara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51280" y="69228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Wingdings 2"/>
                <a:ea typeface="Wingdings 2"/>
              </a:rPr>
              <a:t>你对父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516640"/>
            <a:ext cx="1944720" cy="576360"/>
          </a:xfrm>
          <a:prstGeom prst="rect">
            <a:avLst/>
          </a:prstGeom>
          <a:solidFill>
            <a:srgbClr val="f3f7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013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知多少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　　　请同学思考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１、你知道父母的生日、身高、体重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２、你知道父母喜欢颜色、水果、花、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３、你父母喜欢的日常消遣活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４、你父母什么时候有了白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５、你父母什么时候有了皱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６、你父母最爱吃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７、你父母什么时候最开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８、你父母什么时候最难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９、你父母最大的愿望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宋体"/>
              </a:rPr>
              <a:t>１０、你父母最大的遗憾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5640" y="1268280"/>
            <a:ext cx="51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有一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平凡而又伟大的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当我们一遍又一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　　重播着母亲这部电影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　　泪流满面的我们已完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　　与母亲融为了一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就象是一部长电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永远珍藏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敬仰的心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56000" y="0"/>
            <a:ext cx="3168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>
                    <a:alpha val="58000"/>
                  </a:srgbClr>
                </a:solidFill>
                <a:latin typeface="宋体"/>
              </a:rPr>
              <a:t>母亲颂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>
                  <a:alpha val="58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-541440" y="1341360"/>
            <a:ext cx="56880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就象一部长电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放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生命的最后时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部电影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我们看到了母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朴实、憨厚、勤劳和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用她甘甜的乳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哺育了我们、喂养了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这是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身的幸福和骄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4341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父母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08360" y="393372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66274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尽孝成才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>
                      <a:alpha val="66274"/>
                    </a:srgbClr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20320" y="5084640"/>
            <a:ext cx="14684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烛光里的妈妈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11280" y="1916280"/>
            <a:ext cx="316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二部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356000" y="1989000"/>
            <a:ext cx="338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师恩难忘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20:10:12Z</dcterms:created>
  <dc:creator>主题班会课件(分28大类): http://shop62905894.taobao.com</dc:creator>
  <dc:description>书利华教育网【www.ShuLiHua.net】</dc:description>
  <cp:keywords>主题班会课件(分28大类): http://shop62905894.taobao.com</cp:keywords>
  <dc:language>en-US</dc:language>
  <cp:lastModifiedBy>User</cp:lastModifiedBy>
  <dcterms:modified xsi:type="dcterms:W3CDTF">2013-04-13T17:36:38Z</dcterms:modified>
  <cp:revision>7</cp:revision>
  <dc:subject>主题班会课件(分28大类): http://shop62905894.taobao.com</dc:subject>
  <dc:title>主题班会课件(分28大类): http://shop62905894.taobao.com</dc:title>
</cp:coreProperties>
</file>