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1.jpeg" ContentType="image/jpeg"/>
  <Override PartName="/ppt/media/image29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0.png" ContentType="image/png"/>
  <Override PartName="/ppt/media/image7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wmf" ContentType="image/x-wmf"/>
  <Override PartName="/ppt/media/image16.gif" ContentType="image/gif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5203-64CC-4E3A-8082-D80E72E6D8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3F71-A843-48BE-8558-5258D7CFDB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2D2-98A0-4914-99AE-6AA0C026A2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F8EA-C090-4A2D-A146-A042DF2361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0D93-43E8-42A9-9E5F-EA02BC4D60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C5D8-AB16-436C-95A0-1EF9AEBB84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3E6-CFA2-44A3-9D1A-0331631D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1E8-CCA9-4D47-961A-6D91C40D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BE3-E09D-4AFE-B737-60781717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529-5032-497D-AD28-A414F608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F41-DE4F-465D-9BCD-38DE7A3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75B-0711-4986-A3B8-D20EC585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8FA-A2AD-4D32-A4B5-325BF2D7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5CB-6EC5-47E1-B4A7-43E433FF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60A-E1D4-4198-8538-45D69099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748-5C76-4FD9-896D-C9672AD7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D10-B64E-40B6-A432-508D055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EB1-923C-4699-A6B0-9D050022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2CBD-ECFF-48CC-BE88-4436F402F3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10920" y="1889280"/>
            <a:ext cx="5222160" cy="44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寺庙的住持给寺院立了一条规矩：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年底，寺庙的和尚都要对住持说两个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年，新和尚说：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床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年，新和尚说：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食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年，新和尚说：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告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持摇头道：“心中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难成正果，可惜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惜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和尚心中的“魔”是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708280"/>
            <a:ext cx="8640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97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唐山大地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,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们发现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个震撼人心的事实：许多年轻的母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都把孩子紧紧护在怀中，僵硬为辉煌的雕塑。……孩子们在怀里虽然永远闭上了眼睛，身体却毫发未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605320" cy="324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1197000"/>
            <a:ext cx="694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台湾著名学者、作家刘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《忍着不死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645000"/>
            <a:ext cx="87267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之一：讲的是在亚美尼亚大地震中，……原来是她的母亲咬破手指，让孩子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吮自己的鲜血得以不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85264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二：一位母亲在绝望中，屈下身来，以自己的背、头及四肢紧紧环抱腹中的幼子，熊熊燃烧的熔岩在一瞬间将母子相拥的情景化作历史的永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00988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2421000"/>
            <a:ext cx="89154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那位美国记者眼中噙满泪水地对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墉说：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黑体"/>
              </a:rPr>
              <a:t>“她是怕压着肚子里的孩子，才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黑体"/>
              </a:rPr>
              <a:t>着不死，蹲了下去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819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新宋体"/>
                <a:ea typeface="新宋体"/>
              </a:rPr>
              <a:t>母爱伟大</a:t>
            </a:r>
            <a:r>
              <a:rPr b="1" lang="zh-CN" sz="60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新宋体"/>
                <a:ea typeface="新宋体"/>
              </a:rPr>
              <a:t>特别是生命被死神骤然紧逼时</a:t>
            </a:r>
            <a:r>
              <a:rPr b="1" lang="zh-CN" sz="60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新宋体"/>
                <a:ea typeface="新宋体"/>
              </a:rPr>
              <a:t>更显出一种惊心动魄的悲壮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404440" y="369720"/>
            <a:ext cx="4569840" cy="61290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母爱是撒哈拉沙漠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母骆驼为使即将渴死的小骆驼喝到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纵身跳进深潭的壮举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母爱是油锅滚沸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母鳝鱼为保护腹内的鱼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始终弓起中间身子的优美姿态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母爱是在猎人的陷阱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母狼望着被打死的小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而在月夜下呜咽地号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母爱更是鹰抛子空中的果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母爱也是狮逐子离群的理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52400" y="-1050840"/>
            <a:ext cx="4569480" cy="9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母亲啊，你是荷叶，我是红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心中的雨点来了，除了你，谁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我在无遮拦的天空下的荫蔽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           ——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冰心《荷叶母亲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53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16400" y="1295280"/>
            <a:ext cx="429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父母用爱托起了我们的生命之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父母用爱滋润了我们稚嫩的心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父母用爱抚慰了我们孤寂的心灵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父母用爱温暖了我们整整一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165640"/>
            <a:ext cx="9150480" cy="168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flipH="1">
            <a:off x="7543440" y="3419640"/>
            <a:ext cx="160020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905120"/>
            <a:ext cx="6933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母亲的诠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仔细想想，原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词是可以这样解释的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228600"/>
            <a:ext cx="79250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妈妈给了我很多很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妈妈为我操心，白发已爬                               上了您的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438280"/>
            <a:ext cx="8991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ear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您为我流过不少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H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heart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您有一颗慈祥温暖的心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1148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ye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您注视我的目光总是充满着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R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right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您从不欺骗我们，教导我们去做正确的事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80880" y="213372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一点启示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/>
          <p:nvPr/>
        </p:nvSpPr>
        <p:spPr>
          <a:xfrm>
            <a:off x="3798000" y="3486240"/>
            <a:ext cx="15321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从不去想自己得到了是什么，而是一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抱怨自己的需求没有满足。只知索取，不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报，更谈不上感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5029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2880" y="65736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父母给了我们最无私的爱，最慷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的情，最深切的期待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56560" y="3168720"/>
            <a:ext cx="29923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  <a:ea typeface="华文中宋"/>
              </a:rPr>
              <a:t>“</a:t>
            </a:r>
            <a:r>
              <a:rPr b="1" lang="zh-CN" sz="4400" spc="-1" strike="noStrike">
                <a:solidFill>
                  <a:srgbClr val="993366"/>
                </a:solidFill>
                <a:latin typeface="Times New Roman"/>
                <a:ea typeface="华文中宋"/>
              </a:rPr>
              <a:t>我对得住父母吗？”、“我该如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  <a:ea typeface="华文中宋"/>
              </a:rPr>
              <a:t>回报父母？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971800" cy="403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3623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95480" y="533520"/>
            <a:ext cx="4496040" cy="3733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7920" y="1676520"/>
            <a:ext cx="25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和父母顶嘴后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扬长而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77280" y="2583000"/>
            <a:ext cx="3106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母关心他的学习，他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华文行楷"/>
              </a:rPr>
              <a:t>“</a:t>
            </a:r>
            <a:r>
              <a:rPr b="1" lang="zh-CN" sz="4800" spc="-1" strike="noStrike">
                <a:solidFill>
                  <a:srgbClr val="993366"/>
                </a:solidFill>
                <a:latin typeface="Times New Roman"/>
                <a:ea typeface="华文行楷"/>
              </a:rPr>
              <a:t>烦不烦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4670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20040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35400" y="3809880"/>
            <a:ext cx="25826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学前，对父母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7c80"/>
                </a:solidFill>
                <a:latin typeface="Times New Roman"/>
                <a:ea typeface="华文行楷"/>
              </a:rPr>
              <a:t>给我零花钱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2133720"/>
            <a:ext cx="1143000" cy="1981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800600" y="457200"/>
            <a:ext cx="4114800" cy="548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8000" y="1447920"/>
            <a:ext cx="219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</a:rPr>
              <a:t>放学后，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</a:rPr>
              <a:t>亲在拖地，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</a:rPr>
              <a:t>亲在洗衣，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</a:rPr>
              <a:t>却翘起二郎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</a:rPr>
              <a:t>在看电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85480" y="2708280"/>
            <a:ext cx="6861600" cy="31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我们年轻的时候不懂事，当我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懂事的时候已不再年轻。世上有些东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弥补，但有些东西却永远无法补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毕淑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5334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8380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54720" y="836640"/>
            <a:ext cx="535176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父母之爱如一缕缕春风抚慰着我们，又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一丝丝阳光温暖着我们，让我们一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     </a:t>
            </a:r>
            <a:r>
              <a:rPr b="1" lang="zh-CN" sz="54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重温父母点点滴滴的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     </a:t>
            </a:r>
            <a:r>
              <a:rPr b="1" lang="zh-CN" sz="54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表达子女心中感恩之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920" y="2362320"/>
            <a:ext cx="5410080" cy="38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66ff"/>
                </a:solidFill>
                <a:latin typeface="Times New Roman"/>
                <a:ea typeface="隶书"/>
              </a:rPr>
              <a:t>致   词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隶书"/>
              </a:rPr>
              <a:t>               </a:t>
            </a: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隶书"/>
              </a:rPr>
              <a:t>冰 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609480"/>
            <a:ext cx="7696080" cy="66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假如我去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落花般的去了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母亲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我的故枝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明年春日我又回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到我 生命的根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参天凌云的你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你还认得这一阵微微的芬芳么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990720"/>
            <a:ext cx="6782040" cy="498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她凝然……含泪的望着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无语—无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母亲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致词如此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累你凄楚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万全之爱无别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万全之爱无生死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21932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777600">
            <a:off x="1370160" y="995400"/>
            <a:ext cx="644184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感恩的心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sp>
        <p:nvSpPr>
          <p:cNvPr id="59" name=""/>
          <p:cNvSpPr/>
          <p:nvPr/>
        </p:nvSpPr>
        <p:spPr>
          <a:xfrm>
            <a:off x="1888200" y="4800600"/>
            <a:ext cx="537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华文中宋"/>
                <a:ea typeface="华文中宋"/>
              </a:rPr>
              <a:t>——</a:t>
            </a:r>
            <a:r>
              <a:rPr b="1" lang="zh-CN" sz="4400" spc="-1" strike="noStrike">
                <a:solidFill>
                  <a:srgbClr val="ff7c80"/>
                </a:solidFill>
                <a:latin typeface="华文中宋"/>
                <a:ea typeface="华文中宋"/>
              </a:rPr>
              <a:t>高二（</a:t>
            </a:r>
            <a:r>
              <a:rPr b="1" lang="zh-CN" sz="4400" spc="-1" strike="noStrike">
                <a:solidFill>
                  <a:srgbClr val="ff7c80"/>
                </a:solidFill>
                <a:latin typeface="华文中宋"/>
                <a:ea typeface="华文中宋"/>
              </a:rPr>
              <a:t>6</a:t>
            </a:r>
            <a:r>
              <a:rPr b="1" lang="zh-CN" sz="4400" spc="-1" strike="noStrike">
                <a:solidFill>
                  <a:srgbClr val="ff7c80"/>
                </a:solidFill>
                <a:latin typeface="华文中宋"/>
                <a:ea typeface="华文中宋"/>
              </a:rPr>
              <a:t>）班主题班会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46760" y="831960"/>
            <a:ext cx="8428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</a:t>
            </a:r>
            <a:r>
              <a:rPr b="1" lang="zh-CN" sz="6600" spc="-1" strike="noStrike">
                <a:solidFill>
                  <a:srgbClr val="cc3300"/>
                </a:solidFill>
                <a:latin typeface="Times New Roman"/>
                <a:ea typeface="隶书"/>
              </a:rPr>
              <a:t>新三字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为人子   方少时    尊长辈    习礼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孝与悌   须继承    爱父母    意深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亲养儿   多苦辛    报春晖    寸草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亲有教   儿恭听    做错事    即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家务事   乐承担    洗碗筷    扫门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家爱我   我爱家    推此心    爱中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03640" y="3645000"/>
            <a:ext cx="4140360" cy="321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085720" y="287280"/>
            <a:ext cx="26182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Arial"/>
                <a:ea typeface="黑体"/>
              </a:rPr>
              <a:t>献给母亲的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0010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829520" y="2205000"/>
            <a:ext cx="5514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谢父母给了我们生命，让我们享受到了人世间的亲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幸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谢老师的谆谆教诲，让我们尝到了学习知识的快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谢同学真诚的关怀和帮助，让我们懂得了友情的可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谢社会上所有人的关爱，感谢他们伸出援助之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谢春天的花草，让我们感受到了生命喷涌的活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谢秋天的落叶，让我们领悟到了生命壮丽的回归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8580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391160" cy="377352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3816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00600" y="5791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罗中立的油画《父亲》获全国第二届青年美展第一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 rot="5400000">
            <a:off x="-799920" y="2400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为人子女者，你读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懂这份感情了吗？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5551560" cy="6167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61960" y="304920"/>
            <a:ext cx="13993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同学谈谈对这幅画的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3200400"/>
            <a:ext cx="79930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有一种美丽的语言能说尽母爱吗？我觉得不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有什么神奇的标尺能衡量母爱吗？我认为不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45720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新宋体"/>
              </a:rPr>
              <a:t>母爱无边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新宋体"/>
              <a:ea typeface="新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91280" y="45720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692280"/>
            <a:ext cx="860436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位年轻的母亲，不顾自己的大腿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被乱石压断，在齐腰深的泥石流中双手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举着仅有几个大的婴儿，艰难地挺立了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多小时。她一直坚持到清晨，等来了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援的人们，婴儿竟然毫发无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81360"/>
            <a:ext cx="914400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这就是我们的母亲！那环绕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的正是中华母亲的母性之光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2421000"/>
            <a:ext cx="867564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南京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.31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空难中，……丹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妈妈贡红梅紧紧地把孩子搂在怀里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自己的身躯挡住乱石异物和扑面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烈焰，贡红梅用自己的死换来了小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妮的生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01:36:32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32:37Z</dcterms:modified>
  <cp:revision>8</cp:revision>
  <dc:subject>主题班会课件(分28大类): http://shop62905894.taobao.com</dc:subject>
  <dc:title>主题班会课件(分28大类): http://shop62905894.taobao.com</dc:title>
</cp:coreProperties>
</file>