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008F-CEC3-47DE-944C-EC8E1903C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9263-7D6E-4D74-8197-1135858FD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EE00-E40F-4FA8-8F11-CEA210144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9F0D-D171-445E-90D1-382507C13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F94F9-3340-41C3-9E76-73931819F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1EC07-8011-4B84-85E9-37DDAFEC2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AF31C-A62D-4E00-814B-24C1CF891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7A91F-6B9D-44E1-B9E4-4851BC4BB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C93C1-D3D8-479B-804E-5E12038E9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48A72-E764-47B2-A33C-A4EA4EE91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372DB-4A43-49CE-8296-FA4C30B6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0BE5-77BE-466F-966A-E4CBB748F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69997-134C-4955-BAC3-3938F7E0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A4178-44E5-4FFF-A3BE-9C7A290B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BCACB-78D0-4F72-91F0-7C5A259D7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AC02D-DA10-4EF5-982C-E6D6415D1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88FA9-AAE8-4EC1-9CF4-205C9E384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A8E6-EC15-46A0-910E-A97C44E81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367F-5BD0-4449-B76F-016EE3E9A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B16A-FFDA-4EB9-B479-08DEA53A2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D9D5-7ABA-4316-ABF3-74E6006DB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A3DE-4824-4CA1-A0E9-BC8D9109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1303-622D-468F-A007-EC433B57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9F93-31E0-45B5-B4FB-885DF4AA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C3C02-73FB-4EEA-AF6A-C969BDE0D0DB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20A90-13A1-430E-B9B1-D9D71EDE069C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716360" y="260280"/>
            <a:ext cx="3888000" cy="3024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79280" y="2924280"/>
            <a:ext cx="3838680" cy="34797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4716360" y="3429000"/>
            <a:ext cx="3961080" cy="2952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8388360" y="6337440"/>
            <a:ext cx="520560" cy="5205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116000" y="1558440"/>
            <a:ext cx="25275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那是我小时侯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常坐在父亲肩头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父亲是儿那登天的梯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父亲是那拉车的牛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忘不了粗茶淡饭将我养大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忘不了一声长叹半壶老酒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等我长大后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山里孩子往外走</a:t>
            </a:r>
            <a:br>
              <a:rPr sz="2800"/>
            </a:b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11640" y="2492280"/>
            <a:ext cx="4859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想儿时一封家书千里循叮嘱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盼儿归一袋闷烟满天数星斗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都说养儿能防老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儿山高水远他乡留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都说养儿为防老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你再苦再累不张口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儿只有轻歌一曲和泪唱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愿天下父母平安渡春秋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250920" y="260280"/>
            <a:ext cx="3744720" cy="2592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645080" y="765000"/>
            <a:ext cx="3311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54000">
                  <a:solidFill>
                    <a:srgbClr val="000000"/>
                  </a:solidFill>
                  <a:miter/>
                </a:ln>
                <a:solidFill>
                  <a:srgbClr val="000066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父亲</a:t>
            </a:r>
            <a:endParaRPr b="0" lang="en-US" sz="2400" spc="1" strike="noStrike">
              <a:ln w="54000">
                <a:solidFill>
                  <a:srgbClr val="000000"/>
                </a:solidFill>
                <a:miter/>
              </a:ln>
              <a:solidFill>
                <a:srgbClr val="000066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8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diamond(out)" transition="out">
                                      <p:cBhvr additive="repl">
                                        <p:cTn id="2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13.0)">
                                      <p:cBhvr>
                                        <p:cTn id="63" dur="188997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06200" y="620640"/>
            <a:ext cx="14414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66"/>
                </a:solidFill>
                <a:latin typeface="Arial"/>
                <a:ea typeface="黑体"/>
              </a:rPr>
              <a:t>奋进</a:t>
            </a:r>
            <a:endParaRPr b="0" lang="en-US" sz="8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01800" y="620640"/>
            <a:ext cx="383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习要讲方法</a:t>
            </a:r>
            <a:endParaRPr b="0" lang="en-US" sz="8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44000" y="2771640"/>
            <a:ext cx="418104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99"/>
                </a:solidFill>
                <a:latin typeface="Arial"/>
              </a:rPr>
              <a:t>不为失败找理由</a:t>
            </a:r>
            <a:r>
              <a:rPr b="1" lang="en-US" sz="4800" spc="-1" strike="noStrike">
                <a:solidFill>
                  <a:srgbClr val="003399"/>
                </a:solidFill>
                <a:latin typeface="Arial"/>
              </a:rPr>
              <a:t>,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dc5900"/>
                </a:solidFill>
                <a:latin typeface="Arial"/>
              </a:rPr>
              <a:t>只为成功找方法</a:t>
            </a:r>
            <a:r>
              <a:rPr b="1" lang="en-US" sz="6600" spc="-1" strike="noStrike">
                <a:solidFill>
                  <a:srgbClr val="dc5900"/>
                </a:solidFill>
                <a:latin typeface="Arial"/>
              </a:rPr>
              <a:t>!</a:t>
            </a:r>
            <a:endParaRPr b="0" lang="en-US" sz="6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06200" y="620640"/>
            <a:ext cx="14414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66"/>
                </a:solidFill>
                <a:latin typeface="Arial"/>
                <a:ea typeface="黑体"/>
              </a:rPr>
              <a:t>奋进</a:t>
            </a:r>
            <a:endParaRPr b="0" lang="en-US" sz="8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57520" y="549360"/>
            <a:ext cx="627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珍惜时间</a:t>
            </a:r>
            <a:endParaRPr b="0" lang="en-US" sz="8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24640" y="2276640"/>
            <a:ext cx="2817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人生不售回程票</a:t>
            </a: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走过万斛泉</a:t>
            </a: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走过文汇桥</a:t>
            </a: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何日再来伍中</a:t>
            </a: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在花一样的年华里</a:t>
            </a: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200" y="620640"/>
            <a:ext cx="14414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66"/>
                </a:solidFill>
                <a:latin typeface="Arial"/>
                <a:ea typeface="黑体"/>
              </a:rPr>
              <a:t>奋进</a:t>
            </a:r>
            <a:endParaRPr b="0" lang="en-US" sz="8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797920" y="549360"/>
            <a:ext cx="444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确看待成与败</a:t>
            </a:r>
            <a:endParaRPr b="0" lang="en-US" sz="8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09680" y="3666960"/>
            <a:ext cx="4406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成功是什么</a:t>
            </a: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就是走过了所有通向失败的路</a:t>
            </a: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只剩下一条路</a:t>
            </a: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那就是成功的路</a:t>
            </a: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19680" y="2011320"/>
            <a:ext cx="2278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失败是什么</a:t>
            </a: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没什么</a:t>
            </a: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只是更走近成功一步</a:t>
            </a: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;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8920" y="404640"/>
            <a:ext cx="599904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dc5900"/>
                </a:solidFill>
                <a:latin typeface="Arial"/>
              </a:rPr>
              <a:t>爱拼才会赢</a:t>
            </a:r>
            <a:endParaRPr b="0" lang="en-US" sz="7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74560" y="1412640"/>
            <a:ext cx="734508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一时失志不免怨叹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一时落魄不免胆寒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那通失去希望每日醉茫茫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无魂有体亲像稻草人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人生可比是海上的波浪</a:t>
            </a:r>
            <a:br>
              <a:rPr sz="40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有时起有时落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好运歹命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总吗要照起工来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三分天注定七分靠打拼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爱拼才会赢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8244000" y="5661000"/>
            <a:ext cx="65700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6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6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6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6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246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15.0)">
                                      <p:cBhvr>
                                        <p:cTn id="249" dur="206057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10920" y="907560"/>
            <a:ext cx="81010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因为感恩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所以奋进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今日不搏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更待何时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81280" y="3429000"/>
            <a:ext cx="55224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99"/>
                </a:solidFill>
                <a:latin typeface="Arial"/>
              </a:rPr>
              <a:t>让我们</a:t>
            </a:r>
            <a:r>
              <a:rPr b="1" lang="en-US" sz="48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1" lang="zh-CN" sz="4800" spc="-1" strike="noStrike">
                <a:solidFill>
                  <a:srgbClr val="003399"/>
                </a:solidFill>
                <a:latin typeface="Arial"/>
              </a:rPr>
              <a:t>提着昨日种种千辛万苦</a:t>
            </a:r>
            <a:r>
              <a:rPr b="1" lang="en-US" sz="4800" spc="-1" strike="noStrike">
                <a:solidFill>
                  <a:srgbClr val="003399"/>
                </a:solidFill>
                <a:latin typeface="Arial"/>
              </a:rPr>
              <a:t>,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99"/>
                </a:solidFill>
                <a:latin typeface="Arial"/>
              </a:rPr>
              <a:t>向明天换一些美满和幸福</a:t>
            </a:r>
            <a:r>
              <a:rPr b="1" lang="en-US" sz="5400" spc="-1" strike="noStrike">
                <a:solidFill>
                  <a:srgbClr val="003399"/>
                </a:solidFill>
                <a:latin typeface="Arial"/>
              </a:rPr>
              <a:t>!”</a:t>
            </a:r>
            <a:endParaRPr b="0" lang="en-US" sz="5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9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9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78" dur="1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ff"/>
                                      </p:to>
                                    </p:animClr>
                                    <p:animClr clrSpc="rgb">
                                      <p:cBhvr>
                                        <p:cTn id="279" dur="1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ff"/>
                                      </p:to>
                                    </p:animClr>
                                    <p:set>
                                      <p:cBhvr>
                                        <p:cTn id="280" dur="1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8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8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386360" y="1412280"/>
            <a:ext cx="644400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000000"/>
                </a:solidFill>
                <a:latin typeface="Arial"/>
              </a:rPr>
              <a:t>感恩</a:t>
            </a:r>
            <a:r>
              <a:rPr b="1" lang="en-US" sz="14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14200" spc="-1" strike="noStrike">
                <a:solidFill>
                  <a:srgbClr val="000000"/>
                </a:solidFill>
                <a:latin typeface="Arial"/>
              </a:rPr>
              <a:t>奋进 </a:t>
            </a:r>
            <a:endParaRPr b="0" lang="en-US" sz="14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85840" y="3860640"/>
            <a:ext cx="7058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黑体"/>
              </a:rPr>
              <a:t>因为感恩</a:t>
            </a:r>
            <a:r>
              <a:rPr b="1" lang="en-US" sz="5400" spc="-1" strike="noStrike">
                <a:solidFill>
                  <a:srgbClr val="ff0066"/>
                </a:solidFill>
                <a:latin typeface="Arial"/>
                <a:ea typeface="黑体"/>
              </a:rPr>
              <a:t>,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黑体"/>
              </a:rPr>
              <a:t>所以奋进</a:t>
            </a:r>
            <a:r>
              <a:rPr b="1" lang="en-US" sz="5400" spc="-1" strike="noStrike">
                <a:solidFill>
                  <a:srgbClr val="ff0066"/>
                </a:solidFill>
                <a:latin typeface="Arial"/>
                <a:ea typeface="黑体"/>
              </a:rPr>
              <a:t>!</a:t>
            </a:r>
            <a:endParaRPr b="0" lang="en-US" sz="5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433600" y="1748880"/>
            <a:ext cx="573876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000000"/>
                </a:solidFill>
                <a:latin typeface="Arial"/>
              </a:rPr>
              <a:t>感恩</a:t>
            </a:r>
            <a:endParaRPr b="0" lang="en-US" sz="142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268360" y="475920"/>
            <a:ext cx="63360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家园，赐予我一座又一座路标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母亲，永不疲倦地向我凝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古老而又永恒的关爱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有时，母亲的手送我一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有时，母亲的心送我一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其实，送与不送都一样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我早已经知道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无论是刮风下雨，还是冰天雪地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都是你心头的牵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在岁月的风雨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我会带着感恩和虔诚，为你祝福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4360" y="981000"/>
            <a:ext cx="1584000" cy="29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</a:rPr>
              <a:t>感父母之</a:t>
            </a:r>
            <a:endParaRPr b="0" lang="en-US" sz="7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</a:rPr>
              <a:t>恩</a:t>
            </a:r>
            <a:endParaRPr b="0" lang="en-US" sz="72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9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4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4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9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4" dur="1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9" dur="1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4" dur="10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9" dur="10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4" dur="1000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9" dur="1000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39640" y="981000"/>
            <a:ext cx="1584360" cy="29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</a:rPr>
              <a:t>感师长之</a:t>
            </a:r>
            <a:endParaRPr b="0" lang="en-US" sz="7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</a:rPr>
              <a:t>恩</a:t>
            </a:r>
            <a:endParaRPr b="0" lang="en-US" sz="7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72480" y="1320840"/>
            <a:ext cx="4021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谁在四季里陪你放飞理想？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谁在夜晚时分讲解着习题？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谁在黎明时分唤你早起？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失败时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谁给了你鼓励？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成功时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谁教你要冷静？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茫然时，谁牵引你走向光明？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55640" y="1125360"/>
            <a:ext cx="77072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7a77"/>
                </a:solidFill>
                <a:latin typeface="Arial"/>
                <a:ea typeface="黑体"/>
              </a:rPr>
              <a:t>因为感恩</a:t>
            </a:r>
            <a:r>
              <a:rPr b="1" lang="en-US" sz="8800" spc="-1" strike="noStrike">
                <a:solidFill>
                  <a:srgbClr val="007a77"/>
                </a:solidFill>
                <a:latin typeface="Arial"/>
                <a:ea typeface="黑体"/>
              </a:rPr>
              <a:t>,</a:t>
            </a:r>
            <a:br>
              <a:rPr sz="8800"/>
            </a:br>
            <a:r>
              <a:rPr b="1" lang="zh-CN" sz="11700" spc="-1" strike="noStrike">
                <a:solidFill>
                  <a:srgbClr val="ff0066"/>
                </a:solidFill>
                <a:latin typeface="Arial"/>
                <a:ea typeface="黑体"/>
              </a:rPr>
              <a:t>所以奋进</a:t>
            </a:r>
            <a:r>
              <a:rPr b="1" lang="en-US" sz="11700" spc="-1" strike="noStrike">
                <a:solidFill>
                  <a:srgbClr val="ff0066"/>
                </a:solidFill>
                <a:latin typeface="Arial"/>
                <a:ea typeface="黑体"/>
              </a:rPr>
              <a:t>!</a:t>
            </a:r>
            <a:endParaRPr b="0" lang="en-US" sz="117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200" y="620640"/>
            <a:ext cx="1441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66"/>
                </a:solidFill>
                <a:latin typeface="Arial"/>
                <a:ea typeface="黑体"/>
              </a:rPr>
              <a:t>奋进</a:t>
            </a:r>
            <a:endParaRPr b="0" lang="en-US" sz="8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30120" y="549360"/>
            <a:ext cx="347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设立目标</a:t>
            </a:r>
            <a:r>
              <a:rPr b="1" lang="en-US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8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41560" y="2781360"/>
            <a:ext cx="4524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99"/>
                </a:solidFill>
                <a:latin typeface="黑体"/>
                <a:ea typeface="黑体"/>
              </a:rPr>
              <a:t>让自己拥有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99"/>
                </a:solidFill>
                <a:latin typeface="黑体"/>
                <a:ea typeface="黑体"/>
              </a:rPr>
              <a:t>一个美丽的梦想</a:t>
            </a:r>
            <a:r>
              <a:rPr b="1" lang="en-US" sz="4800" spc="-1" strike="noStrike">
                <a:solidFill>
                  <a:srgbClr val="003399"/>
                </a:solidFill>
                <a:latin typeface="黑体"/>
                <a:ea typeface="黑体"/>
              </a:rPr>
              <a:t>,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99"/>
                </a:solidFill>
                <a:latin typeface="黑体"/>
                <a:ea typeface="黑体"/>
              </a:rPr>
              <a:t>让那个梦想带着我们飞翔</a:t>
            </a:r>
            <a:r>
              <a:rPr b="1" lang="en-US" sz="4800" spc="-1" strike="noStrike">
                <a:solidFill>
                  <a:srgbClr val="003399"/>
                </a:solidFill>
                <a:latin typeface="黑体"/>
                <a:ea typeface="黑体"/>
              </a:rPr>
              <a:t>!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06200" y="620640"/>
            <a:ext cx="14414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66"/>
                </a:solidFill>
                <a:latin typeface="Arial"/>
                <a:ea typeface="黑体"/>
              </a:rPr>
              <a:t>奋进</a:t>
            </a:r>
            <a:endParaRPr b="0" lang="en-US" sz="8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32000" y="652320"/>
            <a:ext cx="84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己要相信自己</a:t>
            </a:r>
            <a:endParaRPr b="0" lang="en-US" sz="8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978640" y="2828880"/>
            <a:ext cx="336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99"/>
                </a:solidFill>
                <a:latin typeface="Arial"/>
              </a:rPr>
              <a:t>人之所以能</a:t>
            </a:r>
            <a:r>
              <a:rPr b="1" lang="en-US" sz="6000" spc="-1" strike="noStrike">
                <a:solidFill>
                  <a:srgbClr val="003399"/>
                </a:solidFill>
                <a:latin typeface="Arial"/>
              </a:rPr>
              <a:t>,</a:t>
            </a:r>
            <a:endParaRPr b="0" lang="en-US" sz="6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99"/>
                </a:solidFill>
                <a:latin typeface="Arial"/>
              </a:rPr>
              <a:t>是因为相信能</a:t>
            </a:r>
            <a:r>
              <a:rPr b="1" lang="en-US" sz="6000" spc="-1" strike="noStrike">
                <a:solidFill>
                  <a:srgbClr val="003399"/>
                </a:solidFill>
                <a:latin typeface="Arial"/>
              </a:rPr>
              <a:t>!</a:t>
            </a:r>
            <a:endParaRPr b="0" lang="en-US" sz="6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06200" y="620640"/>
            <a:ext cx="14414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66"/>
                </a:solidFill>
                <a:latin typeface="Arial"/>
                <a:ea typeface="黑体"/>
              </a:rPr>
              <a:t>奋进</a:t>
            </a:r>
            <a:endParaRPr b="0" lang="en-US" sz="8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63640" y="549360"/>
            <a:ext cx="66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坚持不懈</a:t>
            </a:r>
            <a:endParaRPr b="0" lang="en-US" sz="8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42400" y="2538360"/>
            <a:ext cx="3487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成功不是将来才有的</a:t>
            </a: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而是从决定去做的那一刻起</a:t>
            </a: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持续累计而成的</a:t>
            </a: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书利华教育网【www.ShuLiHua.net】</dc:description>
  <cp:keywords>主题班会课件(分28大类): http://shop62905894.taobao.com</cp:keywords>
  <dc:language>en-US</dc:language>
  <cp:lastModifiedBy>User</cp:lastModifiedBy>
  <dcterms:modified xsi:type="dcterms:W3CDTF">2013-04-13T17:37:09Z</dcterms:modified>
  <cp:revision>26</cp:revision>
  <dc:subject>主题班会课件(分28大类): http://shop62905894.taobao.com</dc:subject>
  <dc:title>主题班会课件(分28大类): http://shop62905894.taobao.com</dc:title>
</cp:coreProperties>
</file>