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E8E-A114-46E3-8E60-0026B6F3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608-A0E4-41B1-8ADD-42D458D6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33B-A175-4854-A9B4-839667A8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26C-4AC9-4072-B09D-7DC862E0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29A-C3D1-4DF1-A042-2546366D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1DF-6903-465F-8A0D-F7FA68CC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8D7-C96F-4314-AF40-F9DAE86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8A5-C95D-4698-9ED5-4C3FEDB7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77D-5934-476F-955D-8789CDB3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BE3-0EB3-492A-BE5C-9C11C148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6BF-AA75-4ECF-B250-ABD522B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0E7-298E-41BF-8A71-6612C0A8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46E-FD54-4DB1-B55D-221E3DE72E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8000"/>
          </a:blip>
          <a:srcRect l="0" t="14078" r="0" b="296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915400" y="6405480"/>
            <a:ext cx="228600" cy="4525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2205000"/>
            <a:ext cx="684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父母恩  儿女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3382920" y="51577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80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班主题班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31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08000" y="333360"/>
            <a:ext cx="6337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真情告白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位辛酸父亲的来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214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63640" y="404640"/>
            <a:ext cx="540072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真情表演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492280"/>
            <a:ext cx="70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田世国捐肾救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3564000" cy="390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780000" y="3645000"/>
            <a:ext cx="48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演者：崔耀峰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86400" y="609480"/>
            <a:ext cx="335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杯浓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学会感恩吧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64008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7301"/>
                </a:moveTo>
                <a:lnTo>
                  <a:pt x="8290" y="7301"/>
                </a:lnTo>
                <a:lnTo>
                  <a:pt x="8673" y="7667"/>
                </a:lnTo>
                <a:lnTo>
                  <a:pt x="17882" y="7667"/>
                </a:lnTo>
                <a:lnTo>
                  <a:pt x="18439" y="8224"/>
                </a:lnTo>
                <a:lnTo>
                  <a:pt x="18439" y="8772"/>
                </a:lnTo>
                <a:lnTo>
                  <a:pt x="20284" y="8772"/>
                </a:lnTo>
                <a:lnTo>
                  <a:pt x="20650" y="8224"/>
                </a:lnTo>
                <a:lnTo>
                  <a:pt x="21390" y="8224"/>
                </a:lnTo>
                <a:lnTo>
                  <a:pt x="21390" y="13376"/>
                </a:lnTo>
                <a:lnTo>
                  <a:pt x="20650" y="13376"/>
                </a:lnTo>
                <a:lnTo>
                  <a:pt x="20284" y="12828"/>
                </a:lnTo>
                <a:lnTo>
                  <a:pt x="18439" y="12828"/>
                </a:lnTo>
                <a:lnTo>
                  <a:pt x="18439" y="14107"/>
                </a:lnTo>
                <a:lnTo>
                  <a:pt x="8856" y="14107"/>
                </a:lnTo>
                <a:lnTo>
                  <a:pt x="8856" y="9877"/>
                </a:lnTo>
                <a:lnTo>
                  <a:pt x="8673" y="9877"/>
                </a:lnTo>
                <a:lnTo>
                  <a:pt x="8290" y="10243"/>
                </a:lnTo>
                <a:lnTo>
                  <a:pt x="7377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72080" y="3645000"/>
            <a:ext cx="127764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学生畅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619280" y="189000"/>
            <a:ext cx="47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真情朗诵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645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演者：张蕾萍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87280" y="5373720"/>
            <a:ext cx="5763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3670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692360" y="404640"/>
            <a:ext cx="6192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手语歌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&lt;&lt;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恩的心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&gt;&gt;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表演者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全体同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57499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35185 L -1.11111E-006 0.68519 E">
                                      <p:cBhvr>
                                        <p:cTn id="9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8948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24000" y="981000"/>
            <a:ext cx="46656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倡议书</a:t>
            </a: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~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92360" y="4653000"/>
            <a:ext cx="504036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宣读者</a:t>
            </a:r>
            <a:r>
              <a:rPr b="0" lang="en-US" sz="4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0" lang="zh-CN" sz="4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王利红班长</a:t>
            </a:r>
            <a:endParaRPr b="0" lang="en-US" sz="4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5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18000"/>
          </a:blip>
          <a:srcRect l="0" t="14078" r="0" b="296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4050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imes New Roman"/>
                <a:ea typeface="隶书"/>
              </a:rPr>
              <a:t>我宣誓</a:t>
            </a:r>
            <a:r>
              <a:rPr b="0" lang="zh-CN" sz="7200" spc="-1" strike="noStrike">
                <a:solidFill>
                  <a:srgbClr val="cc3300"/>
                </a:solidFill>
                <a:latin typeface="Times New Roman"/>
              </a:rPr>
              <a:t>：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亲爱的爸爸妈妈——</a:t>
            </a:r>
            <a:br>
              <a:rPr sz="4800"/>
            </a:b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从现在开始，</a:t>
            </a:r>
            <a:br>
              <a:rPr sz="4800"/>
            </a:b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我要在思想品德上让你们安心；</a:t>
            </a:r>
            <a:br>
              <a:rPr sz="4800"/>
            </a:b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在学习上让你们放心；</a:t>
            </a:r>
            <a:br>
              <a:rPr sz="4800"/>
            </a:b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在生活上让你们省心；</a:t>
            </a:r>
            <a:br>
              <a:rPr sz="4800"/>
            </a:b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我们决不辜负父母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5541" r="0" b="0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47640" y="-603360"/>
            <a:ext cx="6264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　　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人间最美是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　　人间最真是亲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　　人间最值得珍贵的爱莫过于父母对子女的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　　人间最无私的情感莫过于父母对子女的情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20121600">
            <a:off x="0" y="1915920"/>
            <a:ext cx="95727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谢各位领导、老师来参加我们的主题班会</a:t>
            </a: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~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 txBox="1"/>
          <p:nvPr/>
        </p:nvSpPr>
        <p:spPr>
          <a:xfrm rot="20959800">
            <a:off x="4284720" y="3860640"/>
            <a:ext cx="3384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!~!~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95280" y="57340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0031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2087" t="13048" r="0" b="0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有一种爱，它让你肆意索取，享用，却不要你任何回报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这个人，叫“母亲”，这种爱叫“母爱”。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93236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杨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2499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18000"/>
          </a:blip>
          <a:srcRect l="0" t="14078" r="0" b="296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0"/>
            <a:ext cx="8001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15400" y="6405480"/>
            <a:ext cx="228600" cy="4525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35280" y="2205000"/>
            <a:ext cx="684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父母恩  儿女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3382920" y="51577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80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班主题班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76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47640" y="981000"/>
            <a:ext cx="5688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rnd"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爱的故事</a:t>
            </a:r>
            <a:endParaRPr b="0" lang="en-US" sz="2400" spc="1" strike="noStrike">
              <a:ln cap="rnd"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43280" y="4005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讲述者：姚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28600"/>
            <a:ext cx="8153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故事１：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月，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岁的男孩童童掉进鲨鱼池。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岁的母亲刘燕带着相机、背着鼓囊囊的背包，啥也没想“咚”的一声跳了下去。把孩子抱在胸前的一瞬间，童童流着眼泪说：“妈，我以为我死了呢。”刘燕眼泪倏地流下来，“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97180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故事２：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月，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岁的父亲胡介甫将自己的肾脏移植给了患“尿毒症”的儿子，固执的父亲不容拒绝地告诉胡立新：“</a:t>
            </a:r>
            <a:r>
              <a:rPr b="1" lang="zh-CN" sz="2800" spc="-1" strike="noStrike" u="sng">
                <a:solidFill>
                  <a:srgbClr val="ff66cc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66cc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733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故事４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620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故事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“喂”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4120" y="628668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05520" y="18900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仿宋简体"/>
                <a:ea typeface="方正仿宋简体"/>
              </a:rPr>
              <a:t>故事５：</a:t>
            </a:r>
            <a:r>
              <a:rPr b="1" lang="zh-CN" sz="2400" spc="-1" strike="noStrike">
                <a:solidFill>
                  <a:srgbClr val="3333cc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“往常打你时，你都能接受，今天为什么哭泣？”伯愈回答道：“往常打我我觉得疼痛，知道母亲还有力气，身体健康，但是今天感觉不到疼痛，知道母亲身体衰退，体力微弱。所以伤心禁不住流下了泪水。并不是疼痛不甘心忍受。”说明了他非常孝敬母亲。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85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050920" y="549360"/>
            <a:ext cx="6337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真情告白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4076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演讲者：张晓慧、吴明杰、吴静银、陆伟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7:29Z</dcterms:modified>
  <cp:revision>80</cp:revision>
  <dc:subject>主题班会课件(分28大类): http://shop62905894.taobao.com</dc:subject>
  <dc:title>主题班会课件(分28大类): http://shop62905894.taobao.com</dc:title>
</cp:coreProperties>
</file>