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12.png" ContentType="image/png"/>
  <Override PartName="/ppt/media/image13.jpeg" ContentType="image/jpeg"/>
  <Override PartName="/ppt/media/image8.png" ContentType="image/png"/>
  <Override PartName="/ppt/media/image28.gif" ContentType="image/gif"/>
  <Override PartName="/ppt/media/image14.jpeg" ContentType="image/jpeg"/>
  <Override PartName="/ppt/media/image29.jpeg" ContentType="image/jpeg"/>
  <Override PartName="/ppt/media/image5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2.gif" ContentType="image/gif"/>
  <Override PartName="/ppt/media/image25.jpeg" ContentType="image/jpeg"/>
  <Override PartName="/ppt/media/image6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27.gif" ContentType="image/gif"/>
  <Override PartName="/ppt/media/image15.jpeg" ContentType="image/jpeg"/>
  <Override PartName="/ppt/media/image16.jpeg" ContentType="image/jpeg"/>
  <Override PartName="/ppt/media/image21.jpeg" ContentType="image/jpeg"/>
  <Override PartName="/ppt/media/chimes.wav" ContentType="audio/x-wav"/>
  <Override PartName="/ppt/media/image17.jpeg" ContentType="image/jpeg"/>
  <Override PartName="/ppt/media/image2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818F-77E4-406D-9E00-3021E4D3D36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在这短短的六句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作者已把母性的光辉表现得淋漓尽致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我们只要体会出这番意境、 把感恩之心付诸行动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就不枉费诗人的一番苦心了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谁言寸草心，报得三春晖，我们感受父母的恩情似海，我们也要尝试去回报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我们古代孝敬父母的例子还有很多，下面的这个同学们一定熟悉，谁来说一说她是如何孝顺父母的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老一辈的无产阶级革命家也非常孝敬自己的父母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E1B7-0E32-4E13-9930-F2D86C533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9FF3-82D2-41E1-94C1-5924285D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6A0F-65F8-472C-BFFD-9021F43C0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CA25-A989-4878-ABDB-DCF015D1C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C844-6B0D-4819-AD98-DBF76CF9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34E5-4728-44B0-9CDA-C03A3FE3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E11E-6865-4CA4-BE5C-A8DC724E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E280-3E4A-4D19-A864-7343B308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DDF2-5240-4508-82A2-B93FF936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C528-995B-42BB-9833-28CAE1E3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C74C-195D-4F5B-B7A9-A049247D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A4D1-8ADA-461D-8B2B-53250B50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1335-2849-4481-BC3F-7A945316B5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lum bright="18000"/>
          </a:blip>
          <a:srcRect l="0" t="14078" r="0" b="296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198108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世上有一部永远也写不完的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那便是父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915400" y="6405480"/>
            <a:ext cx="228600" cy="452520"/>
          </a:xfrm>
          <a:prstGeom prst="diamond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90920" y="0"/>
            <a:ext cx="655308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858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2286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cc99"/>
                </a:solidFill>
                <a:latin typeface="宋体"/>
              </a:rPr>
              <a:t>2004</a:t>
            </a:r>
            <a:r>
              <a:rPr b="1" lang="zh-CN" sz="2800" spc="-1" strike="noStrike">
                <a:solidFill>
                  <a:srgbClr val="00cc99"/>
                </a:solidFill>
                <a:latin typeface="宋体"/>
              </a:rPr>
              <a:t>年</a:t>
            </a:r>
            <a:r>
              <a:rPr b="1" lang="zh-CN" sz="2800" spc="-1" strike="noStrike">
                <a:solidFill>
                  <a:srgbClr val="00cc99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cc99"/>
                </a:solidFill>
                <a:latin typeface="宋体"/>
              </a:rPr>
              <a:t>月，</a:t>
            </a:r>
            <a:r>
              <a:rPr b="1" lang="zh-CN" sz="2800" spc="-1" strike="noStrike">
                <a:solidFill>
                  <a:srgbClr val="00cc99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cc99"/>
                </a:solidFill>
                <a:latin typeface="宋体"/>
              </a:rPr>
              <a:t>岁的男孩童童掉进鲨鱼池。</a:t>
            </a:r>
            <a:r>
              <a:rPr b="1" lang="zh-CN" sz="2800" spc="-1" strike="noStrike">
                <a:solidFill>
                  <a:srgbClr val="00cc99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00cc99"/>
                </a:solidFill>
                <a:latin typeface="宋体"/>
              </a:rPr>
              <a:t>岁的母亲刘燕带着相机、背着鼓囊囊的背包，啥也没想“咚”的一声跳了下去。把孩子抱在胸前的一瞬间，童童流着眼泪说：“妈，我以为我死了呢。”刘燕眼泪倏地流下来，“</a:t>
            </a:r>
            <a:r>
              <a:rPr b="1" lang="zh-CN" sz="2800" spc="-1" strike="noStrike" u="sng">
                <a:solidFill>
                  <a:srgbClr val="00cc99"/>
                </a:solidFill>
                <a:uFillTx/>
                <a:latin typeface="宋体"/>
              </a:rPr>
              <a:t>儿子，你是妈妈的全部</a:t>
            </a:r>
            <a:r>
              <a:rPr b="1" lang="zh-CN" sz="2800" spc="-1" strike="noStrike">
                <a:solidFill>
                  <a:srgbClr val="00cc99"/>
                </a:solidFill>
                <a:latin typeface="宋体"/>
              </a:rPr>
              <a:t>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29718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2003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年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月，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岁的父亲胡介甫将自己的肾脏移植给了患“尿毒症”的儿子，固执的父亲不容拒绝地告诉胡立新：“</a:t>
            </a:r>
            <a:r>
              <a:rPr b="1" lang="zh-CN" sz="2800" spc="-1" strike="noStrike" u="sng">
                <a:solidFill>
                  <a:srgbClr val="ff99ff"/>
                </a:solidFill>
                <a:uFillTx/>
                <a:latin typeface="宋体"/>
              </a:rPr>
              <a:t>什么比你的命还重要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？我宁可自己没命，也不能看着你死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62120" y="3733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f8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2f8c"/>
                </a:solidFill>
                <a:latin typeface="宋体"/>
              </a:rPr>
              <a:t>2005</a:t>
            </a:r>
            <a:r>
              <a:rPr b="1" lang="zh-CN" sz="2800" spc="-1" strike="noStrike">
                <a:solidFill>
                  <a:srgbClr val="002f8c"/>
                </a:solidFill>
                <a:latin typeface="宋体"/>
              </a:rPr>
              <a:t>年</a:t>
            </a:r>
            <a:r>
              <a:rPr b="1" lang="zh-CN" sz="2800" spc="-1" strike="noStrike">
                <a:solidFill>
                  <a:srgbClr val="002f8c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2f8c"/>
                </a:solidFill>
                <a:latin typeface="宋体"/>
              </a:rPr>
              <a:t>月，成都生意人黎文钢一家四口乘坐的出租车冲进东风渠。绝望的挣扎中，黎文钢艰难地打碎了窗玻璃，准备拉着爸爸妈妈逃生。濒临死亡时，父母使劲地掰开儿子的手，把他推出车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6094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2004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年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月，抚顺劳动公园内，陶女士一抬头，突然发现儿子的右手已在黑熊的嘴里，把孩子手拽回来已经来不及了！陶女士猛地把双手伸进了黑熊的嘴里，一只手代替儿子的小手“喂”给黑熊，另一只手护住儿子的小手，拼命地从黑熊的嘴中往外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34120" y="31428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00"/>
                </a:solidFill>
                <a:latin typeface="Times New Roman"/>
                <a:ea typeface="隶书"/>
              </a:rPr>
              <a:t>零距离接触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98560" y="169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874880"/>
            <a:ext cx="8778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彩云"/>
              </a:rPr>
              <a:t>走过十多年的风雨路，相信你与你的父母之间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彩云"/>
              </a:rPr>
              <a:t>会有许多令你感动的故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57200" y="1219320"/>
            <a:ext cx="79246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你父母亲的生日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你父母亲的体重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你父母亲的身高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你父母亲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码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你父母亲喜欢颜色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你父母亲喜欢食物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你父母亲喜欢的日常消遣活动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你父母亲喜欢做的运动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286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你是否了解你爸爸妈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5548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你妈妈经常用来教育你的口头禅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105520" y="1143000"/>
            <a:ext cx="3733560" cy="2362320"/>
            <a:chOff x="5105520" y="1143000"/>
            <a:chExt cx="3733560" cy="2362320"/>
          </a:xfrm>
        </p:grpSpPr>
        <p:sp>
          <p:nvSpPr>
            <p:cNvPr id="96" name=""/>
            <p:cNvSpPr/>
            <p:nvPr/>
          </p:nvSpPr>
          <p:spPr>
            <a:xfrm>
              <a:off x="5105520" y="1143000"/>
              <a:ext cx="3733560" cy="236232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81480" y="1143000"/>
              <a:ext cx="365724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请你如实回答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有心的同学可以把答案写在一张纸寄给你父母评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答对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6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题以下的请你以后多与父母沟通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211480" y="281952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50021"/>
                </a:solidFill>
                <a:latin typeface="Times New Roman"/>
                <a:ea typeface="华文彩云"/>
              </a:rPr>
              <a:t>母亲给予我生命，我爱母亲！！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977560" y="304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母亲的诠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04920" y="457200"/>
            <a:ext cx="8838720" cy="3817800"/>
            <a:chOff x="304920" y="457200"/>
            <a:chExt cx="8838720" cy="3817800"/>
          </a:xfrm>
        </p:grpSpPr>
        <p:sp>
          <p:nvSpPr>
            <p:cNvPr id="103" name=""/>
            <p:cNvSpPr/>
            <p:nvPr/>
          </p:nvSpPr>
          <p:spPr>
            <a:xfrm>
              <a:off x="304920" y="457200"/>
              <a:ext cx="8838720" cy="38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4920" y="457200"/>
              <a:ext cx="8838720" cy="14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仔细想想，原来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mother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一词是可以这样解释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207080" y="1676520"/>
            <a:ext cx="40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an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妈妈给了我很多很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15760" y="2362320"/>
            <a:ext cx="511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l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妈妈为我操心，白发已爬上了您的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32200" y="3124080"/>
            <a:ext cx="373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ear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您为我流过不少泪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74040" y="3733920"/>
            <a:ext cx="42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H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ar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您有一颗慈祥温暖的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19920" y="4419720"/>
            <a:ext cx="459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y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您注视我的目光总是充满着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05520"/>
            <a:ext cx="815328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您从不欺骗我们，教导我们去做正确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事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69960" y="131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752480"/>
            <a:ext cx="679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  <a:ea typeface="楷体_GB2312"/>
              </a:rPr>
              <a:t>月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  <a:ea typeface="楷体_GB2312"/>
              </a:rPr>
              <a:t>日，是母亲节，在母亲节即将到来之际，你打算送什么礼物给你的母亲？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3200" y="3808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真情流露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9400" y="4064040"/>
            <a:ext cx="3652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为你的母亲送上一首诗、一篇歌颂母亲的美文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一句真心话、一张卡片、一幅画、一个成为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学生的承诺、一份满意的答卷……现在就可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对你的母亲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380880"/>
            <a:ext cx="8763120" cy="58676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90720" y="1905120"/>
            <a:ext cx="7010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1905120"/>
            <a:ext cx="8153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要体贴关心父母，在家要尽力承担一些家务劳动，减轻父母负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要尊敬和爱戴父母，听从父母的正确教导，不可当面顶撞父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碰到一些比较重要的事情，一定要和父母商量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尤其是升学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就业等大事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一定要征求和认真考虑父母的意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在生活上要艰苦朴素、勤俭节约，不向父母提过分要求，不纠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当父母年迈时，在物质上要赡养父母，在精神上要关心父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单击图片换装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556000" y="1125360"/>
            <a:ext cx="3276360" cy="30862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仿宋_GB2312"/>
                <a:ea typeface="仿宋_GB2312"/>
              </a:rPr>
              <a:t>把父母为你做的事和你为父母做的事列举出来，作为砝码放在天平的两端，看看你的天平是否倾斜得太厉害？如果是，请你加重砝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533520"/>
            <a:ext cx="22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99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爱的天平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99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695240" y="1704960"/>
            <a:ext cx="541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ff"/>
                </a:solidFill>
                <a:latin typeface="Times New Roman"/>
                <a:ea typeface="华文彩云"/>
              </a:rPr>
              <a:t>世上不仅只有妈妈好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ff"/>
                </a:solidFill>
                <a:latin typeface="Times New Roman"/>
                <a:ea typeface="华文彩云"/>
              </a:rPr>
              <a:t>     </a:t>
            </a:r>
            <a:r>
              <a:rPr b="1" lang="zh-CN" sz="6600" spc="-1" strike="noStrike">
                <a:solidFill>
                  <a:srgbClr val="3333ff"/>
                </a:solidFill>
                <a:latin typeface="Times New Roman"/>
                <a:ea typeface="华文彩云"/>
              </a:rPr>
              <a:t>爸爸也很好…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2087" t="13048" r="0" b="0"/>
          <a:stretch/>
        </p:blipFill>
        <p:spPr>
          <a:xfrm>
            <a:off x="5715000" y="228600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5410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无论你身在何地，有一个人，她永远占据在你心中最柔软的地方，你愿用自己的一生去爱她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有一种爱，它让你肆意索取，享用，却不要你任何回报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这个人，叫“母亲”，这种爱叫“母爱”。</a:t>
            </a:r>
            <a:r>
              <a:rPr b="1" lang="zh-CN" sz="3200" spc="-1" strike="noStrike">
                <a:solidFill>
                  <a:srgbClr val="876cf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0"/>
            <a:ext cx="3581280" cy="1295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5050"/>
              </a:gs>
              <a:gs pos="50000">
                <a:srgbClr val="ffffff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感受父母的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杨"/>
          <p:cNvPicPr/>
          <p:nvPr/>
        </p:nvPicPr>
        <p:blipFill>
          <a:blip r:embed="rId3"/>
          <a:stretch/>
        </p:blipFill>
        <p:spPr>
          <a:xfrm>
            <a:off x="5715000" y="0"/>
            <a:ext cx="3429000" cy="3505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28600" y="2819520"/>
            <a:ext cx="6477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六月的第三周星期天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父亲节，你为你的父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准备了什么？想对爸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说些什么呢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305920" y="640080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69840"/>
            <a:ext cx="9144000" cy="6619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他 们──给父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没有他们，便没有我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是他们，哺育了我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是他们，拓开了道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没有他们，我们的世界是残缺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没有他们，我们的生活是跛脚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他们的存在，使我们的世界完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他们的存在，使我们的生命鲜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有了他们，我们才可以超越历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有了他们，我们才可以赢获明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因此，我爱他们，我们爱他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他们给我们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我们也可以一样给他们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片蓝天白云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轮明月朝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双眼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座家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颗赤子之心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  <p:sndAc>
      <p:stSnd>
        <p:snd r:embed="rId2" name="chimes.wav"/>
      </p:stSnd>
    </p:sndAc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e7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rcRect l="0" t="5541" r="0" b="0"/>
          <a:stretch/>
        </p:blipFill>
        <p:spPr>
          <a:xfrm>
            <a:off x="0" y="2819520"/>
            <a:ext cx="9144000" cy="40561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57200" y="0"/>
            <a:ext cx="8153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仿宋_GB2312"/>
                <a:ea typeface="仿宋_GB2312"/>
              </a:rPr>
              <a:t>在亲情的观念里，磨难显得是那么的微不足道，那么的不可怕。爱的道路有时只有一个理念，那就是：让我们爱着的人幸福</a:t>
            </a: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单击图片换装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0" y="0"/>
            <a:ext cx="46483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感恩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7" name=""/>
          <p:cNvSpPr/>
          <p:nvPr/>
        </p:nvSpPr>
        <p:spPr>
          <a:xfrm>
            <a:off x="8458200" y="6329520"/>
            <a:ext cx="376200" cy="528480"/>
          </a:xfrm>
          <a:prstGeom prst="diamond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1981080"/>
            <a:ext cx="800100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老师的心</a:t>
            </a: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和父母一样</a:t>
            </a: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父母给了你生命</a:t>
            </a: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老师给了你灵魂</a:t>
            </a: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父母给了你肉体</a:t>
            </a: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老师给了你思想</a:t>
            </a: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愿天下的孩子孝顺父母</a:t>
            </a: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愿天下的学子爱戴老师</a:t>
            </a:r>
            <a:r>
              <a:rPr b="0" lang="zh-CN" sz="2400" spc="-1" strike="noStrike">
                <a:solidFill>
                  <a:srgbClr val="ff0066"/>
                </a:solidFill>
                <a:latin typeface="隶书"/>
                <a:ea typeface="隶书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ddd"/>
            </a:gs>
            <a:gs pos="100000">
              <a:srgbClr val="d6ffa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514600" y="1295280"/>
            <a:ext cx="3657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79840" y="3048120"/>
            <a:ext cx="138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华文宋体"/>
              </a:rPr>
              <a:t>老师，您辛苦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914400"/>
            <a:ext cx="8610480" cy="63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zh-CN" sz="2400" spc="-1" strike="noStrike">
                <a:solidFill>
                  <a:srgbClr val="800000"/>
                </a:solidFill>
                <a:latin typeface="Tahoma"/>
              </a:rPr>
              <a:t>是谁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800000"/>
                </a:solidFill>
                <a:latin typeface="Tahoma"/>
              </a:rPr>
              <a:t>把无知的我们，领进宽敞的教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800000"/>
                </a:solidFill>
                <a:latin typeface="Tahoma"/>
              </a:rPr>
              <a:t>是您，老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800000"/>
                </a:solidFill>
                <a:latin typeface="Tahoma"/>
              </a:rPr>
              <a:t>您用辛勤的汗水哺育了春日的嫩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800000"/>
                </a:solidFill>
                <a:latin typeface="Tahoma"/>
              </a:rPr>
              <a:t>是谁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800000"/>
                </a:solidFill>
                <a:latin typeface="Tahoma"/>
              </a:rPr>
              <a:t>把淘气的我们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800000"/>
                </a:solidFill>
                <a:latin typeface="Tahoma"/>
              </a:rPr>
              <a:t>教育成能体贴帮助别人的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800000"/>
                </a:solidFill>
                <a:latin typeface="Tahoma"/>
              </a:rPr>
              <a:t>是您，老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800000"/>
                </a:solidFill>
                <a:latin typeface="Tahoma"/>
              </a:rPr>
              <a:t>您的就好似和煦的春风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ahoma"/>
              </a:rPr>
              <a:t>      </a:t>
            </a:r>
            <a:r>
              <a:rPr b="1" lang="zh-CN" sz="2400" spc="-1" strike="noStrike">
                <a:solidFill>
                  <a:srgbClr val="800000"/>
                </a:solidFill>
                <a:latin typeface="Tahoma"/>
              </a:rPr>
              <a:t>温暖了我们的心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066680" y="1371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16765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8120" y="0"/>
            <a:ext cx="7772400" cy="71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ahoma"/>
              </a:rPr>
              <a:t>是谁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ahoma"/>
              </a:rPr>
              <a:t>把幼小的我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ahoma"/>
              </a:rPr>
              <a:t>培养成成熟懂事的少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ahoma"/>
              </a:rPr>
              <a:t>是您，老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ahoma"/>
              </a:rPr>
              <a:t>您的保护让我们健康成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ahoma"/>
              </a:rPr>
              <a:t>在金秋时节结下硕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ahoma"/>
              </a:rPr>
              <a:t>老师，您辛苦了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ahoma"/>
              </a:rPr>
              <a:t>您在酷暑严寒辛勤工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ahoma"/>
              </a:rPr>
              <a:t>老师，您辛苦了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ahoma"/>
              </a:rPr>
              <a:t>您把青春无私的奉献给我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ahoma"/>
              </a:rPr>
              <a:t>老师，您辛苦了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ahoma"/>
              </a:rPr>
              <a:t>请接受我们崇高的敬礼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0948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隶书"/>
                <a:ea typeface="隶书"/>
              </a:rPr>
              <a:t>为了民族，为了中华，为了将来，我们要自尊、自律、自强、自信，刻苦学习、勇于探索，奋发向上，走向辉煌！以实际行动来报答老师的深情</a:t>
            </a:r>
            <a:r>
              <a:rPr b="0" lang="zh-CN" sz="3600" spc="-1" strike="noStrike">
                <a:solidFill>
                  <a:srgbClr val="cc3300"/>
                </a:solidFill>
                <a:latin typeface="隶书"/>
                <a:ea typeface="隶书"/>
              </a:rPr>
              <a:t>!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486400" y="609480"/>
            <a:ext cx="3352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关心父母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　　一句问候，一个亲吻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　　一束鲜花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一个拥抱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甚至一句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尊敬老师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课堂守纪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按时完成作业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学会感恩吧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05920" y="640080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7301"/>
                </a:moveTo>
                <a:lnTo>
                  <a:pt x="8290" y="7301"/>
                </a:lnTo>
                <a:lnTo>
                  <a:pt x="8673" y="7667"/>
                </a:lnTo>
                <a:lnTo>
                  <a:pt x="17882" y="7667"/>
                </a:lnTo>
                <a:lnTo>
                  <a:pt x="18439" y="8224"/>
                </a:lnTo>
                <a:lnTo>
                  <a:pt x="18439" y="8772"/>
                </a:lnTo>
                <a:lnTo>
                  <a:pt x="20284" y="8772"/>
                </a:lnTo>
                <a:lnTo>
                  <a:pt x="20650" y="8224"/>
                </a:lnTo>
                <a:lnTo>
                  <a:pt x="21390" y="8224"/>
                </a:lnTo>
                <a:lnTo>
                  <a:pt x="21390" y="13376"/>
                </a:lnTo>
                <a:lnTo>
                  <a:pt x="20650" y="13376"/>
                </a:lnTo>
                <a:lnTo>
                  <a:pt x="20284" y="12828"/>
                </a:lnTo>
                <a:lnTo>
                  <a:pt x="18439" y="12828"/>
                </a:lnTo>
                <a:lnTo>
                  <a:pt x="18439" y="14107"/>
                </a:lnTo>
                <a:lnTo>
                  <a:pt x="8856" y="14107"/>
                </a:lnTo>
                <a:lnTo>
                  <a:pt x="8856" y="9877"/>
                </a:lnTo>
                <a:lnTo>
                  <a:pt x="8673" y="9877"/>
                </a:lnTo>
                <a:lnTo>
                  <a:pt x="8290" y="10243"/>
                </a:lnTo>
                <a:lnTo>
                  <a:pt x="7377" y="1024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8620200" y="6553080"/>
            <a:ext cx="523800" cy="304920"/>
          </a:xfrm>
          <a:prstGeom prst="hexagon">
            <a:avLst>
              <a:gd name="adj" fmla="val 42946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1981080"/>
            <a:ext cx="79246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008000"/>
                </a:solidFill>
                <a:latin typeface="Times New Roman"/>
              </a:rPr>
              <a:t>、给父母写一封信，对父母表示感激并表表你回报父母的决心。</a:t>
            </a:r>
            <a:br>
              <a:rPr sz="4400"/>
            </a:br>
            <a:r>
              <a:rPr b="0" lang="zh-CN" sz="44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008000"/>
                </a:solidFill>
                <a:latin typeface="Times New Roman"/>
              </a:rPr>
              <a:t>、这个双休日为父母服务一天，体会父母的辛劳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36680" y="6094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imes New Roman"/>
              </a:rPr>
              <a:t>课后作业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2499" b="0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520" y="18288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父爱是山，无论你有多大的困难，他总是你依靠的屏障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父爱是路，无论你走到哪里，他都伴你延伸，为你指点迷津，护你一路走好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245280" y="0"/>
            <a:ext cx="2898720" cy="4038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238800" y="2960640"/>
            <a:ext cx="2905200" cy="3897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22659" t="22917" r="22659" b="2187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191120" y="2286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方正仿宋简体"/>
                <a:ea typeface="方正仿宋简体"/>
              </a:rPr>
              <a:t>汉朝时，大梁有个叫韩伯愈的人，本性纯正，孝敬父母，是一位著名的孝子。他的母亲对他管教很严格，稍微有点过失，就举杖挥打。有一天伯愈在挨打时，竟然伤心哭泣。他母亲觉得奇怪，问道：“往常打你时，你都能接受，今天为什么哭泣？”伯愈回答道：“往常打我我觉得疼痛，知道母亲还有力气，身体健康，但是今天感觉不到疼痛，知道母亲身体衰退，体力微弱。所以伤心禁不住流下了泪水。并不是疼痛不甘心忍受。”说明了他非常孝敬母亲。</a:t>
            </a:r>
            <a:r>
              <a:rPr b="1" lang="zh-CN" sz="2400" spc="-1" strike="noStrike">
                <a:solidFill>
                  <a:srgbClr val="010000"/>
                </a:solidFill>
                <a:latin typeface="方正仿宋简体"/>
                <a:ea typeface="方正仿宋简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3962520" cy="4038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24412" t="24147" r="22836" b="22838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800600" y="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隶书"/>
              </a:rPr>
              <a:t>花木兰孝敬父母，女扮男装，代替父亲出征打仗。奋战沙场十二年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23438" t="23960" r="22659" b="229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867280" y="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99"/>
                </a:solidFill>
                <a:latin typeface="Arial"/>
                <a:ea typeface="隶书"/>
              </a:rPr>
              <a:t>朱德对母亲非常敬爱，在他的《母亲的回忆》中感谢母亲教给他的生产的知识和革命的意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42037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_x000b__x000c_"/>
              </a:rPr>
              <a:t>2004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_x000b__x000c_"/>
              </a:rPr>
              <a:t>9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_x000b__x000c_"/>
              </a:rPr>
              <a:t>月底，在深圳一家律师事务所工作的田世国得知母亲刘玉环患尿毒症后，偷偷跑到上海中山医院作了血样检查；配型成功后，瞒着母亲，毅然将自己的一个肾脏移植给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17680" y="47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07320" y="39204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这样几个故事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143000"/>
            <a:ext cx="807732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9933"/>
                </a:solidFill>
                <a:latin typeface="Times New Roman"/>
                <a:ea typeface="隶书"/>
              </a:rPr>
              <a:t>父母给子女的爱是无私的，是不求回报的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33"/>
                </a:solidFill>
                <a:latin typeface="Times New Roman"/>
                <a:ea typeface="隶书"/>
              </a:rPr>
              <a:t>父母给予我们生命，教会我们做人的道理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33"/>
                </a:solidFill>
                <a:latin typeface="Times New Roman"/>
                <a:ea typeface="隶书"/>
              </a:rPr>
              <a:t>赋予我们好的学习环境</a:t>
            </a:r>
            <a:r>
              <a:rPr b="0" lang="zh-CN" sz="4800" spc="-1" strike="noStrike">
                <a:solidFill>
                  <a:srgbClr val="ff9933"/>
                </a:solidFill>
                <a:latin typeface="Times New Roman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/>
  <cp:keywords>主题班会课件(分28大类): http://shop62905894.taobao.com</cp:keywords>
  <dc:language>en-US</dc:language>
  <cp:lastModifiedBy>User</cp:lastModifiedBy>
  <dcterms:modified xsi:type="dcterms:W3CDTF">2013-04-13T17:18:22Z</dcterms:modified>
  <cp:revision>70</cp:revision>
  <dc:subject>主题班会课件(分28大类): http://shop62905894.taobao.com</dc:subject>
  <dc:title>主题班会课件(分28大类): http://shop62905894.taobao.com</dc:title>
</cp:coreProperties>
</file>