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2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35.gif" ContentType="image/gif"/>
  <Override PartName="/ppt/media/image31.jpeg" ContentType="image/jpeg"/>
  <Override PartName="/ppt/media/image2.png" ContentType="image/png"/>
  <Override PartName="/ppt/media/image32.jpeg" ContentType="image/jpeg"/>
  <Override PartName="/ppt/media/image6.png" ContentType="image/png"/>
  <Override PartName="/ppt/media/image34.gif" ContentType="image/gif"/>
  <Override PartName="/ppt/media/image4.gif" ContentType="image/gif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2C5-FBF4-457F-AA62-A2A9AD58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85B-0D03-4C73-B0B8-00B43D88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9FB-1D5E-431E-955E-508FDDF2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9DD-84A6-4AF4-A0DC-F9FE21CB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BA7-6879-45CF-88DA-E3E40B9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F7F-E311-48FF-9FCD-4E203AC7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5CA-4163-450A-B42F-989D3E4D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282-C6E5-423A-A124-3F51658B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EA8-4AC9-4FE1-980F-3AE65097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1F1-A916-4B29-A61E-9EF058C7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46E-197F-4F5C-9E17-8BD8A23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F35-122D-402A-94C9-5EF00696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3AC-5DCC-4430-9CD9-FF8CA9A349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1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5178600"/>
            <a:ext cx="8594640" cy="1679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3117960"/>
            <a:ext cx="2293920" cy="3695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9927200">
            <a:off x="178920" y="148392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ff5050"/>
              </a:gs>
              <a:gs pos="100000">
                <a:srgbClr val="ff0066"/>
              </a:gs>
            </a:gsLst>
            <a:lin ang="9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439400">
            <a:off x="1692360" y="27093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930400">
            <a:off x="2842920" y="9075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50000">
                <a:srgbClr val="ff6699"/>
              </a:gs>
              <a:gs pos="100000">
                <a:srgbClr val="ff5050"/>
              </a:gs>
            </a:gsLst>
            <a:lin ang="87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270828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288800">
            <a:off x="5435280" y="126792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95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726200">
            <a:off x="7019640" y="29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7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365000">
            <a:off x="824364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87640" y="457200"/>
            <a:ext cx="705636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一个人，无论你走到哪里都放不下对你的牵挂，她愿把自己的一生无私地奉献给你；有一种爱，它让你肆意地索取和享受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却不要你任何的回报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这一个人叫</a:t>
            </a:r>
            <a:r>
              <a:rPr b="0" lang="zh-CN" sz="4400" spc="-1" strike="noStrike">
                <a:solidFill>
                  <a:srgbClr val="ffcc99"/>
                </a:solidFill>
                <a:latin typeface="文鼎香肠体"/>
                <a:ea typeface="文鼎香肠体"/>
              </a:rPr>
              <a:t>“</a:t>
            </a:r>
            <a:r>
              <a:rPr b="1" lang="zh-CN" sz="5400" spc="-1" strike="noStrike">
                <a:solidFill>
                  <a:srgbClr val="a50021"/>
                </a:solidFill>
                <a:latin typeface="文鼎香肠体"/>
                <a:ea typeface="文鼎香肠体"/>
              </a:rPr>
              <a:t>母亲</a:t>
            </a:r>
            <a:r>
              <a:rPr b="0" lang="zh-CN" sz="4400" spc="-1" strike="noStrike">
                <a:solidFill>
                  <a:srgbClr val="ffcc99"/>
                </a:solidFill>
                <a:latin typeface="文鼎香肠体"/>
                <a:ea typeface="文鼎香肠体"/>
              </a:rPr>
              <a:t>”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这一种爱叫</a:t>
            </a:r>
            <a:r>
              <a:rPr b="0" lang="zh-CN" sz="4400" spc="-1" strike="noStrike">
                <a:solidFill>
                  <a:srgbClr val="ffcc99"/>
                </a:solidFill>
                <a:latin typeface="文鼎香肠体"/>
                <a:ea typeface="文鼎香肠体"/>
              </a:rPr>
              <a:t>“</a:t>
            </a:r>
            <a:r>
              <a:rPr b="1" lang="zh-CN" sz="5400" spc="-1" strike="noStrike">
                <a:solidFill>
                  <a:srgbClr val="a50021"/>
                </a:solidFill>
                <a:latin typeface="文鼎香肠体"/>
                <a:ea typeface="文鼎香肠体"/>
              </a:rPr>
              <a:t>母爱</a:t>
            </a:r>
            <a:r>
              <a:rPr b="0" lang="zh-CN" sz="4400" spc="-1" strike="noStrike">
                <a:solidFill>
                  <a:srgbClr val="ffcc99"/>
                </a:solidFill>
                <a:latin typeface="文鼎香肠体"/>
                <a:ea typeface="文鼎香肠体"/>
              </a:rPr>
              <a:t>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83440" y="3276720"/>
            <a:ext cx="19605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020000" y="5589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6448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 rot="21279600">
            <a:off x="0" y="260280"/>
            <a:ext cx="36734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演讲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1279600">
            <a:off x="1908000" y="1916280"/>
            <a:ext cx="53928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母爱深深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12000" y="4941720"/>
            <a:ext cx="20192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彪蔚然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 rot="21279600">
            <a:off x="1618920" y="1125000"/>
            <a:ext cx="60958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母爱故事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59280" y="3789360"/>
            <a:ext cx="266364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吴雪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安玉玺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34360" y="604836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266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276000">
            <a:off x="2268360" y="2205000"/>
            <a:ext cx="48992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2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道母爱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2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763640" y="1989000"/>
            <a:ext cx="5761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母爱图片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 rot="1365000">
            <a:off x="1187280" y="148428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365000">
            <a:off x="684000" y="522936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365000">
            <a:off x="7811640" y="1197000"/>
            <a:ext cx="432000" cy="43164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65000">
            <a:off x="6011640" y="537372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78850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 rot="21279600">
            <a:off x="1692000" y="1988640"/>
            <a:ext cx="561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我感受着的母爱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 rot="1365000">
            <a:off x="611280" y="198900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365000">
            <a:off x="5940360" y="544500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65000">
            <a:off x="7740720" y="13413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 rot="21279600">
            <a:off x="1331640" y="2060280"/>
            <a:ext cx="60958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照片背后的故事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 rot="1365000">
            <a:off x="1547640" y="5300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365000">
            <a:off x="7667280" y="551664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335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3800" cy="6308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8893080" cy="404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748720" y="0"/>
            <a:ext cx="3952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365000">
            <a:off x="1547640" y="5300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365000">
            <a:off x="1763280" y="5516640"/>
            <a:ext cx="432000" cy="43164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3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523800" cy="626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620200" y="189000"/>
            <a:ext cx="523800" cy="6669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1365000">
            <a:off x="1547640" y="5300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365000">
            <a:off x="1763280" y="5516640"/>
            <a:ext cx="432000" cy="43164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5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0" y="404640"/>
            <a:ext cx="684360" cy="691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8388360" y="378000"/>
            <a:ext cx="61920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 rot="21279600">
            <a:off x="1979640" y="2133360"/>
            <a:ext cx="60958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母爱片段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"/>
          <p:cNvSpPr/>
          <p:nvPr/>
        </p:nvSpPr>
        <p:spPr>
          <a:xfrm rot="1365000">
            <a:off x="1618920" y="4869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365000">
            <a:off x="8100720" y="105264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365000">
            <a:off x="3419280" y="206064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365000">
            <a:off x="6948360" y="5084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365000">
            <a:off x="394920" y="1413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178600"/>
            <a:ext cx="8594640" cy="1679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3117960"/>
            <a:ext cx="2293920" cy="369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9927200">
            <a:off x="178920" y="148392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ff5050"/>
              </a:gs>
              <a:gs pos="100000">
                <a:srgbClr val="ff0066"/>
              </a:gs>
            </a:gsLst>
            <a:lin ang="9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439400">
            <a:off x="1692360" y="27093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930400">
            <a:off x="2842920" y="9075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50000">
                <a:srgbClr val="ff6699"/>
              </a:gs>
              <a:gs pos="100000">
                <a:srgbClr val="ff5050"/>
              </a:gs>
            </a:gsLst>
            <a:lin ang="87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70828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288800">
            <a:off x="5435280" y="126792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95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726200">
            <a:off x="7019640" y="29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7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365000">
            <a:off x="824364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87640" y="4572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83440" y="3276720"/>
            <a:ext cx="196056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71640" y="692280"/>
            <a:ext cx="51483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棵大树，我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春天倚着它幻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夏天倚着它茂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秋天倚着它成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冬天倚着它沉思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棵大树就是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</a:rPr>
              <a:t>妈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264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23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23800" cy="6453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8620200" y="0"/>
            <a:ext cx="5238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365000">
            <a:off x="2195280" y="558972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365000">
            <a:off x="6443640" y="5300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365000">
            <a:off x="3995640" y="357336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258920" y="1052640"/>
            <a:ext cx="7056360" cy="5124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57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 rot="21279600">
            <a:off x="1692000" y="1915920"/>
            <a:ext cx="56163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让世界充满爱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15920"/>
            <a:ext cx="2951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演讲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"/>
          <p:cNvSpPr/>
          <p:nvPr/>
        </p:nvSpPr>
        <p:spPr>
          <a:xfrm rot="1365000">
            <a:off x="7812000" y="234936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365000">
            <a:off x="2195640" y="494172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365000">
            <a:off x="7235640" y="4869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 rot="21279600">
            <a:off x="1835280" y="2133360"/>
            <a:ext cx="60958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提问发言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4" name=""/>
          <p:cNvSpPr/>
          <p:nvPr/>
        </p:nvSpPr>
        <p:spPr>
          <a:xfrm rot="1365000">
            <a:off x="1547640" y="5300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365000">
            <a:off x="601164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365000">
            <a:off x="6659640" y="47973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365000">
            <a:off x="755640" y="198900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0494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有一次与朋友聊天儿，我说，从小到大，我从不喜欢打人，你突然插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妈妈，您不是经常打一个人吗？那就是我…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那一瞬，屋里很静很静。那天，我继续跟朋友谈了很多，但所有的话都心不在焉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后来，您跟我说，我那固执的一问，仿佛爬山虎无数细小的卷须，攀满了您整个心灵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是的，孩子，面对你纯真无瑕的眼睛，我要承认：在这个世界上，我只打过一个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这个人就是我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对，这个人就是你。不是偶然，而是经常。不是轻描淡写，而是刻骨铭心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在我最小最小的时候，您不曾打过我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那个时候，我哪里舍得？你那么幼嫩，好像一粒包在荚中的青豌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您生怕任何一点儿轻微地碰撞，将我稚弱的生命擦伤。您为我日夜操劳，无怨无悔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面对你熟睡中像合欢一样静谧的额头，我向上苍发誓：我要尽一个母亲所有的力量保护你，直到我从这颗星球上离开的那一天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渐渐的，我像竹笋一样开始长大。我开始淘气，开始恶作剧……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对你摔破的盆碗、拆毁的玩具、污脏的衣着……我都不曾打过你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您说，这对于一个正常而活泼的儿童，就像走路会跌跤一样，应该原谅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可是后来，我还是忍不住打你了。你虽然已经渐渐长大，但是你混沌天真又我行我素，你狡黠异常又漏洞百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我像一匹顽皮的小兽，放任不羁地奔向向往中的草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7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765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而我则要你接受人类社会公认的法则。为了让你记住并终身遵守它们，在所有的苦口婆心都宣告失效，在所有的表扬、批评、恐吓以及奖赏都无以建树之后，我被迫拿出最后一件武器――这，就是殴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您用殴打让我吸取教训。您说，假如我去摸火，火焰会灼痛我的手指，这种体验，将使我一生不会再去抚摸这种橙红色抖动如绸的精灵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我希望虚伪、懦弱、残忍、狡诈这些最肮脏的品质，当你初次和它们接触时，就像接触到火一样，感到切肤的疼痛，从此与它们永远隔绝。所以，我一次次的用殴打让你觉出这种痛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您打我的时候，我跟您抗议过，我说：“打人犯法！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我知道打人犯法，但这个世界给了为人父母者一项特殊的赦免――打是爱。但是，为什么当我行使它的时候，却臂系千钧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妈妈，您说您使用殴打，犹如一个穷人使用他最后的金钱。每当打我的时候，您的心都在轻轻地颤抖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是的，我一次又一次问自己：是不是到了非打不可的地步？不打你，我还有没有其他的办法？只有当所有的努力都归于失败，我才会举起我的手……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您还说，每一次打过我之后，您都要深深地后悔和自责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母：没错，假如惩罚我自身可以使你吸取教训，孩子，我宁愿自罚！哪怕它将苛烈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子：但我知道，责罚不可以替代，也无法转让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85720"/>
            <a:ext cx="91440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母：对，它如同饥饿中的食品，只有你自己嚼碎了咽下去，才会成为你生命体验中的一部分。这道理可能有些深奥，也许要到你也为人父母时，才会理解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子：妈妈，您说，打人是个重体力的活儿，它使人肩酸腕痛，好像徒手将一千块蜂窝煤搬上五楼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母：是的，于是人们便发明了打人的工具：戒尺、鞋底儿、鸡毛掸子…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子：可您却从不用那些工具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母：打人的人用了多大的力，便要遭受到同样的反作用力，我愿在打你的同时，我的手指亲自承受力的反弹，遭受与你相等的苦痛。这样我才可以精确地掌握数量，不至于失手将你打得太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子：我能看得出来，每打我一次，您感到的痛楚都要比我更为久远而悠长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母：因为，打你，重要的不是身累，而是心累……只是孩子，从今以后，我决定不再打你了。因为我发现，今天当着这么多老师和同学的面，你已经可以毫不费力地跟妈妈展开一场完全平等的对话。我发现你真的已经长大了！毫不懂道理的婴孩和已经很懂道理的成人，我以为都不必打，因为打对他们来说是没有用的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子：唯有对半懂不懂、自以为懂其实不很懂道理的孩童，才可以打，以助他们快快长大。妈妈，您说对吧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母：是的！只是孩子，打与不打都是爱，你可懂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子：打与不打，都是爱！我们都懂得！妈妈，谢谢您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母：也谢谢各位老师、家长和孩子们的聆听！希望我们每个家庭的殴打来得更少些，快乐来得更多些！感谢学校给了我们这样一个倾吐心声和交流的机会，我和马一谢谢你们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据毕淑敏的同名散文改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 rot="21279600">
            <a:off x="1835280" y="2133360"/>
            <a:ext cx="60958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妈妈的心声与祝福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"/>
          <p:cNvSpPr/>
          <p:nvPr/>
        </p:nvSpPr>
        <p:spPr>
          <a:xfrm rot="1365000">
            <a:off x="1547640" y="5300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365000">
            <a:off x="601164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365000">
            <a:off x="6659640" y="47973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365000">
            <a:off x="755640" y="198900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 rot="276000">
            <a:off x="2268360" y="2205000"/>
            <a:ext cx="48992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2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谢母恩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2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 rot="21279600">
            <a:off x="2055960" y="1877760"/>
            <a:ext cx="539244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歌曲驴子孝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1365000">
            <a:off x="824364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365000">
            <a:off x="611280" y="198900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365000">
            <a:off x="6516360" y="522936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365000">
            <a:off x="1547640" y="5084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 rot="21279600">
            <a:off x="1979640" y="2133360"/>
            <a:ext cx="60958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现场采访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"/>
          <p:cNvSpPr/>
          <p:nvPr/>
        </p:nvSpPr>
        <p:spPr>
          <a:xfrm rot="1365000">
            <a:off x="1042560" y="1773360"/>
            <a:ext cx="432000" cy="43164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365000">
            <a:off x="6372000" y="206064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365000">
            <a:off x="1403280" y="5084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365000">
            <a:off x="8316720" y="450864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365000">
            <a:off x="4716360" y="530064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9280" y="836640"/>
            <a:ext cx="91458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现场采访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妈妈记得你的生日吗？为你怎么庆祝？                 你记得母亲生日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知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妈妈爱吃什么菜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日你在家里如何帮妈妈做家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愿意将自己的秘密说给妈妈听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妈妈穿多大的鞋你知道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妈妈最喜欢的颜色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妈妈最不喜欢你做何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rot="1365000">
            <a:off x="824364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365000">
            <a:off x="4643280" y="234936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365000">
            <a:off x="7236000" y="508464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62064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为了报答母亲的养育之恩你已经做了些什么？以后打算怎么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请每一位同学把最想对母亲说的话写出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427640" y="476280"/>
            <a:ext cx="4716360" cy="5977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5178600"/>
            <a:ext cx="8594640" cy="167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162240"/>
            <a:ext cx="2293920" cy="369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3727200">
            <a:off x="900000" y="141264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ff5050"/>
              </a:gs>
              <a:gs pos="100000">
                <a:srgbClr val="ff0066"/>
              </a:gs>
            </a:gsLst>
            <a:lin ang="43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439400">
            <a:off x="3203280" y="119664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400536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726200">
            <a:off x="7019640" y="29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7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48360" y="1916280"/>
            <a:ext cx="2195640" cy="4941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79280" y="476280"/>
            <a:ext cx="8425080" cy="56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唱给世界上最爱我的人</a:t>
            </a: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:</a:t>
            </a: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母亲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0" y="11592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08720" y="3429000"/>
            <a:ext cx="196056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9280" y="549360"/>
            <a:ext cx="40388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让我怎样感谢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当我走向您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原想收获一缕春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您却给了我整个春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让我怎样感谢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当我走向您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原想撷取一枚红叶让我怎么感谢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您却给了我整个枫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让我怎样感谢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当我走向您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476280"/>
            <a:ext cx="414036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原想捧起一簇浪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您却给了我整个海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我怎样感谢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我走向您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原想亲吻一朵雪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您却给了我整个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要感谢母亲的有许多，是一时半会说不完的，但是我们还是要大声的说一声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谢您，我的母亲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 rot="5400000">
            <a:off x="5829120" y="2711520"/>
            <a:ext cx="533376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谢妈妈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6" name=""/>
          <p:cNvSpPr/>
          <p:nvPr/>
        </p:nvSpPr>
        <p:spPr>
          <a:xfrm rot="1365000">
            <a:off x="3348000" y="566100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 rot="21279600">
            <a:off x="179280" y="549000"/>
            <a:ext cx="568980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让世界充满爱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0" name=""/>
          <p:cNvSpPr/>
          <p:nvPr/>
        </p:nvSpPr>
        <p:spPr>
          <a:xfrm>
            <a:off x="1827720" y="1841040"/>
            <a:ext cx="16437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轻轻地捧起你的脸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你把眼泪擦干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颗心永远属于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告诉我不再孤单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深地凝望你的眼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需要更多的语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紧紧地握住你的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温暖依旧未改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同欢乐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同忍受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08920" y="1840680"/>
            <a:ext cx="1826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怀着同样的期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共风雨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共追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珍存同一样的爱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论你我可曾相识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论在眼前在天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心的为你祝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祝愿你幸福平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5651640" cy="1015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1365000">
            <a:off x="161892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365000">
            <a:off x="8388000" y="177336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365000">
            <a:off x="6372000" y="537372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 rot="21279600">
            <a:off x="1459080" y="1988640"/>
            <a:ext cx="6095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5840">
                <a:solidFill>
                  <a:srgbClr val="ff66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9" name=""/>
          <p:cNvSpPr/>
          <p:nvPr/>
        </p:nvSpPr>
        <p:spPr>
          <a:xfrm rot="1365000">
            <a:off x="1692000" y="501336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276000">
            <a:off x="2050920" y="2060640"/>
            <a:ext cx="489924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2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悟母爱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2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4610160" cy="5829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62720" y="762120"/>
            <a:ext cx="33526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）妈妈给了我很多很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old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妈妈为我操心，白发已爬上了您的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5143680" cy="6686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638680" y="609480"/>
            <a:ext cx="327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tears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）您为我流过不少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hear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）您有一颗慈祥温暖的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572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10080" y="609480"/>
            <a:ext cx="335304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eyes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）您注视我的目光总是充满着爱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）您从不欺骗我们，教导我们去做正确的事情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9927200">
            <a:off x="178920" y="148392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ff5050"/>
              </a:gs>
              <a:gs pos="100000">
                <a:srgbClr val="ff0066"/>
              </a:gs>
            </a:gsLst>
            <a:lin ang="9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439400">
            <a:off x="1692360" y="27093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930400">
            <a:off x="2842920" y="9075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50000">
                <a:srgbClr val="ff6699"/>
              </a:gs>
              <a:gs pos="100000">
                <a:srgbClr val="ff5050"/>
              </a:gs>
            </a:gsLst>
            <a:lin ang="87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270828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288800">
            <a:off x="5435280" y="126792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95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26200">
            <a:off x="7019640" y="29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7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365000">
            <a:off x="8243640" y="119700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12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87640" y="4572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04640"/>
            <a:ext cx="79930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上的一切光荣和骄傲，都来自母亲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尔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爱是一种巨大的火焰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罗曼罗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爱是世间最伟大的力量 （米尔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人固然是脆弱的，母亲却是坚强的（法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上有一种最美丽的声音，那便是母亲的呼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的嘴唇所能发出的最好的字眼就是母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美好的呼唤就是妈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纪伯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178600"/>
            <a:ext cx="8918640" cy="167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9927200">
            <a:off x="178920" y="1483920"/>
            <a:ext cx="432000" cy="43200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ff5050"/>
              </a:gs>
              <a:gs pos="100000">
                <a:srgbClr val="ff0066"/>
              </a:gs>
            </a:gsLst>
            <a:lin ang="9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439400">
            <a:off x="1692360" y="27093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930400">
            <a:off x="2842920" y="90756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50000">
                <a:srgbClr val="ff6699"/>
              </a:gs>
              <a:gs pos="100000">
                <a:srgbClr val="ff5050"/>
              </a:gs>
            </a:gsLst>
            <a:lin ang="87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2708280"/>
            <a:ext cx="431640" cy="43164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288800">
            <a:off x="5435280" y="1267920"/>
            <a:ext cx="431640" cy="432000"/>
          </a:xfrm>
          <a:custGeom>
            <a:avLst/>
            <a:gdLst>
              <a:gd name="textAreaLeft" fmla="*/ 101520 w 431640"/>
              <a:gd name="textAreaRight" fmla="*/ 330120 w 4316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ff5050"/>
              </a:gs>
            </a:gsLst>
            <a:lin ang="95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7640" y="4572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981000"/>
            <a:ext cx="3827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就如春天的天使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送来了温暖的春风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来了如丝的小雨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吹进孩子的心灵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孩子的需要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位慈爱的天使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照顾孩童的生活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孩童的安全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付出了一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134136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5505120" y="3000240"/>
            <a:ext cx="53341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春天的天使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981000"/>
            <a:ext cx="424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管我们再怎么的坏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这个天使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仍然拥有海般的度量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宽容我们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妈妈的爱就像块糖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在唠叨里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藏在责骂里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东找西找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到我懂事才找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842328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4850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56:41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5:06Z</dcterms:modified>
  <cp:revision>132</cp:revision>
  <dc:subject>主题班会课件(分28大类): http://shop62905894.taobao.com</dc:subject>
  <dc:title>主题班会课件(分28大类): http://shop62905894.taobao.com</dc:title>
</cp:coreProperties>
</file>