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81C-65B1-4794-BB6B-D5F4D250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CAC-6757-4DD1-AE46-A9841892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ABE-185D-4504-B31B-87167016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116-7C15-4DA2-A7B7-FA30E296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C504-AC72-441F-A232-07B36967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A17-43F8-44B0-80A3-78E0B354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D3B9-A841-406B-B35A-0368D07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8511-19D5-49A9-8F7B-71FA1576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5B4B-93C3-47E4-BF05-B24A893F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6D61-9B25-4736-AD7C-CD833B77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D72B-9240-4069-9074-D2B7FE9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AD0-68CF-481B-9D3E-7AF200FD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432E-9BAC-4AF3-B796-F80DA218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0167-31E0-4193-98AF-C98A9987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189F-0CFB-4322-AB9C-8B43CADA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73EA-DBF2-4619-B12C-8883C64E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DF37-F7D0-41AC-8DD8-5B88247F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18C2-3076-4074-BC9B-0EE2457F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97EA-AE38-4042-916F-D432EDB4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8760-7643-454E-9F71-FD18F880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7AE5-B4F2-4E37-A3B9-BBE0A33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F2BE-BB27-403E-A11D-B118ADD9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543-95BE-4358-BED5-2AAFCD85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3230-9E64-4FF8-B4DD-1E9EB240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92D0-4F9A-4210-BEA1-79E8704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128C-CC66-4C3D-939D-EC7400E5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F153-7251-457F-B8A7-AE1AB674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623C-47F9-4C93-B744-FC89798B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2444-D0E1-4ED3-BA03-FC2D7026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11163-6D44-47CF-B8DD-8605DDE4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070D-B9B0-481E-9830-E28479DB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4958-CCC4-4BC2-B059-4EA72D5A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19B0E-3B07-4CFA-839A-17BF48D8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FA2-43F0-424B-A0F2-04471B20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E1AF9-F687-433B-BFB4-4CAE0E0C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71C0-7419-409C-B07D-428EB3DD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1BEB-AB13-49E1-B85F-B4BA39BB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87BD-35CD-48C6-A93B-C5828C49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D4F1-5058-48E8-9AE8-84AE1B89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6A90-6EDF-405D-9DEC-8300E3A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9A457-A93F-4E07-8522-5B8BDF6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1AC3-EC21-4BE7-9C40-2E490678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DF6C2-2DCB-4760-8D7B-0350C4D0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95271-CABA-447E-B3D8-DF27BCE8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8AB-BCC8-45A7-9FE8-11DCD815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35CF2-606D-44B9-909D-C2E7B12B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49FC-20E0-49AE-9588-22175B38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DE708-588C-41E5-AA59-C3D85EC0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1779A-0CB3-4B9F-A39A-67227049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A36C-6553-4929-8524-57227B1D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885B-5C89-4FB0-849C-62C460C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06CDF-BB05-4017-A33A-AFDFA17D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97C17-F191-4C94-9579-DC62B07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29D02-A12E-434D-A6F4-1D215D95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FC20-B185-4DBF-9E18-74890E93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B4F-0DDB-45F1-98E3-21DA7D71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72BC8-787F-4131-86AB-33DDD83E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FF51-BDD1-48F2-A902-FBA2CCB7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B4BEC-4B10-438A-8A51-10BF40D7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49BF7-3974-45D5-9EF9-26D57D96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FDDA3-7822-42D5-82B8-4D6FE3DD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E611-DC8B-41B4-81D2-11942E9A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B268D-DF4B-45BA-9C49-AA1E6AEC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DE54-4D97-4F08-97CD-E058803F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EE4A3-5E5B-425A-ADA0-107C0BD8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8EB7-ACA0-43E8-8886-83F8F298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DC6-E8D7-49AC-A284-6A6B1F91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5B595-8AAF-4DD8-9C48-C90E605B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73C7-8D3F-4373-A113-9C0184DE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5A166-DED6-4086-A781-1C997967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E3552-BB93-41DB-84AE-87D01AE5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05E8B-99C2-4D11-81DF-76843654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D5F45-DCF1-40B3-B27B-BDD7AB34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069FC-86FE-403A-84EC-1688A24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21EBB-DE9C-4FA8-B58C-9C5744C1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EF015-CD85-4937-993B-407772D0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F235E-21E7-4525-9FBE-900EAF3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B78-0108-4405-9293-68194E2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0CBEA-475D-40AD-86AA-D666702D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263CE-C2DE-4423-B446-ED97E97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A1BDF-C6BA-4169-ACCF-E77310D1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48543-3C86-49AB-AAE0-B3E76528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34F32-20DF-4EC2-A94C-2FE3EC5F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70169-F640-475E-8EB1-BA9A68E7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D0FE7-C444-443C-840E-968E82BC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9DC4B-86E3-47E9-B0ED-7825DB2E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0D6AE-ADE8-43A9-9A2C-5E099974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1D04B-7622-492D-9A45-2E24B50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401-E0D2-4155-9EBF-8D15BE8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11E3E-B779-4318-B370-B6D48364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C0DCB-A0F5-47E4-961F-AC8787D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A1893-EB41-4F77-96FC-D4281C9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D9B0-B1F3-463B-B8E4-CE2D9FEF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72C69-834C-4EF5-8DEF-22C5FB86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B6E5E-070D-4960-BAC7-A76DF2D9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07EF8-8DE3-4C60-82D4-AD7F3505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2FCB-78EC-4D87-A5F5-3DFA42D273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79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225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239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253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267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81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95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09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0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11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BBE8-6341-404D-86EE-A8AD58F79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F0F7-657C-4DF1-A727-65A74E110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4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4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421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422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42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42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43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434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437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440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443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46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49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5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55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458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46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46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467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47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47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476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47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482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48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49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49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496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499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50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50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508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51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514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51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506D-BA24-426B-9FA1-936C39F0C48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8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8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1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2CFA-3CE7-4493-80A6-F71A3AFAAB0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62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5141160" y="1036080"/>
              <a:ext cx="1094760" cy="51120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9"/>
            <p:cNvSpPr/>
            <p:nvPr/>
          </p:nvSpPr>
          <p:spPr>
            <a:xfrm>
              <a:off x="6385680" y="2482920"/>
              <a:ext cx="790560" cy="829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15"/>
            <p:cNvSpPr/>
            <p:nvPr/>
          </p:nvSpPr>
          <p:spPr>
            <a:xfrm>
              <a:off x="7986960" y="2661840"/>
              <a:ext cx="937440" cy="771120"/>
            </a:xfrm>
            <a:custGeom>
              <a:avLst/>
              <a:gdLst>
                <a:gd name="textAreaLeft" fmla="*/ 0 w 937440"/>
                <a:gd name="textAreaRight" fmla="*/ 937800 w 9374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76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822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8742-0556-4913-840E-35996E4A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A85-E741-4A7B-ABF7-4908FDCAD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919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920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2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923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924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925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7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928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929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custGeom>
                      <a:avLst/>
                      <a:gdLst>
                        <a:gd name="textAreaLeft" fmla="*/ 0 w 2126880"/>
                        <a:gd name="textAreaRight" fmla="*/ 2127240 w 21268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1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932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4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935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938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0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941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3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944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6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947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9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950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2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953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956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8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959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962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4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965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7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968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0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971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3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974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6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977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9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980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2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983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986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8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989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1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3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994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997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custGeom>
                      <a:avLst/>
                      <a:gdLst>
                        <a:gd name="textAreaLeft" fmla="*/ 0 w 1423800"/>
                        <a:gd name="textAreaRight" fmla="*/ 1424160 w 142380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custGeom>
                      <a:avLst/>
                      <a:gdLst>
                        <a:gd name="textAreaLeft" fmla="*/ 0 w 765720"/>
                        <a:gd name="textAreaRight" fmla="*/ 766080 w 7657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1000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1003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5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1006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8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1009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custGeom>
                      <a:avLst/>
                      <a:gdLst>
                        <a:gd name="textAreaLeft" fmla="*/ 360 w 1887120"/>
                        <a:gd name="textAreaRight" fmla="*/ 1887840 w 18871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1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1012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1015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custGeom>
                      <a:avLst/>
                      <a:gdLst>
                        <a:gd name="textAreaLeft" fmla="*/ 0 w 1090080"/>
                        <a:gd name="textAreaRight" fmla="*/ 1090440 w 109008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7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1018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custGeom>
                      <a:avLst/>
                      <a:gdLst>
                        <a:gd name="textAreaLeft" fmla="*/ 0 w 1972800"/>
                        <a:gd name="textAreaRight" fmla="*/ 1973160 w 197280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0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1021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3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1024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6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1027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1028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5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6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1037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1827-8C3C-46B2-92DC-B6DC3617F65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312;%C7%D7&amp;in=24823&amp;cl=2&amp;cm=1&amp;sc=0&amp;lm=-1&amp;pn=63&amp;rn=1&amp;di=1292516776&amp;ln=2000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home.pica.com/1003-4376/cast.do?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Picture 6" descr="图片1"/>
          <p:cNvPicPr/>
          <p:nvPr/>
        </p:nvPicPr>
        <p:blipFill>
          <a:blip r:embed="rId1"/>
          <a:stretch/>
        </p:blipFill>
        <p:spPr>
          <a:xfrm>
            <a:off x="-314280" y="-228600"/>
            <a:ext cx="9772560" cy="7315200"/>
          </a:xfrm>
          <a:prstGeom prst="rect">
            <a:avLst/>
          </a:prstGeom>
          <a:ln w="0">
            <a:noFill/>
          </a:ln>
        </p:spPr>
      </p:pic>
      <p:sp>
        <p:nvSpPr>
          <p:cNvPr id="1093" name="WordArt 4"/>
          <p:cNvSpPr txBox="1"/>
          <p:nvPr/>
        </p:nvSpPr>
        <p:spPr>
          <a:xfrm>
            <a:off x="1116000" y="2276640"/>
            <a:ext cx="7272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捧出一颗孝心献给母亲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pic>
        <p:nvPicPr>
          <p:cNvPr id="1094" name="WordArt 5" descr=""/>
          <p:cNvPicPr/>
          <p:nvPr/>
        </p:nvPicPr>
        <p:blipFill>
          <a:blip r:embed="rId2"/>
          <a:stretch/>
        </p:blipFill>
        <p:spPr>
          <a:xfrm>
            <a:off x="1584360" y="1268280"/>
            <a:ext cx="7559640" cy="93672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AutoShape 7"/>
          <p:cNvSpPr/>
          <p:nvPr/>
        </p:nvSpPr>
        <p:spPr>
          <a:xfrm>
            <a:off x="250920" y="3716280"/>
            <a:ext cx="8280360" cy="2708280"/>
          </a:xfrm>
          <a:prstGeom prst="horizontalScroll">
            <a:avLst>
              <a:gd name="adj" fmla="val 125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无论如何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父母劳心劳力地为我们的前途着想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我们应该好好地读书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不要辜负父母对我们的期望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我们长大之后一定孝顺父母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WordArt 4"/>
          <p:cNvSpPr txBox="1"/>
          <p:nvPr/>
        </p:nvSpPr>
        <p:spPr>
          <a:xfrm>
            <a:off x="2987640" y="260280"/>
            <a:ext cx="331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总结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4" name="Text Box 5"/>
          <p:cNvSpPr/>
          <p:nvPr/>
        </p:nvSpPr>
        <p:spPr>
          <a:xfrm>
            <a:off x="2221200" y="4149720"/>
            <a:ext cx="425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让我们一起大声地说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妈妈，我爱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!!!!!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6" descr="u=2588309929,652126709&amp;gp=2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427640" cy="4508640"/>
          </a:xfrm>
          <a:prstGeom prst="rect">
            <a:avLst/>
          </a:prstGeom>
          <a:ln w="0">
            <a:noFill/>
          </a:ln>
        </p:spPr>
      </p:pic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zh-CN" sz="11500" spc="-1" strike="noStrike">
                <a:solidFill>
                  <a:srgbClr val="ff0000"/>
                </a:solidFill>
                <a:latin typeface="Tahoma"/>
              </a:rPr>
              <a:t>母亲</a:t>
            </a:r>
            <a:endParaRPr b="0" lang="en-US" sz="11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8" name="Picture 9" descr="jV1ViGyBfHe63tIre-2tEt2WETYuIh2W4B+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72120" y="3143160"/>
            <a:ext cx="4871880" cy="37148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母亲的诠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5092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ny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）妈妈给了我很多很多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ld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）妈妈为我操心，白发已爬上了您的头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ears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）您为我流过不少泪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H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heart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）您有一颗慈祥温暖的心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E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eyes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）您注视我的目光总是充满着爱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R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right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）您从不欺骗我们，教导我们去做正          确的事情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我被感动着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请听小故事：</a:t>
            </a:r>
            <a:r>
              <a:rPr b="1" lang="en-US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《</a:t>
            </a:r>
            <a:r>
              <a:rPr b="1" lang="zh-CN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古老而永恒的丰碑</a:t>
            </a:r>
            <a:r>
              <a:rPr b="1" lang="en-US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》</a:t>
            </a:r>
            <a:r>
              <a:rPr b="1" lang="zh-CN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一</a:t>
            </a:r>
            <a:r>
              <a:rPr b="1" lang="zh-CN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：在贵州发生的缆车事故中，缆车以疯狂的速度下坠，在撞击地面的一瞬间，一对夫妇同时举起两岁半的儿子结果夫妻双双遇难</a:t>
            </a:r>
            <a:r>
              <a:rPr b="1" lang="en-US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而儿子却安然无恙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二</a:t>
            </a:r>
            <a:r>
              <a:rPr b="1" lang="zh-CN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：当年唐山大地震中，人们在清理废墟时，发现一位母亲割破血管用热血哺育怀中的婴儿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三</a:t>
            </a:r>
            <a:r>
              <a:rPr b="1" lang="zh-CN" sz="3200" spc="-1" strike="noStrike">
                <a:solidFill>
                  <a:srgbClr val="ffcc00"/>
                </a:solidFill>
                <a:latin typeface="方正姚体"/>
                <a:ea typeface="方正姚体"/>
              </a:rPr>
              <a:t>：在汶川地震中，抢救人员发现她的时候，她已经死了，是被垮下的房子压死的，看到她死亡的姿势，双膝跪着，整个上身向前匍匐着，双手扶着地支撑着身体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 txBox="1"/>
          <p:nvPr/>
        </p:nvSpPr>
        <p:spPr>
          <a:xfrm>
            <a:off x="-181440" y="213840"/>
            <a:ext cx="9649080" cy="76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方正姚体"/>
                <a:ea typeface="方正姚体"/>
              </a:rPr>
              <a:t>身体被压的变形了，救援人员突然喊“有人，有个孩子 ，还活着”。 经过一番努力，人们小心的把挡着她的废墟清理开，在她的身体下面躺着她的孩子，包在一个红色带黄花的小被子里，大概有</a:t>
            </a:r>
            <a:r>
              <a:rPr b="1" lang="en-US" sz="3600" spc="-1" strike="noStrike">
                <a:solidFill>
                  <a:srgbClr val="ffcc00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ffcc00"/>
                </a:solidFill>
                <a:latin typeface="方正姚体"/>
                <a:ea typeface="方正姚体"/>
              </a:rPr>
              <a:t>、</a:t>
            </a:r>
            <a:r>
              <a:rPr b="1" lang="en-US" sz="3600" spc="-1" strike="noStrike">
                <a:solidFill>
                  <a:srgbClr val="ffcc00"/>
                </a:solidFill>
                <a:latin typeface="方正姚体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ffcc00"/>
                </a:solidFill>
                <a:latin typeface="方正姚体"/>
                <a:ea typeface="方正姚体"/>
              </a:rPr>
              <a:t>个月大，因为母亲身体庇护着，他毫发未伤，他熟睡的脸让所有在场的人感到很温暖。 随行的医生过来解开被子准备做些检查，发现有一部手机塞在被子里，医生下意识的看了下手机屏幕，发现屏幕上是一条已经写好的短信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“亲爱的宝贝，如果你能活着，一定要记住我爱你”</a:t>
            </a:r>
            <a:r>
              <a:rPr b="1" lang="zh-CN" sz="3600" spc="-1" strike="noStrike">
                <a:solidFill>
                  <a:srgbClr val="ffcc00"/>
                </a:solidFill>
                <a:latin typeface="方正姚体"/>
                <a:ea typeface="方正姚体"/>
              </a:rPr>
              <a:t>，看惯了生离死别的医生却在这一刻落泪了，手机传递着，每个看到短信的人都落泪了！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方正姚体"/>
                <a:ea typeface="方正姚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Picture 11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8" descr="2005072800104198"/>
          <p:cNvPicPr/>
          <p:nvPr/>
        </p:nvPicPr>
        <p:blipFill>
          <a:blip r:embed="rId2"/>
          <a:stretch/>
        </p:blipFill>
        <p:spPr>
          <a:xfrm>
            <a:off x="0" y="2997360"/>
            <a:ext cx="5219640" cy="3860640"/>
          </a:xfrm>
          <a:prstGeom prst="rect">
            <a:avLst/>
          </a:prstGeom>
          <a:ln w="0">
            <a:noFill/>
          </a:ln>
        </p:spPr>
      </p:pic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宋体"/>
              </a:rPr>
              <a:t>说一说：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在假期里我为妈妈做了</a:t>
            </a:r>
            <a:r>
              <a:rPr b="1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… …</a:t>
            </a:r>
            <a:r>
              <a:rPr b="1" lang="zh-CN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体会到了</a:t>
            </a:r>
            <a:r>
              <a:rPr b="1" lang="en-US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…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0" y="228240"/>
            <a:ext cx="8300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 Black"/>
              </a:rPr>
              <a:t>        </a:t>
            </a:r>
            <a:r>
              <a:rPr b="1" lang="zh-CN" sz="3200" spc="-1" strike="noStrike">
                <a:solidFill>
                  <a:srgbClr val="ff6699"/>
                </a:solidFill>
                <a:latin typeface="Arial Black"/>
              </a:rPr>
              <a:t>子路，春秋末鲁国人。在孔子的弟子中以政事著称。尤其以勇敢闻名。但子路小的时候家里很穷，长年靠吃粗粮野菜等度日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 Black"/>
              </a:rPr>
              <a:t>        </a:t>
            </a:r>
            <a:r>
              <a:rPr b="1" lang="zh-CN" sz="3200" spc="-1" strike="noStrike">
                <a:solidFill>
                  <a:srgbClr val="ff6699"/>
                </a:solidFill>
                <a:latin typeface="Arial Black"/>
              </a:rPr>
              <a:t>有一次，年老的父母想吃米饭，可是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ff6699"/>
                </a:solidFill>
                <a:latin typeface="Arial Black"/>
              </a:rPr>
              <a:t>家里一点米也没有，怎么办？子路想到要是翻过几道山到亲戚家借点米，不就可以满足父母的这点要求了吗？ </a:t>
            </a:r>
            <a:br>
              <a:rPr sz="3200"/>
            </a:br>
            <a:r>
              <a:rPr b="1" lang="zh-CN" sz="3200" spc="-1" strike="noStrike">
                <a:solidFill>
                  <a:srgbClr val="ff6699"/>
                </a:solidFill>
                <a:latin typeface="Arial Black"/>
              </a:rPr>
              <a:t>于是，小小的子路翻山越岭走了十几里路，从亲戚家背回了一小袋米，看到父母吃上了香喷喷的米饭，子路忘记了疲劳。邻居们都夸子路是一个勇敢孝顺的好孩子。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AutoShape 6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13" descr="index_03"/>
          <p:cNvPicPr/>
          <p:nvPr/>
        </p:nvPicPr>
        <p:blipFill>
          <a:blip r:embed="rId1"/>
          <a:stretch/>
        </p:blipFill>
        <p:spPr>
          <a:xfrm>
            <a:off x="627048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1111" name="WordArt 4"/>
          <p:cNvSpPr txBox="1"/>
          <p:nvPr/>
        </p:nvSpPr>
        <p:spPr>
          <a:xfrm>
            <a:off x="539640" y="260280"/>
            <a:ext cx="504036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你对父母了解有多少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2" name="WordArt 5" descr=""/>
          <p:cNvPicPr/>
          <p:nvPr/>
        </p:nvPicPr>
        <p:blipFill>
          <a:blip r:embed="rId2"/>
          <a:stretch/>
        </p:blipFill>
        <p:spPr>
          <a:xfrm>
            <a:off x="244440" y="1474920"/>
            <a:ext cx="4218120" cy="549000"/>
          </a:xfrm>
          <a:prstGeom prst="rect">
            <a:avLst/>
          </a:prstGeom>
          <a:ln w="0">
            <a:noFill/>
          </a:ln>
        </p:spPr>
      </p:pic>
      <p:pic>
        <p:nvPicPr>
          <p:cNvPr id="1113" name="WordArt 6" descr=""/>
          <p:cNvPicPr/>
          <p:nvPr/>
        </p:nvPicPr>
        <p:blipFill>
          <a:blip r:embed="rId3"/>
          <a:stretch/>
        </p:blipFill>
        <p:spPr>
          <a:xfrm>
            <a:off x="244440" y="2200320"/>
            <a:ext cx="527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4" name="WordArt 7" descr=""/>
          <p:cNvPicPr/>
          <p:nvPr/>
        </p:nvPicPr>
        <p:blipFill>
          <a:blip r:embed="rId4"/>
          <a:stretch/>
        </p:blipFill>
        <p:spPr>
          <a:xfrm>
            <a:off x="291960" y="2992320"/>
            <a:ext cx="5621400" cy="757440"/>
          </a:xfrm>
          <a:prstGeom prst="rect">
            <a:avLst/>
          </a:prstGeom>
          <a:ln w="0">
            <a:noFill/>
          </a:ln>
        </p:spPr>
      </p:pic>
      <p:pic>
        <p:nvPicPr>
          <p:cNvPr id="1115" name="WordArt 8" descr=""/>
          <p:cNvPicPr/>
          <p:nvPr/>
        </p:nvPicPr>
        <p:blipFill>
          <a:blip r:embed="rId5"/>
          <a:stretch/>
        </p:blipFill>
        <p:spPr>
          <a:xfrm>
            <a:off x="274680" y="3919680"/>
            <a:ext cx="4626000" cy="512640"/>
          </a:xfrm>
          <a:prstGeom prst="rect">
            <a:avLst/>
          </a:prstGeom>
          <a:ln w="0">
            <a:noFill/>
          </a:ln>
        </p:spPr>
      </p:pic>
      <p:pic>
        <p:nvPicPr>
          <p:cNvPr id="1116" name="WordArt 9" descr="白色大理石"/>
          <p:cNvPicPr/>
          <p:nvPr/>
        </p:nvPicPr>
        <p:blipFill>
          <a:blip r:embed="rId6"/>
          <a:stretch/>
        </p:blipFill>
        <p:spPr>
          <a:xfrm>
            <a:off x="304920" y="4780080"/>
            <a:ext cx="5278320" cy="487080"/>
          </a:xfrm>
          <a:prstGeom prst="rect">
            <a:avLst/>
          </a:prstGeom>
          <a:ln w="0">
            <a:noFill/>
          </a:ln>
        </p:spPr>
      </p:pic>
      <p:sp>
        <p:nvSpPr>
          <p:cNvPr id="1117" name="WordArt 11"/>
          <p:cNvSpPr txBox="1"/>
          <p:nvPr/>
        </p:nvSpPr>
        <p:spPr>
          <a:xfrm>
            <a:off x="5867280" y="0"/>
            <a:ext cx="4669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 repeatCount="10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WordArt 5"/>
          <p:cNvSpPr txBox="1"/>
          <p:nvPr/>
        </p:nvSpPr>
        <p:spPr>
          <a:xfrm>
            <a:off x="971640" y="2349360"/>
            <a:ext cx="735804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如何孝顺父母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19" name="Picture 6" descr="j0281904"/>
          <p:cNvPicPr/>
          <p:nvPr/>
        </p:nvPicPr>
        <p:blipFill>
          <a:blip r:embed="rId1"/>
          <a:stretch/>
        </p:blipFill>
        <p:spPr>
          <a:xfrm>
            <a:off x="0" y="0"/>
            <a:ext cx="1547640" cy="1463760"/>
          </a:xfrm>
          <a:prstGeom prst="rect">
            <a:avLst/>
          </a:prstGeom>
          <a:ln w="0">
            <a:noFill/>
          </a:ln>
        </p:spPr>
      </p:pic>
      <p:sp>
        <p:nvSpPr>
          <p:cNvPr id="1120" name="Text Box 6"/>
          <p:cNvSpPr/>
          <p:nvPr/>
        </p:nvSpPr>
        <p:spPr>
          <a:xfrm>
            <a:off x="4647960" y="765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说一说今后你怎么做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0:30:31Z</dcterms:created>
  <dc:creator>主题班会课件(分28大类): http://shop62905894.taobao.com</dc:creator>
  <dc:description>中学语文在线-免费资源站（www.ywzx8.com）</dc:description>
  <cp:keywords>主题班会课件(分28大类): http://shop62905894.taobao.com</cp:keywords>
  <dc:language>en-US</dc:language>
  <cp:lastModifiedBy>User</cp:lastModifiedBy>
  <dcterms:modified xsi:type="dcterms:W3CDTF">2013-04-13T17:07:55Z</dcterms:modified>
  <cp:revision>26</cp:revision>
  <dc:subject>主题班会课件(分28大类): http://shop62905894.taobao.com</dc:subject>
  <dc:title>主题班会课件(分28大类): http://shop62905894.taobao.com</dc:title>
</cp:coreProperties>
</file>