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4CB-17C0-4FD3-B8FF-42757B1B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F6C-98F5-4B8E-A077-951EC4C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0AF-4FDC-4089-B340-ECED17D0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C7E-B463-4866-B507-35E17BDE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38F-8D45-4974-B0EE-6F0224B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4BB-DF2A-4F46-AD24-B837F3CD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930-C72F-4B2D-93A7-107C791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578-B85D-4D0E-AA4F-D0C99613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685-64C6-4A3A-89AE-40C1F27E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07D-E444-448F-9DFD-8D05BBE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3AD-8CDD-4F9C-B27C-62D8DF4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86A-5BF2-4D51-8821-172D0089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FF7-3926-4C00-83ED-AA603F372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74072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551664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东省东阿县实验高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开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53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04640"/>
            <a:ext cx="8569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恩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父母他们给了我们生命和无私的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亲人他们给了我们爱的温馨和家的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朋友他们给了我们纯洁友谊和无言的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老是给了我们丰富的知识和看世界的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邻家的小女孩给我以纯真无邪的笑脸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周围所有的人给了我与他人交流勾通时的快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伤害我的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他磨练了我的心志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欺骗我的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他增进了我的见识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遗弃我的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他教导了我应自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绊倒我的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他强化了我的能力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斥责我的人，因为他助长了我的智慧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藐视我的人，因为他觉醒了我的自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47628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生活所给予我的一切，虽然并不全都是美满和幸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天空，给我提供了一个施展的舞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大地，给我无穷的支持与力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太阳，给我提供光和热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天上所有的星，与我一起迎接每一个黎明和黄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我爱的人和爱我的人，使我的生命不再孤单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我的敌人，让我认识自己和看清别人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鲜花的绽放， 绿草的如茵，鸟儿的歌唱， 让我拥有了美丽，充满生机的世界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日升，让我在白日的光辉中有明亮的心情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日落，让我在喧嚣疲惫过后有静夜可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快乐，让我幸福地绽开笑容，在美好生活着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伤痛，让我学会了坚忍，也练就了我释怀生命之起落的本能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生活，让我在漫长岁月的季节里拈起生命的美丽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有你，尽管远隔千里，可你寒冬里也给我温暖的心怀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关怀，生命因你而多了充实与清新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60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：感恩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8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恩的故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700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，美国前总统罗斯福家失盗，被偷去了许多东西，一位朋友闻讯后，忙写信安慰他，劝他不必太在意。罗斯福给朋友写了一封回信：“亲爱的朋友，谢谢你来信安慰我，我现在很平安。感谢上帝：因为第一，贼偷去的是我的东西，而没有伤害我的生命；第二，贼只偷去我部分东西，而不是全部；第三，最值得庆幸的是，做贼的是他，而不是我。”对任何一个人来说，失盗绝对是不幸的事，而罗斯福却找出了感恩的三条理由。这个故事，启发我们该如何感恩生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59280" y="404640"/>
            <a:ext cx="2304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    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924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恩的故事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28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这样一个故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名公交司机行车途中突发心脏病，在生命的最后一分钟里，做了三件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车缓缓停在马路边，并用生命最后的力气拉下了手动刹车闸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车门打开，让乘客安全地下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发动机熄灭，确保车、乘客和行人的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做完这三件事，暗想的趴在方向盘上停止了呼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404640"/>
            <a:ext cx="860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花的邮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个小村庄里有位中年邮差，他从刚满二十岁起便开始每天往返五十公里的路程，日复一日将忧欢悲喜的故事，送到居民的家中。就这样二十年一晃而过，人事物几番变迁， 唯独从邮局到村庄的这条道路，从过去到现在，始终没有一枝半叶，触目所及，唯有飞扬的尘土罢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「这样荒凉的路还要走多久呢？」他一想到必须在这无花无树充满尘土的路上，踩著脚踏车度过他的人生时，心中总是有些遗憾。有一天当他送完信，心事重重准备回去时，刚好经过了一家花店。 「对了，就是这个！」 他走进花店，买了一把野花的种籽，并且从第二天开始，带著这些种籽撒在往来的路上。 就这样，经过一天，两天，一个月，两个月……，他始终持续散播著野花种籽。没多久，那条已经来回走了二十年的荒凉道路，竟开起了许多红、黄各色的小花；夏天开夏天的花，秋天开秋天的花，四季盛开，永不停歇。种籽和花香对村庄里的人来说，比邮差一辈子送达的任何一封邮件，更令他们开心。在不是充满尘土而是充满花瓣的道路上吹著口哨，踩著脚踏车的邮差，不再是孤独的邮差，也不再是愁苦的邮差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生如白驹过隙，时光飞逝，何妨留下善行，提供后人乘凉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束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学会感恩吧！拥有一颗感恩的心，我们就少一些烦恼，多一份快乐；少一些埋怨，多一份责任；少一些指责，多一份理解；少一些后悔，多一份珍惜；少一些冷漠，多一份笑脸；少一些仇恨，多一份友谊；少一些破坏，多一份拯救；少一些惩戒，多一份赞赏；少一些野蛮，多一份文明；少一些冲动，多一分冷静；少一些，多一份和谐；少一些对手，多很多朋友；少一些自卑，多一份谦恭；少一些怠慢，多一份激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69228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了解父母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13372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母亲和父亲的生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给父亲和母亲买过生日礼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父母什么时候有了白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时候有了皱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的愿望是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的遗憾又是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父亲喜欢吃的菜是？你母亲喜欢吃什么的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时候最开心，什么时候又最难过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调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404640"/>
            <a:ext cx="73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4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没有一位母亲会忘记自己儿女的生日，因为母亲历经“十月怀胎”的种种磨难，忍着“一朝分娩”的剧痛，用甘甜的乳汁和无微不至的关怀把我们一天天养大，子女成为他们生命中最重要的一部分，他们怎么会忘记呢？然而，父母付出的心血，我们又受过多少次良心的发现、有过多少次深沉的感怀、又有过多少次真情的回馈呢？我们这些年岁已长的“小皇帝”依旧过着衣来伸手、饭来张口的生活，把父母的爱、亲人的情看成是理所当然。更有甚者，面对父母，唯我独尊，颐指气使！“谁言寸草心，报得三春晖。”施恩者不图回报、无私奉献，受恩者反而居高临下、盛气凌人！这是多么令人痛心疾首的现状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08280" y="3333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：《恩感的心》背后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24000" y="404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朵玫瑰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62064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到这两个故事我不知道大家有什么样心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是不是也在重复着同样的故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难道非要到了那一刻我们才能珍惜那份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会懂得那份爱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是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失去以后的美好回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是拥有时刻的珍惜和感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对日夜为我们操劳和逐渐衰老的父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是不是也该做点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是不是也该拿出点行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证明我们心中还有的那份感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333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很容易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76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父母为我们付出的时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来没有要求我们回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并不意味着我们不能回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碗泡面可以就令一位坚强的父亲感动的流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我们的父母对我们的回报是那么容易满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父母干活回来的时候端上一杯热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父母生日的时候送上自己亲手做的礼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父母休息的时候给他们捶捶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父母为我们操劳的时候说声谢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吃饭的时候为父母夹一口他们喜欢吃的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为很晚才回家的父母准备一顿简单的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怕仅仅是一碗面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回家的时候少带一点脏衣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是不是可以在学校好好表现一下自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少因为过错让家长来学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这一切难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：学会感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079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不闻，“羊羔跪乳，乌鸦反哺”，扇枕暖被的黄香，彩衣娱亲的老菜子，舍身护父的潘综，锅巴奉母的陈遗……曾听过《聊斋志异》的故事，因为狐仙们心存感恩，这些以狡猾著称的小动物竟显得如此美丽多情；也曾听过一饭千金的故事，因为韩信心存感恩，这一段千古流传的佳话竟百读不厌，常品常新。不管是动物还是人类，无论是神话还是历史，因为心存感恩，原来普普通通的故事，竟然变得美丽动人。原来，只要心存感恩，一粒干瘪的种子也能萌芽，最终生长成一片茂密的森林；只要心存感恩，一条涓涓细流也能壮大，最终汇集成一片蔚蓝的大海；只要心存感恩，一颗冷如冰山的心窍也能融化，最终荡漾成一缕吹绿柳梢的春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1:06:29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1:52Z</dcterms:modified>
  <cp:revision>19</cp:revision>
  <dc:subject>主题班会课件(分28大类): http://shop62905894.taobao.com</dc:subject>
  <dc:title>主题班会课件(分28大类): http://shop62905894.taobao.com</dc:title>
</cp:coreProperties>
</file>