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8E75-8C5C-4632-93CC-67CBFE7A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35C5-A370-469F-A981-9D3DDD1A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6CE8-2AB5-4D6A-BBB1-AC5EAB5D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22F8-B555-4355-AEC2-8337B978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FBA8-D246-416C-82D5-652ECE22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61FC-2589-4B44-A4DA-BCF9DDB1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3E4E-9DCB-4310-811D-93BE15DE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06F7-7CE8-4E1D-9D0D-76707119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94EF-A631-4CB9-924B-8634EA61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7E6F-4D2E-4448-AA7C-427B6D55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60E9-54FC-4CAF-841A-25F1DA44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2208-25EB-4D34-9DDE-A1F4F646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5CE5-099C-40A5-8C24-1F93689DE6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1268280"/>
            <a:ext cx="7272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感激　感恩　心存感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4128480" y="40464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主题班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1905120"/>
            <a:ext cx="63244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幼圆"/>
                <a:ea typeface="幼圆"/>
              </a:rPr>
              <a:t>感激父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53080" y="4692600"/>
            <a:ext cx="37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同学谈谈感动自己的事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4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6600"/>
                </a:solidFill>
                <a:latin typeface="_x000b__x000c_"/>
                <a:ea typeface="幼圆"/>
              </a:rPr>
              <a:t>可是我们忽略了最重要的一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236232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2743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因为父母，我们而存在；因为父母，我们而茁壮；因为父母，我们而幸福。我们从呱呱落地的婴儿到有独立思想的个体，这是一个成长的过程，也是父爱母爱的见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春晖寸草，怎能言报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2057400"/>
            <a:ext cx="6934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如果爱要等价交换，那我们能给父母的是什么？那时候抱怨又算什么呢？……我们应该忏悔，忏悔那些伤害过父母的言语；忏悔那些惹父母生气的行为；忏悔那些抱怨父母的荒谬想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52578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Times New Roman"/>
                <a:ea typeface="幼圆"/>
              </a:rPr>
              <a:t>对他们说声：“谢谢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幼圆"/>
              </a:rPr>
              <a:t>感激老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87960" y="48164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生畅所欲言老师点滴关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785680" y="244800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请听同学的朗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49920" y="4692600"/>
            <a:ext cx="116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请学生真心地对老师说一句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896560" y="11970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感谢朋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92760" y="3213000"/>
            <a:ext cx="41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组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周华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&lt;&lt;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朋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451680" y="2754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感谢所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让我们学会感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773360"/>
            <a:ext cx="8569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们感激，感激日，感激月，感激雨的温柔、雪的苍茫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　我们感激，感激山，感激海，感激树木的葱茏、花草的芬芳。我们的感激使我们宽厚，使我善良，使我幸福，使我珍惜分分秒秒的如水时光……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81880" y="105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起朗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7280" y="1483920"/>
            <a:ext cx="6726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 </a:t>
            </a:r>
            <a:br>
              <a:rPr sz="4400"/>
            </a:br>
            <a:r>
              <a:rPr b="1" i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i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我们需要心存感激，因为只有心存感激，你才会知道付出比得到更珍贵，你才可能拥有宽阔的胸怀，强烈的责任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4160" y="507960"/>
            <a:ext cx="162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结束语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5943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放弃冷漠 </a:t>
            </a:r>
            <a:r>
              <a:rPr b="1" i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i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学会感激</a:t>
            </a:r>
            <a:r>
              <a:rPr b="1" i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328284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放弃玩世不恭</a:t>
            </a: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相信还有真情</a:t>
            </a: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;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441972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放弃抱怨</a:t>
            </a: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学会感恩</a:t>
            </a: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49560" y="502920"/>
            <a:ext cx="3046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镜头之一：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905120"/>
            <a:ext cx="8304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值日生刚做完值日，不多久，教室的畚箕旁就有了好几个纸团、饮料瓶、肉串的竹签，一些同学的脚边也有垃圾扔在那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再过几分钟就要来检查卫生了，但班里没人关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66880" y="655200"/>
            <a:ext cx="273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镜头之二：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646280"/>
            <a:ext cx="8532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某学生，父母双双入岗。为了他能顺利通过中考，家里花了一大笔钱让他补习。但是，他好几次到网吧上网，或在外闲逛，骗父母说找老师补习，骗老师说训累了在家复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成绩直线下降，几次还在上课时看漫画、电脑游戏之类的书，被任课教师抓住，利用空档时间，就进游戏房，被家长抓住好几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49320" y="579600"/>
            <a:ext cx="290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镜头之三：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916280"/>
            <a:ext cx="871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某学生，母亲在私人工厂做工，父亲收入也不稳定。据他父亲讲，家里的收入都花在儿子读书上了，可这位学生用钱大手大脚，衣服、鞋子要穿名牌，理发要到最好的美发店去，精力不花在学习上，全用在于穿着打扮上。别人有手机，有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机，他都吵着向父母要，并以不读书相威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600" y="655200"/>
            <a:ext cx="306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镜头之四：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666880"/>
            <a:ext cx="716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某学生，放学不直接回家，也不给父母、老师打电话，害得父母、老师拼命地找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4800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看了这些镜头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你有什么感受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914400"/>
            <a:ext cx="647676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镜头五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某学生习惯于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丢三落四，用品凌乱。每天不是忘了胸卡就是忘带作业，就让组长、值日班长干着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0" y="1125360"/>
            <a:ext cx="4572000" cy="29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幸福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就是有一颗感恩的心、一个健康的身体、一份安定的工作、还有一个爱你的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群合得来的朋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42720" y="668160"/>
            <a:ext cx="327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Times New Roman"/>
              </a:rPr>
              <a:t>你觉得幸福是什么</a:t>
            </a:r>
            <a:r>
              <a:rPr b="1" lang="zh-CN" sz="4400" spc="-1" strike="noStrike">
                <a:solidFill>
                  <a:srgbClr val="6633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95280" y="19652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6094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一个故事的启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00200"/>
            <a:ext cx="772164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3300"/>
                </a:solidFill>
                <a:latin typeface="Times New Roman"/>
              </a:rPr>
              <a:t>感恩是一种处世哲学，是生活中的大智慧。人生在世，不可能一帆风顺，种种失败、无奈都需要我们勇敢地面对、旷达地处理。这时，是一味地埋怨生活，从此变得消沉、萎靡不振﹖还是对生活满怀感恩，跌倒了再爬起来﹖英国作家萨克雷说：“生活就是一面镜子，你笑，它也笑；你哭，它也哭。”感恩不纯粹是一种心理安慰，也不是对现实的逃避，更不是阿</a:t>
            </a:r>
            <a:r>
              <a:rPr b="1" lang="zh-CN" sz="3000" spc="-1" strike="noStrike">
                <a:solidFill>
                  <a:srgbClr val="663300"/>
                </a:solidFill>
                <a:latin typeface="Times New Roman"/>
              </a:rPr>
              <a:t>Q</a:t>
            </a:r>
            <a:r>
              <a:rPr b="1" lang="zh-CN" sz="3000" spc="-1" strike="noStrike">
                <a:solidFill>
                  <a:srgbClr val="663300"/>
                </a:solidFill>
                <a:latin typeface="Times New Roman"/>
              </a:rPr>
              <a:t>的精神胜利法。感恩，是一种歌唱生活的方式，它来自对生活的爱与希望</a:t>
            </a:r>
            <a:r>
              <a:rPr b="0" lang="zh-CN" sz="3000" spc="-1" strike="noStrike">
                <a:solidFill>
                  <a:srgbClr val="663300"/>
                </a:solidFill>
                <a:latin typeface="Times New Roman"/>
              </a:rPr>
              <a:t>。  </a:t>
            </a:r>
            <a:br>
              <a:rPr sz="3000"/>
            </a:br>
            <a:br>
              <a:rPr sz="28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7400" y="579600"/>
            <a:ext cx="2895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难道不是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2286000"/>
            <a:ext cx="6858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_x000b__x000c_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_x000b__x000c_"/>
              </a:rPr>
              <a:t>最应该感谢的人是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_x000b__x000c_"/>
              </a:rPr>
              <a:t>        ——</a:t>
            </a:r>
            <a:r>
              <a:rPr b="1" lang="zh-CN" sz="3200" spc="-1" strike="noStrike">
                <a:solidFill>
                  <a:srgbClr val="000000"/>
                </a:solidFill>
                <a:latin typeface="_x000b__x000c_"/>
              </a:rPr>
              <a:t>父母。是父母给予了我们血肉之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1:39:35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6:58:37Z</dcterms:modified>
  <cp:revision>1</cp:revision>
  <dc:subject>主题班会课件(分28大类): http://shop62905894.taobao.com</dc:subject>
  <dc:title>主题班会课件(分28大类): http://shop62905894.taobao.com</dc:title>
</cp:coreProperties>
</file>