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gif" ContentType="image/gif"/>
  <Override PartName="/ppt/media/image9.jpeg" ContentType="image/jpeg"/>
  <Override PartName="/ppt/media/image11.jpeg" ContentType="image/jpeg"/>
  <Override PartName="/ppt/media/image12.gif" ContentType="image/gif"/>
  <Override PartName="/ppt/media/image3.jpeg" ContentType="image/jpeg"/>
  <Override PartName="/ppt/media/image24.jpeg" ContentType="image/jpeg"/>
  <Override PartName="/ppt/media/image7.gif" ContentType="image/gif"/>
  <Override PartName="/ppt/media/chimes.wav" ContentType="audio/x-wav"/>
  <Override PartName="/ppt/media/image16.jpeg" ContentType="image/jpeg"/>
  <Override PartName="/ppt/media/image6.jpeg" ContentType="image/jpeg"/>
  <Override PartName="/ppt/media/image27.jpeg" ContentType="image/jpeg"/>
  <Override PartName="/ppt/media/image5.png" ContentType="image/png"/>
  <Override PartName="/ppt/media/image8.jpeg" ContentType="image/jpeg"/>
  <Override PartName="/ppt/media/image28.png" ContentType="image/png"/>
  <Override PartName="/ppt/media/image4.png" ContentType="image/png"/>
  <Override PartName="/ppt/media/image26.png" ContentType="image/png"/>
  <Override PartName="/ppt/media/image22.jpeg" ContentType="image/jpeg"/>
  <Override PartName="/ppt/media/image25.jpeg" ContentType="image/jpeg"/>
  <Override PartName="/ppt/media/image17.gif" ContentType="image/gif"/>
  <Override PartName="/ppt/media/image20.jpeg" ContentType="image/jpeg"/>
  <Override PartName="/ppt/media/image14.gif" ContentType="image/gif"/>
  <Override PartName="/ppt/media/image19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5.gif" ContentType="image/gif"/>
  <Override PartName="/ppt/media/image13.jpeg" ContentType="image/jpeg"/>
  <Override PartName="/ppt/media/image1.png" ContentType="image/png"/>
  <Override PartName="/ppt/media/image21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006FC-D6DB-4CC4-870A-77A557990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D860D-516F-488C-9DD5-10AD4DEF9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952D9-7345-4B80-882F-70BD1A95E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93FC9-B75A-498A-9845-541B7B990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A3D94-095F-4CAA-8A09-AD31242EF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CCF33-C292-44AB-A173-055773C4F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7EB3A-FF57-4270-82A8-7E107D512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4FB77-ADB0-45F6-A681-5448E0B66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12D68-B1E0-4CD2-9704-11D68FD28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B4F36-4A85-4BAE-B4E8-C0DAA0531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A766E-2944-46FA-882E-5375D0B75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3D957-07BE-4E71-A356-A63412F52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BE8A1-FD4D-4C9F-B0D9-DC770627A99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chimes.wav" TargetMode="External"/><Relationship Id="rId2" Type="http://schemas.microsoft.com/office/2007/relationships/media" Target="file:///tmp/home/.config/libreoffice/4/user/gallery/chimes.wav" TargetMode="External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307757950&amp;tn=baiduimagedetail&amp;word=&#23478;&#24237;%20&#28201;&#39336;&amp;in=30" TargetMode="External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tucoo.com/card/frame/html/image17.htm" TargetMode="External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tucoo.com/card/frame/html/image13.htm" TargetMode="External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hyperlink" Target="http://astro.women.sohu.com/20050314/n224675342.shtml" TargetMode="External"/><Relationship Id="rId3" Type="http://schemas.openxmlformats.org/officeDocument/2006/relationships/image" Target="../media/image27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28.png"/><Relationship Id="rId7" Type="http://schemas.openxmlformats.org/officeDocument/2006/relationships/image" Target="../media/image28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128192500&amp;tn=baiduimagedetail&amp;word=&#29983;&#26085;&amp;in=15" TargetMode="External"/><Relationship Id="rId2" Type="http://schemas.openxmlformats.org/officeDocument/2006/relationships/image" Target="../media/image9.jpeg"/><Relationship Id="rId3" Type="http://schemas.openxmlformats.org/officeDocument/2006/relationships/image" Target="../media/image10.gif"/><Relationship Id="rId4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294170001&amp;tn=baiduimagedetail&amp;word=&#23478;&#24237;%20&#28201;&#39336;&amp;in=31" TargetMode="External"/><Relationship Id="rId2" Type="http://schemas.openxmlformats.org/officeDocument/2006/relationships/image" Target="../media/image11.jpeg"/><Relationship Id="rId3" Type="http://schemas.openxmlformats.org/officeDocument/2006/relationships/image" Target="../media/image12.gif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gif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tucoo.com/card/frame/html/image18.htm" TargetMode="External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839080" y="64008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>
            <a:off x="533520" y="990720"/>
            <a:ext cx="3047760" cy="22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latin typeface="汉仪雪峰体简"/>
              </a:rPr>
              <a:t>感恩</a:t>
            </a:r>
            <a:endParaRPr b="0" lang="en-US" sz="66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latin typeface="汉仪雪峰体简"/>
              <a:ea typeface="汉仪雪峰体简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2895480" y="3581280"/>
            <a:ext cx="586764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——</a:t>
            </a:r>
            <a:r>
              <a:rPr b="0" lang="zh-C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点燃你心中善良的灯</a:t>
            </a:r>
            <a:endParaRPr b="0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0"/>
          <a:stretch/>
        </p:blipFill>
        <p:spPr>
          <a:xfrm>
            <a:off x="8604360" y="655308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86118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" dur="286118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24000" y="69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Times New Roman"/>
              </a:rPr>
              <a:t>你了解过老师的身体状况吗？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250560" y="2205000"/>
            <a:ext cx="8281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Times New Roman"/>
              </a:rPr>
              <a:t>你恨过对你十分严厉</a:t>
            </a:r>
            <a:r>
              <a:rPr b="1" lang="zh-CN" sz="5400" spc="-1" strike="noStrike">
                <a:solidFill>
                  <a:srgbClr val="0000ff"/>
                </a:solidFill>
                <a:latin typeface="Times New Roman"/>
              </a:rPr>
              <a:t>,</a:t>
            </a:r>
            <a:r>
              <a:rPr b="1" lang="zh-CN" sz="5400" spc="-1" strike="noStrike">
                <a:solidFill>
                  <a:srgbClr val="0000ff"/>
                </a:solidFill>
                <a:latin typeface="Times New Roman"/>
              </a:rPr>
              <a:t>有时甚至不讲情面的老师吗？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94920" y="1125000"/>
            <a:ext cx="80629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你认为老师对自己的孩子（也是学生）照顾多吗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2514600" y="1828800"/>
            <a:ext cx="426708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新魏"/>
              </a:rPr>
              <a:t>采访老师</a:t>
            </a:r>
            <a:endParaRPr b="0" lang="en-US" sz="4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华文新魏"/>
              <a:ea typeface="华文新魏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143000" y="533520"/>
            <a:ext cx="152388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卡通形象--边框 - card1325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当你学习不刻苦时父母批评你，你还会顶嘴吗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1089000" y="-4022640"/>
            <a:ext cx="6966000" cy="360"/>
            <a:chOff x="1089000" y="-4022640"/>
            <a:chExt cx="6966000" cy="360"/>
          </a:xfrm>
        </p:grpSpPr>
        <p:sp>
          <p:nvSpPr>
            <p:cNvPr id="89" name=""/>
            <p:cNvSpPr/>
            <p:nvPr/>
          </p:nvSpPr>
          <p:spPr>
            <a:xfrm>
              <a:off x="1089000" y="-4022640"/>
              <a:ext cx="6966000" cy="360"/>
            </a:xfrm>
            <a:prstGeom prst="rect">
              <a:avLst/>
            </a:prstGeom>
            <a:solidFill>
              <a:srgbClr val="dee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089000" y="-4022640"/>
              <a:ext cx="6966000" cy="360"/>
            </a:xfrm>
            <a:prstGeom prst="rect">
              <a:avLst/>
            </a:prstGeom>
            <a:solidFill>
              <a:srgbClr val="dee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480" y="2514240"/>
            <a:ext cx="828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Times New Roman"/>
                <a:ea typeface="幼圆"/>
              </a:rPr>
              <a:t>你还会常常抱怨老师布置的作业多吗</a:t>
            </a:r>
            <a:r>
              <a:rPr b="0" lang="zh-CN" sz="7200" spc="-1" strike="noStrike">
                <a:solidFill>
                  <a:srgbClr val="000000"/>
                </a:solidFill>
                <a:latin typeface="Times New Roman"/>
              </a:rPr>
              <a:t>？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03040" y="2297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卡通形象--边框 - card1321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3580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Times New Roman"/>
              </a:rPr>
              <a:t>你能理解老师的严格要求或者是严厉批评吗？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50560" y="980640"/>
            <a:ext cx="838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</a:rPr>
              <a:t>你能体会父母的用心良苦吗</a:t>
            </a:r>
            <a:r>
              <a:rPr b="0" lang="zh-CN" sz="7200" spc="-1" strike="noStrike">
                <a:solidFill>
                  <a:srgbClr val="000000"/>
                </a:solidFill>
                <a:latin typeface="Times New Roman"/>
              </a:rPr>
              <a:t>？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539640" y="2924280"/>
            <a:ext cx="78487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</a:rPr>
              <a:t>你能理解父母苦口婆心的教导吗？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03040" y="2297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572000" y="33526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4443480" y="320040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2057400" y="457200"/>
            <a:ext cx="472428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宋体"/>
              </a:rPr>
              <a:t>让我们点燃手中的蜡烛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1619280" y="3789360"/>
            <a:ext cx="731520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让我们点燃心中的蜡烛</a:t>
            </a:r>
            <a:endParaRPr b="0" lang="en-US" sz="24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05" name=""/>
          <p:cNvSpPr/>
          <p:nvPr/>
        </p:nvSpPr>
        <p:spPr>
          <a:xfrm>
            <a:off x="203040" y="2297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8"/>
          <a:stretch/>
        </p:blipFill>
        <p:spPr>
          <a:xfrm>
            <a:off x="8172360" y="6308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0" dur="332475" fill="hold"/>
                                        <p:tgtEl>
                                          <p:spTgt spid="1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1" restart="whenNotActive" nodeType="interactiveSeq" fill="hold">
                <p:stCondLst>
                  <p:cond evt="onClick">
                    <p:tgtEl>
                      <p:spTgt spid="106"/>
                    </p:tgtEl>
                  </p:cond>
                </p:stCondLst>
                <p:childTnLst>
                  <p:par>
                    <p:cTn id="72" fill="hold">
                      <p:stCondLst>
                        <p:cond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5" dur="332475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 txBox="1"/>
          <p:nvPr/>
        </p:nvSpPr>
        <p:spPr>
          <a:xfrm>
            <a:off x="2133720" y="1828800"/>
            <a:ext cx="5105160" cy="111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宋体"/>
              </a:rPr>
              <a:t>你家庭年收入多少，</a:t>
            </a:r>
            <a:endParaRPr b="0" lang="en-US" sz="4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3809880"/>
            <a:ext cx="815328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你上学学费占家庭支出比例有多大？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7162920" y="1143000"/>
            <a:ext cx="1218960" cy="25909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203040" y="2297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</a:rPr>
              <a:t>父母</a:t>
            </a:r>
            <a:r>
              <a:rPr b="1" lang="zh-CN" sz="8800" spc="-1" strike="noStrike">
                <a:solidFill>
                  <a:srgbClr val="ff3300"/>
                </a:solidFill>
                <a:latin typeface="Times New Roman"/>
              </a:rPr>
              <a:t>生日</a:t>
            </a:r>
            <a:r>
              <a:rPr b="1" lang="zh-CN" sz="4800" spc="-1" strike="noStrike">
                <a:solidFill>
                  <a:srgbClr val="ff3300"/>
                </a:solidFill>
                <a:latin typeface="Times New Roman"/>
              </a:rPr>
              <a:t>是什么时候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03040" y="2297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9640" y="328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imes New Roman"/>
                <a:ea typeface="幼圆"/>
              </a:rPr>
              <a:t>你能说出你家庭成员的</a:t>
            </a:r>
            <a:br>
              <a:rPr sz="5400"/>
            </a:br>
            <a:r>
              <a:rPr b="0" lang="zh-CN" sz="5400" spc="-1" strike="noStrike">
                <a:solidFill>
                  <a:srgbClr val="000000"/>
                </a:solidFill>
                <a:latin typeface="Times New Roman"/>
                <a:ea typeface="幼圆"/>
              </a:rPr>
              <a:t>健康状况吗？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1828800" y="4495680"/>
            <a:ext cx="83808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91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你升入中学后与父母交流</a:t>
            </a: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多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吗？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与父母交流仅限于</a:t>
            </a: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钱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吗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258920" y="4220640"/>
            <a:ext cx="6400800" cy="175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华文彩云"/>
              </a:rPr>
              <a:t>有哪些感情交流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7315200" y="0"/>
            <a:ext cx="18288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26560" y="907920"/>
            <a:ext cx="76201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父母毕竟是父母，沟通不需要理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900000" y="2565360"/>
            <a:ext cx="64008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是从父母身上获取社会生活经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是对父母有较深的感情依赖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3040" y="2297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2209680" y="2057400"/>
            <a:ext cx="464832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新魏"/>
              </a:rPr>
              <a:t>采访家长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华文新魏"/>
              <a:ea typeface="华文新魏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990720" y="1066680"/>
            <a:ext cx="1096920" cy="16002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6705720" y="1066680"/>
            <a:ext cx="1218960" cy="15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1"/>
          <p:cNvPicPr/>
          <p:nvPr/>
        </p:nvPicPr>
        <p:blipFill>
          <a:blip r:embed="rId1"/>
          <a:stretch/>
        </p:blipFill>
        <p:spPr>
          <a:xfrm>
            <a:off x="0" y="0"/>
            <a:ext cx="89154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4000" y="14126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你知道你老师有哪些经济负担和精神负担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971640" y="3357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你认为他们的工作压力有多大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6705720" y="4114800"/>
            <a:ext cx="2209680" cy="227484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03040" y="2297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卡通形象--边框 - card1326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70572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你知道你老师收入多少吗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21932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你认为老师的付出和收入成正比吗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主题班会课件(分28大类): http://shop62905894.taobao.com</dc:creator>
  <dc:description/>
  <cp:keywords>主题班会课件(分28大类): http://shop62905894.taobao.com</cp:keywords>
  <dc:language>en-US</dc:language>
  <cp:lastModifiedBy>User</cp:lastModifiedBy>
  <dcterms:modified xsi:type="dcterms:W3CDTF">2013-04-13T17:16:51Z</dcterms:modified>
  <cp:revision>18</cp:revision>
  <dc:subject>主题班会课件(分28大类): http://shop62905894.taobao.com</dc:subject>
  <dc:title>主题班会课件(分28大类): http://shop62905894.taobao.com</dc:title>
</cp:coreProperties>
</file>