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24.jpeg" ContentType="image/jpeg"/>
  <Override PartName="/ppt/media/image30.jpeg" ContentType="image/jpeg"/>
  <Override PartName="/ppt/media/image16.jpeg" ContentType="image/jpeg"/>
  <Override PartName="/ppt/media/image13.gif" ContentType="image/gif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0DF-8EC9-423F-95D9-34D7EC76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AE3-82EB-489F-AD5D-BCA479B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E51-744C-4B56-BBB3-774073E0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9B1-9B26-421B-89D4-A54B67F2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746-90E4-4AAA-A3AD-DB1FF01B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D24-7719-4AD6-9A97-6EA2822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307-55B5-4520-9D9B-BB2AAED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C241-F2EE-422E-87BE-F5DAABAF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B3C-34B3-4E69-9114-2194D0C9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A64D-40D2-4B2F-9CE9-B1E686A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D2AB-A387-474A-A785-44712B9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470-7075-47B5-B098-B2CCD3E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B104-45F6-4B15-B40B-77DD859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8ED-429B-4AFD-A953-2E83815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48B-500D-4FF2-B8D6-075EF66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95F1-9E06-46C5-B56B-DFC4FA4E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FC52-A107-49DF-9BF0-9441E39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2323-D611-4BC9-BA97-2120123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82A0-0BEF-4434-BB6A-C7F2C3D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06BB-2A80-4649-86F0-B52A1B7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F2A9-5A8D-42C3-A499-34FB87C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E824-FB55-4B4C-B14B-1EFEF34B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B1A-CB9F-43A9-AF6A-B087DA2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DF65-D297-42EE-A82F-969452D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3CF4-F17A-4A20-A498-08439758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CB5A-5FCC-4789-808F-FAC9058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CF95-B489-4646-8042-EE1728B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A4C8-9978-4C31-A029-7616B63C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E939-C9E8-45F3-90CA-38428E6D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F93F-2E51-42C9-9D26-B1A1E936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E0B0-5610-4AE1-AD8D-FAC1FE10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99F2-30AC-4071-B770-1520FC1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9C38-1501-4665-8042-6B25DD5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2C3-DCB0-40C5-B0D9-C268E98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2EFD-A58C-4A3A-B4A7-F7B17FBC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25E0-F6DC-40AE-B20E-7E1C84C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D4F7-EA28-4A81-86EE-7FDF5F6F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6725-B479-42AF-91A0-CB49B06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7371-2337-4205-886E-5C6105E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1AB8-A488-4323-9F02-2D84B61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0DCD-2EFC-4FC3-8EE4-BDB80B7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2EB2-CFAB-4222-878C-9290EA32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943A-0F77-41DD-9592-E0D04F63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058B-B6D8-4BED-83F2-79C2915C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7B3-08BD-4086-A283-A44CB99A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99E6-6B5A-4C98-8C4F-0A6CFDE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498E-2D53-4802-AD76-37CA6BF1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CB870-A52D-4E4F-9D37-49E03E8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8EE4-3EBD-4DC7-815A-C729BFD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CB56-A6C6-4BE4-99BB-526496C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0187-F24C-48E0-81C1-CCEB8BE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19D3-5AEE-48F2-AD35-6F76CD4A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2B57-D084-4314-811F-D856B7D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BB2A-A4FB-429F-B9CE-7B45D24F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3A5E-59C5-4FA9-821F-F3EA7A95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8BF-D888-490A-AEEB-16C67D1C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B66F-D7AA-458F-B9D7-B643605F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9E00D-4ECB-4B7E-B45A-0AFE0EE3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7BFAD-ACA6-4DBE-8870-CACA822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3FB69-361C-475D-B51A-E2833B5B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93547-6BCE-4BE4-B7A2-B5ADA0E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4E7B1-7BA5-4BA0-A33E-0A5B38D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3624F-CBA4-40FA-B676-7CAAA05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2A93F-C21A-43D8-B276-E468E90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0A27E-8440-478E-A303-FCB6057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DDB38-FA6A-4D86-A524-8EA685B6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A45-643B-4E9A-84B6-97019BA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5C048-FDD7-48A2-9C0E-44549621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73838-DB46-499E-83D0-985C1FA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0FE0F-1BD9-4643-85DB-113148C5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B4F8-8565-49C3-8474-A3BE1F24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6814-2297-48BB-9411-9794B9B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7C9A-99FD-43B8-9EC2-2F266B33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94A3-30F9-45C1-82FF-8E3FC138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C3CC8-1937-4B9A-A572-75468A02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1133-329E-4729-A78F-470DC681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96C3-CD69-4547-976B-501F749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0B3-8995-4F25-896B-AD4025C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5A8D-D40E-4AD9-BCD6-C3237BE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A223-C62B-4B52-9A43-723686C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6F96-9E00-4927-A4C0-94D13DA6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1218C-E9B4-4B26-BD8E-17BC4382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87099-4AE9-49D9-B447-7429C685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1F8-0A3D-42B0-987E-8D03975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51F-1C45-4F6E-BB6A-1BAFF7F17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26A-3434-4B72-A5C4-EDA361282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5B29-A5CB-4C64-9A06-9DD997A869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151-58BD-4242-8CFD-1E832D064B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9994-F8AD-4DD4-B5CC-C9B7FEF4C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4517-699E-43B0-B4B6-D10FF79DBA6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83FD-9782-4128-B8F3-02AC4DBC96E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-152280" y="-104760"/>
            <a:ext cx="9296280" cy="6953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890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朱子治家格言上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一粥一饭，当思来之不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半丝半缕，恒念物力维艰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21148800">
            <a:off x="1599840" y="2514600"/>
            <a:ext cx="7373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感恩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是一种美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江南时报》报道，载誉归来的奥运会冠军顾俊回到家乡无锡，得知父亲顾德元所在的无锡第四纺织机械厂正遇到贷款难题，便毫不犹豫地拿出自己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枚金牌，给父亲拿去作为贷款抵押。如今，这家企业蒸蒸日上。当职工们共拿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奖励她时，顾俊却说：“我为家乡人民做些事情是应该的……没有家乡的哺育，就没有我的今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0520" y="457200"/>
            <a:ext cx="85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奥运会冠军顾俊的感人之处何在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8769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琥珀"/>
              </a:rPr>
              <a:t>感恩需要提升境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琥珀"/>
              </a:rPr>
              <a:t>它应该来自博大的胸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2096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感恩正离我们越来越远？！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新学期开学的时候，总会看到孩子手里拿着冷饮津津有味地吃着，父母甚至还有爷爷奶奶跟在后面汗流浃背，拿着行李蹒跚地穿梭于各个报到的窗口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位家长打电话请求老师好好的与他的孩子谈谈：自己的孩子每周回家后根本不愿与父母说话，偶尔说话语气中也满是不耐烦，即使向父母要钱也是一副“应该”的神情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据一位家长透露：自己的宝贝女在家总是赖在父母的房间住宿，每次学习必须要父母陪伴左右，否则就不学习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总是感觉家庭条件优裕的孩子曾经不无炫耀地在同学面前说：我帮助爸爸拔白头发，拔一根向他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块钱，为了凑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钱，我还拔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根黑头发充数！哈哈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男孩子在作文中写道：我已经长大了，我有我自己的想法、自己的世界！不需要父母的照顾了，我讨厌他们的唠唠叨叨，总有一天，我要离家出走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感恩正离我们越来越远？！</a:t>
            </a:r>
            <a:br>
              <a:rPr sz="32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今社会，确有许多被物欲所左右的人变得心浮气燥，他们任由精神的家园荒废，不再自信，不再宽容，不再奉献，不再有爱，他们甚至不会感恩，不会感动。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6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，著名歌手丛飞因病医治无效在深圳市人民医院去世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岁的丛飞生前立下遗嘱捐献眼角膜，以他最后的爱心之举，将光明永远馈赠社会、长留人间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来，丛飞累计捐款捐物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0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多万元，资助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78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贫困孩子而家财散尽。 “ 爱心大使 ” 丛飞的死让我心碎，但更让人痛心的是他身患癌症生命垂危期间，那些曾受他资助读完大学并有一定经济基础的人中，却很少有人来看望他，那些正在接受他资助的学生及其家长中，竟有人抱怨： “ 你不是说供到我们大学毕业吗？现在不出钱了，不是坑人吗？ ”听来令人心寒：我们的感恩心都丢到哪里去了？“人之有德于我也，不可忘也；吾有德于他，不可不忘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”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    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1828800"/>
            <a:ext cx="5410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父母辛苦的无动于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老师付出的漠然置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花草受伤的冷眼相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别人危难的缺乏同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民族忧患的缺乏关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6094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华文行楷"/>
              </a:rPr>
              <a:t>感恩应该远离冷漠，拒绝自私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381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380880"/>
            <a:ext cx="8240760" cy="609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3049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感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能做些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1523880"/>
            <a:ext cx="6940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父母生病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送水拿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朋友苦恼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沟通安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环境污染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关注整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身处逆境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坦然进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1219320"/>
            <a:ext cx="8153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这么一件事：一天，一个人在餐厅吃饭，他看到有几个小孩子围着餐桌，埋着头在写什么，出于好奇心他走过去并试探着和这几个小孩子说话：“你们在干什么？”小孩中的大孩子回答并表现出一副理所当然的表情道：“我们在写感谢信！”当他听到这句话的时候他愣了一下，这么小的小孩还会写感谢信？他又问道：“那你们要写给谁呀？”三个小孩齐声回答：“写给妈妈的。”他又糊涂了，写给妈妈？不可能吧！给妈妈写感谢信干什么？经过三个小孩的同意，他拿起那封信看了起来，上面写着：“路边的花儿开得真漂亮；昨天妈妈买的比萨真好吃；妈妈给我讲的故事很有意思……”他看完后，陷入了深思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所以我们说：“‘感恩’不一定要感谢大恩大德，‘感恩’可以是一种生活态度，一种善于发现美并欣赏美的道德情操。”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15228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4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感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是一种生活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" y="0"/>
            <a:ext cx="853452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5b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 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有人说过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是一种处世哲学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，是生活中的大智能。人生在世，不可能一帆风顺，种种失败、无奈都需要我们勇敢地面对、豁达地处理。”这时，是一味地埋怨生活，从此变得消沉、萎靡不振？还是对生活满怀感恩，跌倒了再爬起来呢？这就是问题的答案——</a:t>
            </a:r>
            <a:br>
              <a:rPr sz="2400"/>
            </a:b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    一次，美国前总统罗斯福家失盗，被偷去了许多东西，一位朋友闻讯后，忙写信安慰他，劝他不必太在意。罗斯福给朋友写了一封回信：“亲爱的朋友，谢谢你来信安慰我，我现在很平安。感谢上帝：因为第一，贼偷去的是我的东西，而没有伤害我的生命；第二，贼只偷去我部分东西，而不是全部；第三，最值得庆幸的是，做贼的是他，而不是我。”——对任何一个人来说，失盗绝对是不幸的事，而罗斯福却找出了感恩的三条理由。这个故事，启发我们该如何感恩生活。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699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感恩的人，经常想的是自己应该如何奉献；不懂感恩的人，经常想的是别人欠自己，如何去索取。学会感恩，这是立身做人的要求。感恩不同于一般的知恩图报，而是跳出狭隘的视野，追求健全的人格，坚定崇高的信仰，树立远大的理想。不但关心自我，注重个性发展，更关心他人、社会、国家、民族和人类的进步事业。感恩需要砥砺德行，自觉培养良好的道德和高尚的情操。不仅学会如何做事，更要学会如何做人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　常怀感恩之心，人与人之间就多一些融洽，少一些隔阂；多一些团结，少一些摩擦；多一些理解，少一些埋怨。给别人掌声，自己周围掌声响起；给别人机会，成功正在向自己走近；给别人关照，就是关照自己。感恩组织、感恩社会、感恩父母、感恩他人……让我们在感恩中，不断提升自身的修养和境界，不断服务社会、回报人民、担当责任，做一个让他人尊敬、令亲人自豪、受社会称道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是一种境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凡事感恩！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谢关爱我们的人，因为他们让我们得到了幸福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让我们爱的人，因为他们让我们学会了珍惜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藐视我们的人，因为他们唤醒了我们的自尊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不爱我们的人，因为他们让我们懂得了自爱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伤害我们的人，因为他们磨练了我们的意志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欺骗我们的人，因为他们增进了我们的智慧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中伤我们的人，因为他们砥砺了我们的人格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鞭打我们的人，因为他们激发了我们的斗志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感谢遗弃我们的人，因为他们使我们学会了独立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背叛我们的人，因为他们成熟了我们的判断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绊倒我们的人，因为他们强化了我们的双腿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斥责我们的人，因为他们提醒了我们的缺点。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激所有使我们成长的人！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谁言寸草心，报得三春晖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谁知盘中餐， 粒粒皆辛苦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，这些诗句告诉我们的哲理，就是感恩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52388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古人说：滴水之恩，须当涌泉相报。感恩，是我们民族的优良传统，也是一个正直的人的起码品德。“羊有跪乳之恩”，“鸦有反哺之义”， 这些都因怀有一颗感恩的心，才芬芳馥郁，香泽万里。事实上，我们也非常需要感恩，因为，赠人玫瑰，手留余香。一个经常怀着感恩之心的人，心地坦荡，胸怀宽阔，会自觉自愿地给人以帮助，助人为乐。当耳旁不再喧嚣，当眼睛不再迷茫，当心不再悲愤，让我们沉淀下来，用一颗感恩的心去生活，用感恩的心去发现，去探索，去品位生命中的至真至纯！感谢生活，在时间还没有完全流逝得无影无踪的时候，教会了我用感恩的心去生活！感激生命，学会珍爱；感激他人，学会关心；感激未来，学会憧憬；感激挫折，学会坚强；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司马迁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)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感激环境，学会爱护；感激机遇，学会把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066680" y="609480"/>
            <a:ext cx="67820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小草感谢阳光给它生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叶子感谢土壤给它绿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水滴感谢大海给它包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蜜蜂感谢花儿给它甜蜜……我们生活在一个充满爱的世界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当我们享受父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亲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他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自然万物给予我们的恩泽的时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可曾有过一颗感恩的心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有了一颗感恩的心，你就会觉得每一天都是美好的，每一件小事都是有意义的。如果我们曾感动于一个微笑、一个眼神、一声祝福、一句劝勉，如果我们曾感动于一抹曙光、一片绿叶、一颗露珠、一泓清泉，如果我们曾感动于羔羊跪乳、乌鸟反哺、落红护花、落叶归根，那么，请你拿起笔，记录下自己的情感历程，用自己的智慧，去品味多彩的生活，怀一颗感恩的心，去感受生活中的美。</a:t>
            </a:r>
            <a:br>
              <a:rPr sz="36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恩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使我们变得高尚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0" y="150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523880" y="152280"/>
            <a:ext cx="6553440" cy="4222440"/>
            <a:chOff x="1523880" y="152280"/>
            <a:chExt cx="6553440" cy="4222440"/>
          </a:xfrm>
        </p:grpSpPr>
        <p:sp>
          <p:nvSpPr>
            <p:cNvPr id="420" name=""/>
            <p:cNvSpPr/>
            <p:nvPr/>
          </p:nvSpPr>
          <p:spPr>
            <a:xfrm>
              <a:off x="1523880" y="152280"/>
              <a:ext cx="655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23880" y="152280"/>
              <a:ext cx="6553440" cy="42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由无声世界里的人们带来的舞蹈《千手观音》，引发的是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5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秒的全体屏息的安静，以及此后长久的赞誉和惊叹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90720" y="3429000"/>
            <a:ext cx="784836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最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一起齐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感恩的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来结束这节班会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6400800" cy="51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来自偶然像一颗尘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来自何方我情归何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在下一刻呼唤我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地虽宽这条路却难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还有多少爱我还有多少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苍天知道我不认输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838080" y="179280"/>
            <a:ext cx="590544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感恩的心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8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5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0" dur="5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-17640" y="0"/>
            <a:ext cx="306576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3848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感恩的心感谢有你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伴我一生让我有勇气作我自己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感恩的心感谢命运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花开花落我一样会珍惜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我来自偶然像一颗尘土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有谁看出我的脆弱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我来自何方我情归何处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谁在下一刻呼唤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327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3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600200" y="1828800"/>
            <a:ext cx="6172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3000" y="0"/>
            <a:ext cx="8001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 rot="20967600">
            <a:off x="457200" y="2057400"/>
            <a:ext cx="9144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    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感恩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,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使我们变得高尚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7628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河南宏力学校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系列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-228600" y="-133200"/>
            <a:ext cx="9524880" cy="7132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秋天了，成熟的果实却低下了头。它不是孤芳自赏，也不是在自我陶醉，更不是哀泣自己将跌落枝头。它是在想：我是怎样成熟的呢？不是风，我怕早已霉烂了；不是雨，我怕早已干瘪了；不是光，我怕早已苍白了；不是热，我怕早已憔悴了……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然成熟的果实都知道感恩风的吹拂，感恩雨的滋润，感恩光的照射，感恩热的考验……那么，我们这些不断成长的学生呢？你该感恩谁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河南宏力学校感恩教育系列班会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感恩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,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使我们变得高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729080" cy="16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4038480" y="990720"/>
          <a:ext cx="3733920" cy="514656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6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母的呵护、哺育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师的指导、教诲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朋友的关心、提醒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然的恩赐、赋予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失败的鞭策、启迪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28600" y="3632040"/>
            <a:ext cx="3505320" cy="29210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28600" y="3632040"/>
            <a:ext cx="3505320" cy="2921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align=center"/>
          <p:cNvPicPr/>
          <p:nvPr/>
        </p:nvPicPr>
        <p:blipFill>
          <a:blip r:embed="rId5"/>
          <a:stretch/>
        </p:blipFill>
        <p:spPr>
          <a:xfrm>
            <a:off x="228600" y="3581280"/>
            <a:ext cx="3429000" cy="29307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0" y="3581280"/>
            <a:ext cx="3733920" cy="3133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0" y="3581280"/>
            <a:ext cx="3745080" cy="3810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8600" y="1066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我们应该感谢谁呢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9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然界五彩缤纷的美，给人身心的享受，值得我们感恩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朋友推心置腹的提醒，让自己精神上永远清醒，需要我们 感恩 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父母无微不至的呵护，在给自己物质上坚实的支撑的同时，还给我们精神上无尽的安抚，我们必须从内心深处去感恩……</a:t>
            </a: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天拥有感恩之心是多么幸福、清净的境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值得思考的故事：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为何国王把王位传给第三个儿子？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国王有三个儿子，他很疼爱他们，但不知传位给谁。最后，他让三个儿子回答如何表达对父亲的爱。大儿子说：“我要把父王的功德制成帽子，让全国的百姓天天把您供在头上。”二儿子说：“我要把父王的功德制成鞋子，让普天下的百姓都知道是您支撑他们。”三儿子：“我只想把您当做一位平凡的父亲，永远放在我心里。”最后，国王把王位传给了第三个儿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571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需要真诚，它应该来自心灵的深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小女孩为何获得“雷鸣般的掌声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正在做一次如何感恩父母的调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同学马上说：“等我长大的时候，我要送一套很大很大的别墅给他们。”其他的同学露出惊奇和羡慕的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个同学接着说：“我要请爸爸妈妈出去旅游，南极的冰川和北极的极光就是我送给他们的礼物！”其他的同学传出不小的赞叹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有一个女孩怯怯地说：“我要给妈妈洗头，让……让她的长发飘逸起来……”空气在这一刻凝固了，教室里静得能听见心跳声。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？”老师不解地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次车祸中，妈妈的双手致残了，只有我给她洗头……对妈妈来说，洗头是种幸福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室里爆发出雷鸣般的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152280"/>
            <a:ext cx="4114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恩不一定要做惊天动地的大事，可能要从细微之处着手：问候鸟儿，呵护鲜花，珍惜绿叶，守住碧水，悉心关爱那份难得的亲情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琥珀"/>
              </a:rPr>
              <a:t>感恩需要细心呵护，它应该来自平凡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2292480" cy="289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04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2133720" cy="18399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2286000" y="2895480"/>
            <a:ext cx="21477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0:25Z</dcterms:modified>
  <cp:revision>19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