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F16FB-FA8D-4138-8EDC-502895D8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CB86A-F60C-4C03-B232-42C2B34C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ECB48-15B8-4EE9-BDC0-2D6D93E2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5B48E-E51E-4DF5-B36F-6AAAE03E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A49C-E14C-40F2-923B-0FC8F1C7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9800-CC0B-423E-AD61-D8AE31A2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0CB5-7599-44AA-B400-952111D9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A08F-D5B2-48E7-8101-02FF8F33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0FA4-6DA7-41BF-A699-0789502E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084E-E4BB-4437-830F-DEA84BC8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4AA8-66CB-465B-98F3-5A9F2EBD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1C09A-6BC4-41EC-A872-1886E2F1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1792-416A-42CD-A4E4-7CBD7197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3E37-C251-490F-8AA4-2FC19AED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693A-A9BD-4B82-9765-842AAF5E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2333-9F01-4927-937A-01846F81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8FD5-23E2-435A-9FF5-2EA314A5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AF2F-2B31-4210-AD33-9020D504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EC44A-76D8-4F6A-9279-0FAA6107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E6246-AEDF-4FA7-8D43-E431C363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1E962-9783-4B90-8F4B-864A925A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4D4A6-8EA9-439A-BCB2-34C9184C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5D1AF-8003-4E2C-8E1F-13FADE66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487C6-5752-42FA-96B3-2724F45B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8523-CD32-4E8B-ADC6-F9A40E1ABA5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3B5B-247D-4C66-B50C-03ED433A724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Rar$DI00.907/&#26379;&#21451;.mp3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Rar$DI00.907/gedx.mp3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5e5ff"/>
                </a:solidFill>
                <a:latin typeface="Garamond"/>
              </a:rPr>
              <a:t>感恩生活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朋友歌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唐代的诗人孟郊《游子吟》：  </a:t>
            </a:r>
            <a:br>
              <a:rPr sz="3200"/>
            </a:br>
            <a:r>
              <a:rPr b="1" lang="zh-CN" sz="4400" spc="-1" strike="noStrike">
                <a:solidFill>
                  <a:srgbClr val="ffffff"/>
                </a:solidFill>
                <a:latin typeface="Garamond"/>
              </a:rPr>
              <a:t>慈母手中线，游子身上衣。临行密密缝，意恐迟迟归。谁言寸草心，报得三春晖。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  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这首诗以富有感情的语言，表达了一位慈母对即将离开自己的儿子的深深的爱。读来令人感动。这首诗后来简缩为成语“寸草春晖”，比喻父母恩情深重，难于报答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美国的罗斯福总统就常怀感恩之心。据说有一次家里失盗，被偷去了许多东西，一位朋友闻讯后，忙写信安慰他。罗斯福在回信中写道：“亲爱的朋友，谢谢你来信安慰我，我现在很好，感谢上帝：因为第一，贼偷去的是我的东西，而没有伤害我的生命；第二，贼只偷去我部分东西，而不是全部；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第三，最值得庆幸的是，做贼的是他，而不是我。”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对任何一个人来说，失盗绝对是不幸的事，而罗斯福却找出了感恩的三条理由。 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其实值得感恩的不仅仅是对上苍，我们对父母、师长、亲朋、同学、社会等等都应始终抱有感恩之心。我们的生命、健康、财富以及我们每天享受着的空气阳光水源，莫不应在我们的感恩之列。一位盲人曾经请人在自己的乞讨用的牌子上这样写道：“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</a:rPr>
              <a:t>春天来了，而我却看不到她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。”我们与这位盲人相比，进一步说与那些失去生命和自由的人相比，目前能这样快快乐乐地活在世界上，谁说不是一种命运的恩赐，我们还会时常偷懒，甚至不来上课吗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感激生育你的人， 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　　因为他们使你体验生命； 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　　感激抚养你的人， 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　　因为他们使你不断成长。 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　　感激帮助你的人， 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　　因为他们使你度过难关。 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　　感激关怀你的人， 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　　因为他们给你温暖。 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　　感激鼓励你的人， 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　　因为他们给你力量。 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　　感激教育你的人， 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　　因为他们开化你的蒙昧。 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　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感激伤害你的人， 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因为他磨炼了你的心志； 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感激绊倒你的人， 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因为他强化了你的双腿； 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感激欺骗你的人， 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因为他增进了你的智慧； 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感激藐视你的人， 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因为他觉醒了你的自尊； 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感激遗弃你的人， 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因为他教会了你该独立。 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凡事感激。 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学会感激。 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感激一切使你成长的人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456840"/>
            <a:ext cx="81532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问题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你母亲的生日？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你给父亲买过生日礼物吗？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你母亲最喜欢的是哪套衣服？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你父母的结婚纪念日？     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你爸爸今天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40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几岁？属什么的？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你爸爸喜欢喝白酒吗？那他一般喝什么牌子的？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你父亲喜欢吃的菜是？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7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感恩的心声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Garamond"/>
              </a:rPr>
              <a:t>我们做什么是对父母的最好的感恩？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18:41Z</dcterms:modified>
  <cp:revision>10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