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8.gif" ContentType="image/gif"/>
  <Override PartName="/ppt/media/image31.jpeg" ContentType="image/jpeg"/>
  <Override PartName="/ppt/media/image2.png" ContentType="image/png"/>
  <Override PartName="/ppt/media/image25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28.gif" ContentType="image/gif"/>
  <Override PartName="/ppt/media/image16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35A-E6F0-40E9-8AC7-0E8C8D52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CD3-D052-47E4-9033-62342452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26F-A210-4249-9280-41889299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084-AA77-4B54-9DBE-BB5A8E0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B39-1036-4A04-BD47-D6D055A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73D-DFA2-4D1A-9397-21523C2B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700-0904-4E14-9711-E428AF8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F4F-3860-44D8-8577-EFCD824D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C3B-C1BD-49BD-B52B-D4B89BE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4A5-5365-4574-9B8B-0B8C1CD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280-0E1C-4220-B974-21F16857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AA4-3593-463A-9570-3B51210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C9C8-3274-42EA-AFEF-4941B3C82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rnation_01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mother"/>
          <p:cNvPicPr/>
          <p:nvPr/>
        </p:nvPicPr>
        <p:blipFill>
          <a:blip r:embed="rId2"/>
          <a:stretch/>
        </p:blipFill>
        <p:spPr>
          <a:xfrm>
            <a:off x="3929040" y="5286240"/>
            <a:ext cx="1571760" cy="1376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77.png"/>
          <p:cNvPicPr/>
          <p:nvPr/>
        </p:nvPicPr>
        <p:blipFill>
          <a:blip r:embed="rId3"/>
          <a:stretch/>
        </p:blipFill>
        <p:spPr>
          <a:xfrm>
            <a:off x="2286000" y="2517840"/>
            <a:ext cx="4714920" cy="9111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13" descr=""/>
          <p:cNvPicPr/>
          <p:nvPr/>
        </p:nvPicPr>
        <p:blipFill>
          <a:blip r:embed="rId4"/>
          <a:stretch/>
        </p:blipFill>
        <p:spPr>
          <a:xfrm>
            <a:off x="457200" y="3260880"/>
            <a:ext cx="8918640" cy="2017440"/>
          </a:xfrm>
          <a:prstGeom prst="rect">
            <a:avLst/>
          </a:prstGeom>
          <a:ln w="0">
            <a:noFill/>
          </a:ln>
        </p:spPr>
      </p:pic>
      <p:pic>
        <p:nvPicPr>
          <p:cNvPr id="45" name="拉德茨基进行曲.mp3" descr=""/>
          <p:cNvPicPr/>
          <p:nvPr/>
        </p:nvPicPr>
        <p:blipFill>
          <a:blip r:embed="rId5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33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8" descr="4b475107841a41600208819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2"/>
          <p:cNvPicPr/>
          <p:nvPr/>
        </p:nvPicPr>
        <p:blipFill>
          <a:blip r:embed="rId2"/>
          <a:stretch/>
        </p:blipFill>
        <p:spPr>
          <a:xfrm>
            <a:off x="3571920" y="3857760"/>
            <a:ext cx="113832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2"/>
          <p:cNvPicPr/>
          <p:nvPr/>
        </p:nvPicPr>
        <p:blipFill>
          <a:blip r:embed="rId3"/>
          <a:stretch/>
        </p:blipFill>
        <p:spPr>
          <a:xfrm>
            <a:off x="4429080" y="3857760"/>
            <a:ext cx="1136520" cy="13683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4"/>
          <a:stretch/>
        </p:blipFill>
        <p:spPr>
          <a:xfrm>
            <a:off x="1755720" y="2127240"/>
            <a:ext cx="5529240" cy="1712880"/>
          </a:xfrm>
          <a:prstGeom prst="rect">
            <a:avLst/>
          </a:prstGeom>
          <a:ln w="0">
            <a:noFill/>
          </a:ln>
        </p:spPr>
      </p:pic>
      <p:pic>
        <p:nvPicPr>
          <p:cNvPr id="93" name="矩形 11" descr=""/>
          <p:cNvPicPr/>
          <p:nvPr/>
        </p:nvPicPr>
        <p:blipFill>
          <a:blip r:embed="rId5"/>
          <a:stretch/>
        </p:blipFill>
        <p:spPr>
          <a:xfrm>
            <a:off x="165240" y="146160"/>
            <a:ext cx="393048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" descr="untitled09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571680" y="357120"/>
            <a:ext cx="39337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感恩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1981080"/>
            <a:ext cx="80010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的心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和父母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生命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给了你灵魂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父母给了你肉体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老师给了你思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愿天下的孩子孝顺父母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愿所有的学子爱戴老师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燃情岁月.mp3" descr=""/>
          <p:cNvPicPr/>
          <p:nvPr/>
        </p:nvPicPr>
        <p:blipFill>
          <a:blip r:embed="rId2"/>
          <a:stretch/>
        </p:blipFill>
        <p:spPr>
          <a:xfrm>
            <a:off x="7643880" y="1428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52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240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49543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谢谢您，老师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1052640"/>
            <a:ext cx="9612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谁，播下万古远点的梦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谁，耕耘遍野燃烧的心愿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您，我们敬爱的老师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您将青春融入滴滴烛泪，记下了人类永远的赞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流淌的汗水和心血啊，在校园里把希望浇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您用青春写出无悔的人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您用真情谱写世间最壮丽的诗篇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您的爱，我们永远也报答不完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让我们深深地向您鞠一躬，真挚地问候一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老师您好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背景音乐(再见警察)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1631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rdmx007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982800" y="620640"/>
            <a:ext cx="770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507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如何感恩呢？</a:t>
            </a:r>
            <a:endParaRPr b="1" lang="en-US" sz="1800" spc="1" strike="noStrike">
              <a:ln w="507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31_106250_b6a6de5aba804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26028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_x000b__x000c_"/>
              </a:rPr>
              <a:t>感恩方法大奉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为工作劳累了一天的父母倒一杯茶，揉揉肩，讲讲笑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每天好好学习，回家聊聊学习情况，谈谈收获，讲讲感受，给父母一个好心情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多体谅、理解父母，多为父母着想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学会反思，学会对父母说“对不起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为父母分担一些家务和烦恼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学会节约，不浪费父母的劳动成果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尊重老师，见到老师要问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学会尊重、关爱身边的人。多做有心人，及时送上温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多做慈善事业，尽自己最大的力量为社会、国家、人民作贡献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燃情岁月.mp3" descr=""/>
          <p:cNvPicPr/>
          <p:nvPr/>
        </p:nvPicPr>
        <p:blipFill>
          <a:blip r:embed="rId2"/>
          <a:stretch/>
        </p:blipFill>
        <p:spPr>
          <a:xfrm>
            <a:off x="8429760" y="2714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3521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a7d7f17fd9f2c0f1ecc45e4f2efbefd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571680" y="1989000"/>
            <a:ext cx="600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为父母不怕吃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为自己打拼到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拉德茨基进行曲.mp3" descr=""/>
          <p:cNvPicPr/>
          <p:nvPr/>
        </p:nvPicPr>
        <p:blipFill>
          <a:blip r:embed="rId2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图片190000.jpg"/>
          <p:cNvPicPr/>
          <p:nvPr/>
        </p:nvPicPr>
        <p:blipFill>
          <a:blip r:embed="rId1"/>
          <a:stretch/>
        </p:blipFill>
        <p:spPr>
          <a:xfrm>
            <a:off x="27000" y="0"/>
            <a:ext cx="9090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428840" y="809640"/>
            <a:ext cx="58100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孝心献给父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尊敬献给老师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爱心献给他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关心献给集体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信心留给自己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005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755640" y="1197000"/>
            <a:ext cx="34290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第一篇章：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292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9600" spc="-1" strike="noStrike">
                <a:solidFill>
                  <a:srgbClr val="ff3399"/>
                </a:solidFill>
                <a:latin typeface="黑体"/>
                <a:ea typeface="黑体"/>
              </a:rPr>
              <a:t>感恩父母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" descr="4b475107841a41600208819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2"/>
          <p:cNvPicPr/>
          <p:nvPr/>
        </p:nvPicPr>
        <p:blipFill>
          <a:blip r:embed="rId3"/>
          <a:stretch/>
        </p:blipFill>
        <p:spPr>
          <a:xfrm>
            <a:off x="3571920" y="3857760"/>
            <a:ext cx="113832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2"/>
          <p:cNvPicPr/>
          <p:nvPr/>
        </p:nvPicPr>
        <p:blipFill>
          <a:blip r:embed="rId4"/>
          <a:stretch/>
        </p:blipFill>
        <p:spPr>
          <a:xfrm>
            <a:off x="4429080" y="3857760"/>
            <a:ext cx="113652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0" descr=""/>
          <p:cNvPicPr/>
          <p:nvPr/>
        </p:nvPicPr>
        <p:blipFill>
          <a:blip r:embed="rId5"/>
          <a:stretch/>
        </p:blipFill>
        <p:spPr>
          <a:xfrm>
            <a:off x="1755720" y="2127240"/>
            <a:ext cx="5529240" cy="1712880"/>
          </a:xfrm>
          <a:prstGeom prst="rect">
            <a:avLst/>
          </a:prstGeom>
          <a:ln w="0">
            <a:noFill/>
          </a:ln>
        </p:spPr>
      </p:pic>
      <p:pic>
        <p:nvPicPr>
          <p:cNvPr id="54" name="矩形 11" descr=""/>
          <p:cNvPicPr/>
          <p:nvPr/>
        </p:nvPicPr>
        <p:blipFill>
          <a:blip r:embed="rId6"/>
          <a:stretch/>
        </p:blipFill>
        <p:spPr>
          <a:xfrm>
            <a:off x="165240" y="146160"/>
            <a:ext cx="3930480" cy="1390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80360" y="5734080"/>
            <a:ext cx="1441440" cy="792000"/>
          </a:xfrm>
          <a:custGeom>
            <a:avLst/>
            <a:gdLst>
              <a:gd name="textAreaLeft" fmla="*/ 51120 w 1441440"/>
              <a:gd name="textAreaRight" fmla="*/ 1390320 w 1441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304" h="21600">
                <a:moveTo>
                  <a:pt x="0" y="0"/>
                </a:moveTo>
                <a:lnTo>
                  <a:pt x="39304" y="0"/>
                </a:lnTo>
                <a:lnTo>
                  <a:pt x="39304" y="21600"/>
                </a:lnTo>
                <a:lnTo>
                  <a:pt x="0" y="21600"/>
                </a:lnTo>
                <a:close/>
              </a:path>
              <a:path fill="lightenLess" w="39304" h="21600">
                <a:moveTo>
                  <a:pt x="0" y="0"/>
                </a:moveTo>
                <a:lnTo>
                  <a:pt x="39304" y="0"/>
                </a:lnTo>
                <a:lnTo>
                  <a:pt x="37904" y="1400"/>
                </a:lnTo>
                <a:lnTo>
                  <a:pt x="1400" y="1400"/>
                </a:lnTo>
                <a:close/>
              </a:path>
              <a:path fill="darken" w="39304" h="21600">
                <a:moveTo>
                  <a:pt x="39304" y="0"/>
                </a:moveTo>
                <a:lnTo>
                  <a:pt x="39304" y="21600"/>
                </a:lnTo>
                <a:lnTo>
                  <a:pt x="37904" y="20200"/>
                </a:lnTo>
                <a:lnTo>
                  <a:pt x="37904" y="1400"/>
                </a:lnTo>
                <a:close/>
              </a:path>
              <a:path fill="darkenLess" w="39304" h="21600">
                <a:moveTo>
                  <a:pt x="39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04" y="20200"/>
                </a:lnTo>
                <a:close/>
              </a:path>
              <a:path fill="lighten" w="39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04" h="21600">
                <a:moveTo>
                  <a:pt x="12645" y="7301"/>
                </a:moveTo>
                <a:lnTo>
                  <a:pt x="13559" y="7301"/>
                </a:lnTo>
                <a:lnTo>
                  <a:pt x="13942" y="7667"/>
                </a:lnTo>
                <a:lnTo>
                  <a:pt x="23151" y="7667"/>
                </a:lnTo>
                <a:lnTo>
                  <a:pt x="23708" y="8224"/>
                </a:lnTo>
                <a:lnTo>
                  <a:pt x="23708" y="8772"/>
                </a:lnTo>
                <a:lnTo>
                  <a:pt x="25553" y="8772"/>
                </a:lnTo>
                <a:lnTo>
                  <a:pt x="25919" y="8224"/>
                </a:lnTo>
                <a:lnTo>
                  <a:pt x="26658" y="8224"/>
                </a:lnTo>
                <a:lnTo>
                  <a:pt x="26658" y="13376"/>
                </a:lnTo>
                <a:lnTo>
                  <a:pt x="25919" y="13376"/>
                </a:lnTo>
                <a:lnTo>
                  <a:pt x="25553" y="12828"/>
                </a:lnTo>
                <a:lnTo>
                  <a:pt x="23708" y="12828"/>
                </a:lnTo>
                <a:lnTo>
                  <a:pt x="23708" y="14107"/>
                </a:lnTo>
                <a:lnTo>
                  <a:pt x="14125" y="14107"/>
                </a:lnTo>
                <a:lnTo>
                  <a:pt x="14125" y="9877"/>
                </a:lnTo>
                <a:lnTo>
                  <a:pt x="13942" y="9877"/>
                </a:lnTo>
                <a:lnTo>
                  <a:pt x="13559" y="10243"/>
                </a:lnTo>
                <a:lnTo>
                  <a:pt x="1264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40607102052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857160" y="500040"/>
            <a:ext cx="792648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宋体"/>
              </a:rPr>
              <a:t>学会感恩，学会吃苦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宋体"/>
              </a:rPr>
              <a:t>父母是一本永远读不完的书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背景音乐(再见警察)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6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userid34564time20040712185428"/>
          <p:cNvPicPr/>
          <p:nvPr/>
        </p:nvPicPr>
        <p:blipFill>
          <a:blip r:embed="rId2"/>
          <a:srcRect l="2087" t="13048" r="0" b="0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无论你身在何地，有一个人，她永远占据在你心中最柔软的地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有一种爱，它让你肆意索取，享用，却不要你任何回报</a:t>
            </a:r>
            <a:r>
              <a:rPr b="1" lang="zh-CN" sz="3600" spc="-1" strike="noStrike">
                <a:solidFill>
                  <a:srgbClr val="06011d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这个人，叫</a:t>
            </a:r>
            <a:r>
              <a:rPr b="1" lang="zh-CN" sz="3600" spc="-1" strike="noStrike">
                <a:solidFill>
                  <a:srgbClr val="06011d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母亲</a:t>
            </a:r>
            <a:r>
              <a:rPr b="1" lang="zh-CN" sz="3600" spc="-1" strike="noStrike">
                <a:solidFill>
                  <a:srgbClr val="06011d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，这种爱叫</a:t>
            </a:r>
            <a:r>
              <a:rPr b="1" lang="zh-CN" sz="3600" spc="-1" strike="noStrike">
                <a:solidFill>
                  <a:srgbClr val="06011d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母爱</a:t>
            </a:r>
            <a:r>
              <a:rPr b="1" lang="zh-CN" sz="3600" spc="-1" strike="noStrike">
                <a:solidFill>
                  <a:srgbClr val="06011d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6011d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6011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杨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善"/>
          <p:cNvPicPr/>
          <p:nvPr/>
        </p:nvPicPr>
        <p:blipFill>
          <a:blip r:embed="rId1"/>
          <a:srcRect l="0" t="0" r="2499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emo4b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2-33-188_photoqian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7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8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080"/>
          <p:cNvSpPr/>
          <p:nvPr/>
        </p:nvSpPr>
        <p:spPr>
          <a:xfrm>
            <a:off x="5334120" y="0"/>
            <a:ext cx="3809880" cy="4173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母亲就是这样老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孩子终年在南方打工，伟大的母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为了给儿子省下一点钱给孙子读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她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我们肆意挥霍着自己的青春和金钱时，当我们在风花雪月里无病呻吟的时，当我们在闲暇高呼无聊的时候，有谁想起了她，你的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背景音乐(再见警察)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9218"/>
          <p:cNvSpPr/>
          <p:nvPr/>
        </p:nvSpPr>
        <p:spPr>
          <a:xfrm>
            <a:off x="738360" y="1600200"/>
            <a:ext cx="458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219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220"/>
          <p:cNvSpPr/>
          <p:nvPr/>
        </p:nvSpPr>
        <p:spPr>
          <a:xfrm>
            <a:off x="7161120" y="1371600"/>
            <a:ext cx="45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221"/>
          <p:cNvSpPr/>
          <p:nvPr/>
        </p:nvSpPr>
        <p:spPr>
          <a:xfrm>
            <a:off x="5943600" y="2467440"/>
            <a:ext cx="320040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是别人的父亲，如果是你的父亲，他目光中的希望你能读懂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现在的社会，仿佛纪律、严谨、敬业、吃苦这些东西，都已经完全过时；仿佛只有瞬间快乐才是人生的最高追求； 仿佛孝顺、奉献、牺牲、宽容都是愚蠢。是这样吗？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请你看看这手、这脚、这背、这眼，你想到了什么？是你父亲的脚、腿、手、背、眼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背景音乐(再见警察)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631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ky"/>
          <p:cNvPicPr/>
          <p:nvPr/>
        </p:nvPicPr>
        <p:blipFill>
          <a:blip r:embed="rId1"/>
          <a:srcRect l="0" t="0" r="0" b="20832"/>
          <a:stretch/>
        </p:blipFill>
        <p:spPr>
          <a:xfrm>
            <a:off x="0" y="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821240" y="2852640"/>
            <a:ext cx="42346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顾父母劝阻，长时间上网，荒废功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放学迟迟不愿回家，贪玩，离家出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经常“煲电话粥”，不愿与父母外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长时间看电视，与父母争吵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990720" y="0"/>
            <a:ext cx="49528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还记得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8-01"/>
          <p:cNvPicPr/>
          <p:nvPr/>
        </p:nvPicPr>
        <p:blipFill>
          <a:blip r:embed="rId1"/>
          <a:stretch/>
        </p:blipFill>
        <p:spPr>
          <a:xfrm>
            <a:off x="3286080" y="1143000"/>
            <a:ext cx="327672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853272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684360" y="62064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99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爱的天平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99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1:01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3:50Z</dcterms:modified>
  <cp:revision>10</cp:revision>
  <dc:subject>主题班会课件(分28大类): http://shop62905894.taobao.com</dc:subject>
  <dc:title>主题班会课件(分28大类): http://shop62905894.taobao.com</dc:title>
</cp:coreProperties>
</file>