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gif" ContentType="image/gi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5BD-5DA5-48ED-8AB7-4711EC9C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DE5-2271-4847-BF1F-AFA70D2C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DA1-7B46-476E-BAE2-A514012D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D3E-40F5-4DAA-98F2-C839E7A8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FCC5-2DFC-45C7-BAB5-A3891E57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E548-2B0E-4F69-90D6-29FF5114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398F-5E06-481C-AD88-E61C5AF6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5C3C-8339-42D8-96CE-9C694D70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EC63-3714-4790-B56F-2C11324E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2C8D-4375-4519-A606-110CF82A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CDF2-55FC-48E9-8EDE-FAB593E7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4D8-55D5-4ADA-95EE-BE13A0C0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6145-CF92-4E24-A960-BF778761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D9C9-E4DD-4B3F-88A3-EB3606F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145A-1401-4EC6-BD35-726FFC0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568E-48FA-4744-9C15-2063E27F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C82C-524C-4CD5-895E-70262017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123-3D4E-47AF-A1A8-3470A464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036-34EB-4745-923B-E1A4C573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A23-71EE-4A51-9B3B-EDC20BFB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552-26B8-4BE3-AF1A-367F71E3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C7F-3364-4D21-9007-73677D2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2C6-325B-4DE0-9338-4B495967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9C5-CCF5-46E9-9129-165379EB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3F09-BBE9-47D6-89F8-9DD60F603C26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1721-DD1E-49E6-A71D-8A07A9F4A4A8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5256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感” “恩” “图” “报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05440" y="3429000"/>
            <a:ext cx="49305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铭记父母恩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更上一层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44000" y="6021360"/>
            <a:ext cx="65700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《背影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黑布小帽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黑布大马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深青色棉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蹒跚地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慢慢探身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尚不大难。铁道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月台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就不容易了。两手攀着，两脚，缩；肥胖的，向左微倾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努力的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他的背影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的泪，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《背影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看见他戴着黑布小帽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穿着黑步大马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深青色棉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蹒跚地走到铁道边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慢慢探身下去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尚不大难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可是他穿过铁道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要爬上那边月台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就不容易了。他用两手攀着上面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两脚再向上缩；他肥胖的身子向左微倾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显出努力的样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这时我看见他的背影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的泪很快地流了下来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360" y="240480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7572"/>
                </a:solidFill>
                <a:latin typeface="Arial"/>
              </a:rPr>
              <a:t>你的故事</a:t>
            </a:r>
            <a:br>
              <a:rPr sz="5400"/>
            </a:b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208400" cy="6048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219640" y="766440"/>
            <a:ext cx="2610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8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</a:rPr>
              <a:t>图”解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917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</a:rPr>
              <a:t>ＦＡＭＩＬＹ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3120" y="3214440"/>
            <a:ext cx="815652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ather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nd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other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ov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ou!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164360" y="5157720"/>
            <a:ext cx="1944720" cy="1706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4878360"/>
            <a:ext cx="2006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16000" y="115560"/>
            <a:ext cx="44276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你对父母说了一声谢谢吗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你离开家有向父母道别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你主动打电话回家问候父母了吗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你帮父母分担了家务吗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你与父母一起分享了你的时间吗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你帮妈妈梳过头发吗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7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你帮爸爸洗过茶杯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8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你时刻铭记父母恩情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努力奋斗了吗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8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报”答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你了解你的父母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你知道父母的生日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你父母的爱好是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你父母最大的心愿是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133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我们能为父母做些什么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4000" y="3852720"/>
            <a:ext cx="36716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重品典故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196640"/>
            <a:ext cx="85327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二十四孝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【元】郭居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孝感动天  戏彩娱亲  鹿乳奉亲  为亲负米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啮指心痛  单衣顺母  亲尝汤药  拾葚供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为母埋儿  卖身葬父  刻木事亲  涌泉跃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怀桔遗亲  扇枕温衾  行佣供母  闻雷泣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哭竹生笋  卧冰求鲤  扼虎救父  恣蚊饱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尝粪心忧  乳姑不怠  亲涤溺器  弃官寻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04000" y="333360"/>
            <a:ext cx="2068560" cy="3290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Make good choices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2925720"/>
            <a:ext cx="80643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一位热那亚的水手说：“无论我在做什么的时候，我总会记得先问自己一声，如果我的母亲知道我这样，她会高兴吗？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217992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3280" y="-2160"/>
            <a:ext cx="547704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天下父母心 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- 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杨坤 谭晶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吃了多少苦受了多少累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你们为抚养儿女遭了多少罪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头发白了不会再变黑  皱纹添了不会再消退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起过多少早  贪过多少黑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你们为培养儿女多少心力被操碎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眼睛花了  走路已驼背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牙齿掉了说话常琐碎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常言说可怜天下父母心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直到我们有了儿女才能真正的体会</a:t>
            </a:r>
            <a:br>
              <a:rPr sz="2000"/>
            </a:b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最感动就是天下父母心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儿女长大要去飞  老人怕给添累赘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换一杯茶水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铺一下床被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问一问饭菜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合不合口味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父母如今到了这个年岁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健康长寿多少钱也买不回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常言说可怜天下父母心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直到我们有了儿女才能真正的体会</a:t>
            </a:r>
            <a:br>
              <a:rPr sz="2000"/>
            </a:b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最感动就是天下父母心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老人的健康长寿多少钱也买不回</a:t>
            </a:r>
            <a:br>
              <a:rPr sz="2000"/>
            </a:b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04000" y="333360"/>
            <a:ext cx="2068560" cy="3290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4920" y="6165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448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父母的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540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请欢迎家长代表对我们提出希望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我们庄严宣誓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90440"/>
            <a:ext cx="85881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亲爱的爸爸、妈妈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感谢你们给予我生命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感谢你们给予我关爱，你们用血汗和青春为我们铺垫了成长的道路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创造了成功的机会。这份恩情我铭记在心。在此我庄严宣誓：我一定努力学习，勤奋实践，创造自己精彩的人生，以报答你们的恩情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宣誓人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00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龙的传人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实中精英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7640" y="1289160"/>
            <a:ext cx="448308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遥远的东方有一条江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它的名字就叫长江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遥远的东方有一条河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它的名字就叫黄河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虽不曾看见长江美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梦里常神游长江水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虽不曾听见黄河壮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澎湃汹涌在梦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古老的东方有一条龙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它的名字就叫中国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古老的东方有一群人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他们全都是龙的传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00720" y="1988640"/>
            <a:ext cx="4572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多年前宁静的一个夜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们全家人到了纽约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野火呀烧不尽在心间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每夜每天对家的思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每夜每天对家的思念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别人土地上我成长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长成以后是龙的传人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*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巨龙巨龙你擦亮眼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永永远远地擦亮眼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*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675640" y="81000"/>
            <a:ext cx="3952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22037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感”悟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用眼去发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用心去体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5080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——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征求一位女性，能煮、能缝纫、会护理、会补习功课、早起晚睡、永远忍耐、忘掉自己，每日工作至少十八小时，必要时要二十四小时不眠不休。每周工作七日、无娱乐。终身不得辞职．．．．．必要时牺牲自己的生命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845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父母给予我们的有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2420640"/>
            <a:ext cx="418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生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时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机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9480" y="2350800"/>
            <a:ext cx="418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信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理解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赏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真情回放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7075440" cy="27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孩提时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摔了一跤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童年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开始上学了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少年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有烦恼了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8360" y="609444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恩”情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6560" y="2350800"/>
            <a:ext cx="7291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什么是恩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?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6562"/>
                </a:solidFill>
                <a:latin typeface="Arial"/>
              </a:rPr>
              <a:t>Don’t take anything for granted!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有多少“恩”被我们铭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7560" y="2206440"/>
            <a:ext cx="418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感恩图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感恩戴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感激不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感激涕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恩深义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9480" y="2204640"/>
            <a:ext cx="418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恩同父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恩同再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恩重如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恩深似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3236040" y="1844640"/>
            <a:ext cx="1051308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慈母手中线，</a:t>
            </a:r>
            <a:br>
              <a:rPr sz="6000"/>
            </a:b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游子身上衣，</a:t>
            </a:r>
            <a:br>
              <a:rPr sz="6000"/>
            </a:b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临行密密缝，</a:t>
            </a:r>
            <a:br>
              <a:rPr sz="6000"/>
            </a:b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意恐迟迟归，</a:t>
            </a:r>
            <a:br>
              <a:rPr sz="6000"/>
            </a:b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谁言寸草心，</a:t>
            </a:r>
            <a:br>
              <a:rPr sz="6000"/>
            </a:b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报得三春晖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　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62064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《游子吟》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00:41:01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6:54:05Z</dcterms:modified>
  <cp:revision>60</cp:revision>
  <dc:subject>主题班会课件(分28大类): http://shop62905894.taobao.com</dc:subject>
  <dc:title>主题班会课件(分28大类): http://shop62905894.taobao.com</dc:title>
</cp:coreProperties>
</file>