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30.gif" ContentType="image/gif"/>
  <Override PartName="/ppt/media/image3.png" ContentType="image/png"/>
  <Override PartName="/ppt/media/image25.jpeg" ContentType="image/jpeg"/>
  <Override PartName="/ppt/media/image4.jpeg" ContentType="image/jpeg"/>
  <Override PartName="/ppt/media/image12.jpeg" ContentType="image/jpeg"/>
  <Override PartName="/ppt/media/image2.gif" ContentType="image/gif"/>
  <Override PartName="/ppt/media/image8.jpeg" ContentType="image/jpeg"/>
  <Override PartName="/ppt/media/image29.jpeg" ContentType="image/jpeg"/>
  <Override PartName="/ppt/media/image9.jpeg" ContentType="image/jpeg"/>
  <Override PartName="/ppt/media/image11.gif" ContentType="image/gif"/>
  <Override PartName="/ppt/media/applause.wav" ContentType="audio/x-wav"/>
  <Override PartName="/ppt/media/image6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4.gif" ContentType="image/gif"/>
  <Override PartName="/ppt/media/image15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907-1E77-4318-8C3A-7CFBB99C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4BD-2636-4E2C-836D-5818EBE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BE7-7D39-4AF3-BFB1-10096F72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716-8692-432D-B7E2-95F71CD1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A505-07BE-440B-9A27-8554CB07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029D-BD63-46FE-9232-F0EEDE71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DCC0-1849-48EE-8E52-B2AA0C8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E32-93F5-4B76-833E-08978A3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470E-DA15-49C3-BF63-CA93783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7B8-FDD1-4943-A118-E566F74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2BA7-58BC-4FF8-BA77-DC89557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1FE-124D-4089-82D4-73118FB6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2DB-9B6B-4ACD-9678-4B8DF3E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CD26-1908-4589-BDB5-D6BDF981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B6B5-D7FA-48DF-8B9F-E9B1FC8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7A79-F693-4C39-8948-FD954427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D69B-75F3-4E1A-8CB7-0565036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223-EC8B-4555-8491-08DD345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A8F-61CA-4530-9D0E-E691B731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FE7-D492-4AFA-AA4D-C5C0236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CBB-2B03-4A38-8D7A-904DFA3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3A2-4375-4436-82E4-DD475E5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549-1CD4-4981-960D-51E472A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F1A-559A-4DEA-94D2-88D1C6F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E84-FA74-4373-B648-0E68A7507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F495-5717-4503-8D69-87BB199CE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4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rentschina.com/7004/2007-09-07/L7004004_262196_2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826920" y="1844640"/>
            <a:ext cx="6913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感受真情、学会感恩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7132680" y="0"/>
            <a:ext cx="2011320" cy="20574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172360" y="6093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09371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隶书"/>
              </a:rPr>
              <a:t>你心疼你的爸爸妈妈吗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885080" cy="5452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08360" y="1483920"/>
            <a:ext cx="5864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间最值得珍贵的爱莫过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对子女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间最无私的情感莫过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对子女的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80000" y="5805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可怜天下父母心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0836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华文新魏"/>
              </a:rPr>
              <a:t>请欣赏短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 rot="1248000">
            <a:off x="6156000" y="119664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720200">
            <a:off x="5652720" y="2133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2465400">
            <a:off x="4787280" y="299700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2558400">
            <a:off x="3923640" y="3789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2815800">
            <a:off x="3039120" y="46004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2098800">
            <a:off x="6948000" y="2420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2013000">
            <a:off x="6300360" y="32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691600">
            <a:off x="5219280" y="4149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638800">
            <a:off x="3994920" y="4941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72200" y="-374040"/>
            <a:ext cx="1094760" cy="528372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隶书"/>
              </a:rPr>
              <a:t>说说心里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619280" y="134136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00cc"/>
                </a:solidFill>
                <a:latin typeface="Arial"/>
                <a:ea typeface="华文新魏"/>
              </a:rPr>
              <a:t>制作感恩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3640" y="328464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40000"/>
                </a:solidFill>
                <a:latin typeface="Arial"/>
                <a:ea typeface="华文行楷"/>
              </a:rPr>
              <a:t>表达感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010040" cy="4437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3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3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3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3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3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3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95940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2133720" y="2057400"/>
            <a:ext cx="5029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家长的心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3492360" cy="2708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516720" y="3429000"/>
            <a:ext cx="1808280" cy="144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900000" y="907920"/>
            <a:ext cx="734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请欣赏：《世上只有妈妈好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393372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世上只有妈妈好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妈的孩子像块宝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投进妈妈的怀抱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幸福享不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3860640"/>
            <a:ext cx="324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世上只有妈妈好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没妈的孩子像根草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离开妈妈的怀抱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幸福哪里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38317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224000" y="620640"/>
            <a:ext cx="817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抚养你的人，因为他们使你体验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帮助你的人，因为他们使你度过难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关怀你的人，因为他们给你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鼓励你的人，因为他们给你力量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教育你的人，因为他们开化你的蒙昧。</a:t>
            </a:r>
            <a:br>
              <a:rPr sz="3200"/>
            </a:b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伤害你的人，因为他们磨炼你的心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欺骗你的人，因为他们增进你的智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藐视你的人，因为他们觉醒你的自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凡事感激，学会感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感激一切使你成长的人！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0" y="1276560"/>
            <a:ext cx="1185840" cy="25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感 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 rot="18560400">
            <a:off x="6387120" y="4781880"/>
            <a:ext cx="2590920" cy="2189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85800" y="1066680"/>
            <a:ext cx="7924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1371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0"/>
            <a:ext cx="68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感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e40000"/>
                </a:solidFill>
                <a:latin typeface="Times New Roman"/>
                <a:ea typeface="华文行楷"/>
              </a:rPr>
              <a:t>我们应该做些什么</a:t>
            </a:r>
            <a:r>
              <a:rPr b="0" lang="zh-CN" sz="4000" spc="-1" strike="noStrike">
                <a:solidFill>
                  <a:srgbClr val="e40000"/>
                </a:solidFill>
                <a:latin typeface="Times New Roman"/>
                <a:ea typeface="华文行楷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71640" y="907920"/>
            <a:ext cx="6940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父母生病时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送水拿药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朋友苦恼时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沟通安慰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环境污染时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关注整治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身处逆境时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坦然进取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rcRect l="0" t="0" r="39637" b="17816"/>
          <a:stretch/>
        </p:blipFill>
        <p:spPr>
          <a:xfrm>
            <a:off x="217440" y="1268280"/>
            <a:ext cx="4067280" cy="4392720"/>
          </a:xfrm>
          <a:prstGeom prst="rect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79" name="" descr=""/>
          <p:cNvPicPr/>
          <p:nvPr/>
        </p:nvPicPr>
        <p:blipFill>
          <a:blip r:embed="rId3"/>
          <a:srcRect l="0" t="18475" r="0" b="0"/>
          <a:stretch/>
        </p:blipFill>
        <p:spPr>
          <a:xfrm>
            <a:off x="4859280" y="1268280"/>
            <a:ext cx="4032360" cy="4392720"/>
          </a:xfrm>
          <a:prstGeom prst="rect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580" name=""/>
          <p:cNvSpPr/>
          <p:nvPr/>
        </p:nvSpPr>
        <p:spPr>
          <a:xfrm>
            <a:off x="1042920" y="59342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贫穷的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08720" y="587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独的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189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华文新魏"/>
                <a:ea typeface="华文新魏"/>
              </a:rPr>
              <a:t>学会感恩     懂得关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4103640" cy="3629160"/>
          </a:xfrm>
          <a:prstGeom prst="rect">
            <a:avLst/>
          </a:prstGeom>
          <a:ln w="19080">
            <a:solidFill>
              <a:srgbClr val="000000"/>
            </a:solidFill>
            <a:prstDash val="sysDot"/>
            <a:miter/>
          </a:ln>
        </p:spPr>
      </p:pic>
      <p:pic>
        <p:nvPicPr>
          <p:cNvPr id="585" name="" descr=""/>
          <p:cNvPicPr/>
          <p:nvPr/>
        </p:nvPicPr>
        <p:blipFill>
          <a:blip r:embed="rId3"/>
          <a:srcRect l="0" t="0" r="17090" b="0"/>
          <a:stretch/>
        </p:blipFill>
        <p:spPr>
          <a:xfrm>
            <a:off x="4498920" y="1341360"/>
            <a:ext cx="4537080" cy="3600360"/>
          </a:xfrm>
          <a:prstGeom prst="rect">
            <a:avLst/>
          </a:prstGeom>
          <a:ln w="19080">
            <a:solidFill>
              <a:srgbClr val="000000"/>
            </a:solidFill>
            <a:prstDash val="sysDot"/>
            <a:miter/>
          </a:ln>
        </p:spPr>
      </p:pic>
      <p:sp>
        <p:nvSpPr>
          <p:cNvPr id="586" name=""/>
          <p:cNvSpPr/>
          <p:nvPr/>
        </p:nvSpPr>
        <p:spPr>
          <a:xfrm>
            <a:off x="900000" y="530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苦难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08720" y="5373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情的灾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4000" y="189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华文新魏"/>
                <a:ea typeface="华文新魏"/>
              </a:rPr>
              <a:t>学会感恩     懂得关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590" name=""/>
          <p:cNvSpPr txBox="1"/>
          <p:nvPr/>
        </p:nvSpPr>
        <p:spPr>
          <a:xfrm>
            <a:off x="0" y="1844640"/>
            <a:ext cx="8604360" cy="27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40000"/>
                </a:solidFill>
                <a:latin typeface="华文新魏"/>
              </a:rPr>
              <a:t>我有一个强大的祖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e40000"/>
              </a:solidFill>
              <a:latin typeface="华文新魏"/>
              <a:ea typeface="华文新魏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1042920" y="1844640"/>
            <a:ext cx="6913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感受真情、学会感恩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132680" y="0"/>
            <a:ext cx="20113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39640" y="189000"/>
            <a:ext cx="81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女：那是一张熟悉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是我痛失亲人后看到的最真切的笑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眼里闪着泪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话里充满着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男：那是一张陌生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是我埋在瓦砾下看见的最勇敢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撬开了残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搬走了巨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女：那是一张美丽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是我躺在病床上看见的天使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包扎我的创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驱走我的恐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4360" y="0"/>
            <a:ext cx="7632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男：那是一张慈祥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是我奔离教室前看过的最镇静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为了自己的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成就了自己的永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女：那是一张年轻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是我在排队长列里看到的最急切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为了灾区的伤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献出了自己的殷殷鲜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男：那是一张忙碌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是我在救灾一线上看到的最疲惫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眼里布满血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来不及顾及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那一刻，我感到自己有一个强大的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40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女：地动天不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男：大灾有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女：我感到自己有一个强大的祖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男：我感到自己有一个强大的祖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合：我们感到自己有一个强大的祖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59280" y="3357720"/>
            <a:ext cx="5400360" cy="28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有一个强大的祖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826920" y="1557360"/>
            <a:ext cx="7704360" cy="1630440"/>
          </a:xfrm>
          <a:prstGeom prst="rect">
            <a:avLst/>
          </a:prstGeom>
          <a:solidFill>
            <a:srgbClr val="ffff99"/>
          </a:solidFill>
          <a:ln cap="rnd" w="381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愿所有的人都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知道感恩</a:t>
            </a: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！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愿所有的人都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学会感恩</a:t>
            </a: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1187280" y="1628640"/>
            <a:ext cx="50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班主任总结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7667640" y="1916280"/>
            <a:ext cx="793800" cy="9061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298520" cy="1482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6505560" y="3500280"/>
            <a:ext cx="882720" cy="100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2124000" y="765000"/>
            <a:ext cx="4608720" cy="21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宋体"/>
              </a:rPr>
              <a:t>班主任总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7308720" y="69228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304920" y="571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3048120" y="518148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611280" y="3549240"/>
            <a:ext cx="77770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古人说：“滴水之恩，当涌泉相报。”感恩，是我们民族的优良传统，也是一个正直的人的起码品德。因为知道别人的恩德并知道感恩的人，才能收获更多的人生幸福。一个经常怀着感恩之心的人，心地坦荡，胸怀宽阔，会自觉自愿地给人以帮助，助人为乐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只要我们人人都有一颗感恩的心，我们的校园、我们的社会也将会更加和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68360" y="2540520"/>
            <a:ext cx="8064360" cy="1556280"/>
          </a:xfrm>
          <a:prstGeom prst="rect">
            <a:avLst/>
          </a:prstGeom>
          <a:solidFill>
            <a:srgbClr val="e1f4ff">
              <a:alpha val="6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今天的班会开得很好，这是我们班全体同学的功劳，更要感谢前来参加我们班会的家长和老师。老师也从大家的表现与表情中感受到了大家对“感恩”话题的深刻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今天的班会是结束了，但 “感恩”并没有结束，让我们播种下的种子生根发芽，让我们一生都能爱护这来自内心的感恩情怀。别忘记老师对大家的期望，那就是：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永远做个对社会有用的优秀人才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1978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24000" y="836640"/>
            <a:ext cx="8496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愿大家行动起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----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学会感恩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010040" cy="44370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1411560" cy="16938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2490480" cy="298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486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5176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00000" y="1125360"/>
            <a:ext cx="6336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爱的故事</a:t>
            </a:r>
            <a:endParaRPr b="1" lang="en-US" sz="1800" spc="1" strike="noStrike">
              <a:ln cap="rnd"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>
            <a:hlinkClick r:id="rId1"/>
          </p:cNvPr>
          <p:cNvPicPr/>
          <p:nvPr/>
        </p:nvPicPr>
        <p:blipFill>
          <a:blip r:embed="rId2"/>
          <a:srcRect l="0" t="15947" r="0" b="22175"/>
          <a:stretch/>
        </p:blipFill>
        <p:spPr>
          <a:xfrm>
            <a:off x="5751360" y="3878280"/>
            <a:ext cx="2997360" cy="2790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两千年前的一天，意大利的庞贝古城在瞬间被火山熔岩所淹没。经历了二十个世纪的沧海桑田，人们被一尊化石深深震撼：这是一位母亲，蜷缩在地上，怀中紧紧抱着一个幼小的婴孩。我们可以想象，当令人窒息的熔岩扑向不及逃脱的居民时，这位绝望的母亲，曲下身来，以自己的背、头和四肢紧紧环抱怀中的幼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她希望用自己的血肉之躯，为怀中的孩子抵挡那炙热的岩浆，她希望将一线生机留给孩子——这就是一位母亲在生死关头最本能的希望。 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_x000b__x000c_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47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新魏"/>
              </a:rPr>
              <a:t>虽然，无情的岩浆还是将她们淹没，但母子相拥的情景已化作历史的永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5280" y="4581360"/>
            <a:ext cx="4681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8360" y="6453360"/>
            <a:ext cx="4681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两千年后的一天，唐山在天崩地裂中塌陷。一对母子被埋在废墟之下。八天，整整过了八天 ！当救援人员发现她们时，七八个月大的孩子安然无恙——而母亲，却永远的离开了人间。  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在那阴冷、无水、没有食物的环境中，是母亲用乳汁延续着孩子的生命。乳汁吸干了，她用力咬断手指，让孩子吸吮自己的鲜血，直到最后一滴生命流逝。直到人们发现了那用慈母之心创造的生命奇迹。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这就是母亲对生命意义的最高诠释。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3933720"/>
            <a:ext cx="4681440" cy="0"/>
          </a:xfrm>
          <a:prstGeom prst="line">
            <a:avLst/>
          </a:prstGeom>
          <a:ln w="7632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6021360"/>
            <a:ext cx="4681440" cy="0"/>
          </a:xfrm>
          <a:prstGeom prst="line">
            <a:avLst/>
          </a:prstGeom>
          <a:ln w="7632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3313080" cy="3159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189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宋体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个四岁的男孩 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跟着母亲来到姨妈家做客。姨妈家有桶汽油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邻居家放焰火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不小心点燃了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大火顿时烧了起来。母亲只要迈两步就可以逃出去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但是她并没有那样做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而是毫不犹豫地跑到屋里去救她的儿子。这时大火已经把门堵住了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母亲抱着孩子拼命往外冲。皮肤被烧坏了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母亲也顾不上，只是坚定的用自己的手护住孩子的头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62200" y="2997360"/>
            <a:ext cx="4681800" cy="0"/>
          </a:xfrm>
          <a:prstGeom prst="line">
            <a:avLst/>
          </a:prstGeom>
          <a:ln w="7632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rcRect l="24983" t="36141" r="3085" b="3596"/>
          <a:stretch/>
        </p:blipFill>
        <p:spPr>
          <a:xfrm>
            <a:off x="106200" y="3068640"/>
            <a:ext cx="2772000" cy="374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6" name=""/>
          <p:cNvSpPr/>
          <p:nvPr/>
        </p:nvSpPr>
        <p:spPr>
          <a:xfrm>
            <a:off x="2771640" y="308916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经过一番辛苦努力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母亲终于冲出火海。母亲和孩子被送进医院……母亲的皮肤烧的不堪目睹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医生让她做皮肤移植手术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但是她坚决反对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垂危的母亲用尽全身的力气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把氧气罩和针管全拔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母亲永远的离开了……她留给这世上的最后一句话是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:“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定要把孩子治好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定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356000" y="30240"/>
            <a:ext cx="4753080" cy="3385800"/>
          </a:xfrm>
          <a:prstGeom prst="rect">
            <a:avLst/>
          </a:prstGeom>
          <a:gradFill rotWithShape="0">
            <a:gsLst>
              <a:gs pos="0">
                <a:srgbClr val="def1f2"/>
              </a:gs>
              <a:gs pos="50000">
                <a:srgbClr val="ffffff"/>
              </a:gs>
              <a:gs pos="100000">
                <a:srgbClr val="def1f2"/>
              </a:gs>
            </a:gsLst>
            <a:lin ang="5400000"/>
          </a:gra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2003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月，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60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岁的父亲胡介甫将自己的肾脏移植给了患“尿毒症”的儿子，固执的父亲不容拒绝地告诉胡立新：“什么比你的命还重要？我宁可自己没命，也不能看着你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1280" y="1700280"/>
            <a:ext cx="3996000" cy="5105160"/>
          </a:xfrm>
          <a:prstGeom prst="rect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 rot="219600">
            <a:off x="6921000" y="4578120"/>
            <a:ext cx="2224080" cy="227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8580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上自习说闲话时是否想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011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月你将在何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120" y="22096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贪玩不学习时是否想过父母的辛劳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4360" y="40766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心烦气燥时是否想过曾经给父母带来的失望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5280" y="400536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7621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从这些故事中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你读出了什么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0" y="-27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在你心目中，你最想感谢的人是（  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75%)          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6.8%)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(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9.1%)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9.1%)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你还记得父母的生日吗？（  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记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66%)  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记得父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2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记得母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6%)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不记得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6%)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你能理解父母对你的管教吗？（  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常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8%)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65.9%)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1.4%)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厌只喜欢自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4.5%)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你的父母对你在学校的表现满意吗？（  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常满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0%)   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满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6.8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满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52.3%)   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知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40.9%)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你觉得自己与父母的关系是（  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52%)    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紧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2.3%)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疏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4.5%)    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40.9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0:14:0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2:40Z</dcterms:modified>
  <cp:revision>94</cp:revision>
  <dc:subject>主题班会课件(分28大类): http://shop62905894.taobao.com</dc:subject>
  <dc:title>主题班会课件(分28大类): http://shop62905894.taobao.com</dc:title>
</cp:coreProperties>
</file>