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AB8-CB5C-4E43-980B-92CBA311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A0B-6651-418D-A193-6BDBBF1A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864-696F-4D6C-A399-2F599ADF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3F6-2C49-47A2-A0D3-C8D844E8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011-73FE-42CF-8228-0EA99BD7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A12-46F0-427B-8B92-9BB20C7A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563-AA9A-496A-ACF0-8FF3D714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977-3E3D-4866-A605-A6F14479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0B9-6F23-4411-BC9A-87AF42CF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A26-45F3-442D-A63F-1FE0482A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4E1-D7E1-4877-8729-A82CD4B5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7A6-DE1B-4155-8864-3925B6B3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9789-E55E-4FD7-9C90-C5071982C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84360" y="0"/>
            <a:ext cx="432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师恩难忘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297480"/>
            <a:ext cx="68436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73840" y="765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欣赏歌曲－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6281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23639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260280"/>
            <a:ext cx="7848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谢谢您，老师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189000"/>
            <a:ext cx="309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诗朗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733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《爱的清泉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5958000"/>
            <a:ext cx="82692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929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3400" y="981000"/>
            <a:ext cx="592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　他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她博学多才，旁征博引，不仅教给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知识，还教我们做人的道理。每个晚修，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她都会利用他人看电视或与家人团聚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给我们辅导。有次，上课前几分钟，他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爱人提包给抢劫了，他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她接到电话之后，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慰了爱人，只是在电话里报案，然后便拿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课本从容地走进课室上课。丝毫也没有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上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48600" y="5805360"/>
            <a:ext cx="34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他就是我们的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---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160" y="0"/>
            <a:ext cx="40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 is he/sh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30920" y="5734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生物老师宋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33480" y="260280"/>
            <a:ext cx="532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　他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她口才了得，文笔飞扬，有一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流利的普通话。自从我们踏进艺高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来，他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她就一直陪伴着我们，为我们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进步而喜，为我们的不争气而忧，他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她依然不乏童真，与我们打成一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他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她是我们的良师益友，谈心的对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800" y="4581360"/>
            <a:ext cx="41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他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她就是我们的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---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6760" y="4581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语文老师李小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53320" y="5445000"/>
            <a:ext cx="34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他就是我们的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---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0600" y="189000"/>
            <a:ext cx="5667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去年，为了他的“传真七子”，他请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雪糕掏出了十四块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七月，为了我们的课程安排，教师搭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他无怨无悔牺牲了暑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今天，为了锻炼我们的身体，立下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组织了师生篮球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明年，我们会以努力换来的成绩让他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此为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67160" y="551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主任帅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83720" y="5157720"/>
            <a:ext cx="41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他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她就是我们的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---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39320" y="30240"/>
            <a:ext cx="54428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当我们遇到烦恼的时候，他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她总是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在你身边开解你，跟你谈心。这种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师亦友的关系一直伴随着我们的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因为有了爱钻研的他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她，我们得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了思维的拓展，因为有了无微不至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他、她，我们感到了温馨的关怀。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为有了这样的良师益友，我们才会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生活、对学习更有激情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6760" y="5229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化学老师黄先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51160" y="33336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老师，我要对你说－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22760" y="3716280"/>
            <a:ext cx="505764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老师的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　　　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－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　　　　　我们会谨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7912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如何尊敬老师、报师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34720" y="692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学习上，勤学好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34720" y="1341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人格上，敬重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07800" y="3068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地位上，推崇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07800" y="3645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作用上，不忘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27920" y="5084640"/>
            <a:ext cx="607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　　当前最直接的体现，就是珍惜时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自觉勤奋，在高考中夺得优异的成绩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07800" y="2133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态度上，虚心进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4T11:49:18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6:59:29Z</dcterms:modified>
  <cp:revision>12</cp:revision>
  <dc:subject>主题班会课件(分28大类): http://shop62905894.taobao.com</dc:subject>
  <dc:title>主题班会课件(分28大类): http://shop62905894.taobao.com</dc:title>
</cp:coreProperties>
</file>