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7.png" ContentType="image/png"/>
  <Override PartName="/ppt/media/image34.gif" ContentType="image/gif"/>
  <Override PartName="/ppt/media/image23.jpeg" ContentType="image/jpeg"/>
  <Override PartName="/ppt/media/image21.jpeg" ContentType="image/jpeg"/>
  <Override PartName="/ppt/media/chimes.wav" ContentType="audio/x-wav"/>
  <Override PartName="/ppt/media/image20.jpeg" ContentType="image/jpeg"/>
  <Override PartName="/ppt/media/image24.jpeg" ContentType="image/jpeg"/>
  <Override PartName="/ppt/media/image15.png" ContentType="image/png"/>
  <Override PartName="/ppt/media/image18.jpeg" ContentType="image/jpeg"/>
  <Override PartName="/ppt/media/image28.gif" ContentType="image/gif"/>
  <Override PartName="/ppt/media/image14.jpeg" ContentType="image/jpeg"/>
  <Override PartName="/ppt/media/image13.jpeg" ContentType="image/jpeg"/>
  <Override PartName="/ppt/media/image22.jpeg" ContentType="image/jpeg"/>
  <Override PartName="/ppt/media/image1.jpeg" ContentType="image/jpeg"/>
  <Override PartName="/ppt/media/image47.png" ContentType="image/png"/>
  <Override PartName="/ppt/media/image9.jpeg" ContentType="image/jpeg"/>
  <Override PartName="/ppt/media/image11.png" ContentType="image/png"/>
  <Override PartName="/ppt/media/image17.jpeg" ContentType="image/jpeg"/>
  <Override PartName="/ppt/media/image3.png" ContentType="image/png"/>
  <Override PartName="/ppt/media/image40.gif" ContentType="image/gif"/>
  <Override PartName="/ppt/media/image2.png" ContentType="image/png"/>
  <Override PartName="/ppt/media/image4.jpeg" ContentType="image/jpeg"/>
  <Override PartName="/ppt/media/image29.gif" ContentType="image/gif"/>
  <Override PartName="/ppt/media/image44.jpeg" ContentType="image/jpeg"/>
  <Override PartName="/ppt/media/image31.gif" ContentType="image/gif"/>
  <Override PartName="/ppt/media/image37.gif" ContentType="image/gif"/>
  <Override PartName="/ppt/media/image38.png" ContentType="image/png"/>
  <Override PartName="/ppt/media/image39.jpeg" ContentType="image/jpeg"/>
  <Override PartName="/ppt/media/image45.jpeg" ContentType="image/jpeg"/>
  <Override PartName="/ppt/media/image30.gif" ContentType="image/gif"/>
  <Override PartName="/ppt/media/image42.gif" ContentType="image/gif"/>
  <Override PartName="/ppt/media/image33.gif" ContentType="image/gif"/>
  <Override PartName="/ppt/media/image8.gif" ContentType="image/gif"/>
  <Override PartName="/ppt/media/image46.jpeg" ContentType="image/jpeg"/>
  <Override PartName="/ppt/media/whoosh.wav" ContentType="audio/x-wav"/>
  <Override PartName="/ppt/media/image10.jpeg" ContentType="image/jpeg"/>
  <Override PartName="/ppt/media/type.wav" ContentType="audio/x-wav"/>
  <Override PartName="/ppt/media/image25.gif" ContentType="image/gif"/>
  <Override PartName="/ppt/media/image48.jpeg" ContentType="image/jpeg"/>
  <Override PartName="/ppt/media/image16.jpeg" ContentType="image/jpeg"/>
  <Override PartName="/ppt/media/image41.gif" ContentType="image/gif"/>
  <Override PartName="/ppt/media/image12.jpeg" ContentType="image/jpeg"/>
  <Override PartName="/ppt/media/image5.jpeg" ContentType="image/jpeg"/>
  <Override PartName="/ppt/media/image26.jpeg" ContentType="image/jpeg"/>
  <Override PartName="/ppt/media/image32.gif" ContentType="image/gif"/>
  <Override PartName="/ppt/media/image19.jpeg" ContentType="image/jpeg"/>
  <Override PartName="/ppt/media/image35.gif" ContentType="image/gif"/>
  <Override PartName="/ppt/media/image7.jpeg" ContentType="image/jpeg"/>
  <Override PartName="/ppt/media/image36.png" ContentType="image/png"/>
  <Override PartName="/ppt/media/image43.gif" ContentType="image/gif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E2CA-2DD1-4A01-9867-CB2CB31D1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36B4-9631-4F8A-A220-E8FDE3A59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EB52-4BA1-4A08-B1D3-25CDDE3FB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4470-D327-45E2-89D0-97ED42D9C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24AC2-1454-49A7-BFA1-D4D7B1ECA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CEBF8-8E68-42F9-A4C2-192E86843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C8E3A-1571-41C9-B627-E97A9291D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C0CE7-DD52-4567-AFA3-05BED3809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15C86-84E1-4517-8863-458EE8B4A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B0FC8-58DF-4DFC-B2A6-B4A2B0515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828FD-237B-431C-BFBB-210EC5C39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AAB7-AC45-4A96-9F16-ADCCC51A5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9CB52-749C-48F0-BC1A-93E6C9E3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994A7-03EE-4D53-8389-F1B63F08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D48F1-06BB-4159-844C-895D1F42F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168D8-6380-487C-8BF8-BB67BA957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0012E-C582-4799-991D-07D98046B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5BB23-F090-41C7-8910-9149D23A0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39A44-6568-449B-8E61-7C2BC5DF4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2622D-2865-412A-A74A-276E8DFBA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64E82-E2ED-4232-9DCA-E2554E6EE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9D614-E352-48BD-A22E-EEDF60381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D905-60C3-419E-BAB5-B25A6F56E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826F9-D55F-4A13-B5C5-A09B394A6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24C09-0A9E-4960-A89A-E2E3487BD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DAF6D-E725-4351-BA03-FF2DF67D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2C9C2-530F-4949-9590-A35C0826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B7969-B473-43DA-8C82-C66545691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EA086-B4E7-4EE2-B64B-70A58A660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1FADC-B7CA-4213-9997-AC112A8CB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DAD8E-CD8D-48C1-8861-8091C3A53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EA6F6-5703-4258-A2F9-9E37DC948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D8CA9-D720-41B5-87A2-F73666B64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69BF-B17B-4376-AC0C-500FF5566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69E8A-3F08-4D0C-BD3F-2D3C17843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EA26D-1F54-4CD9-9679-3F3B2A480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B2AB9-0B43-4459-9D2A-C8EE20717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1E718-F623-4167-B19C-2D2C941BD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3BE51-A79D-4D1F-99D2-94603D27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B0109-6571-48C3-9F78-2BB8BB61D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545AC-CC18-4238-BC7A-175AFA803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38412-0DAE-48A3-A14A-D8CEC5635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3052F-F444-4E91-84ED-8391BBA0A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974C8-B3BA-4E04-BC29-C714DBE55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DE32-B42F-4258-A272-674815177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160BC2-716B-4FA7-9A2A-8B59024F1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9F447-C28F-44EC-8CC4-DDD5B4FEA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5304B8-DAC5-476A-AAAD-DDE5DF6F5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38084-5B72-4324-85F7-BDCDD4FF7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6577E-AB87-41C7-A974-73069AE37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754EA-C781-4C1F-9F39-F3BF1A909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690E36-7363-40C3-9473-37CC63453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0C1317-1E7A-4662-A5E2-164CBA3A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CB0CB0-6AC4-4CD1-B1C9-8CBFF4FD5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F843B-C2AE-4CDB-95F6-FDF1AF6A6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A1A8-0BBB-4E1F-9175-5425860D2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114A3-284C-4040-8B6F-828BA1970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6A3E-DB9E-4102-BEBD-708F166C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A990-0669-4DE3-92BB-DA94AF3B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BCE1-E95F-4D2C-AF9D-B04D28CAA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2ACF8-A95D-4F58-8D56-EF9519DEDC6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A9BF9-3383-4F3D-94C3-3B589245FF1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83" name="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86" name=""/>
              <p:cNvSpPr/>
              <p:nvPr/>
            </p:nvSpPr>
            <p:spPr>
              <a:xfrm rot="21092400">
                <a:off x="-23400" y="831600"/>
                <a:ext cx="1680840" cy="272880"/>
              </a:xfrm>
              <a:custGeom>
                <a:avLst/>
                <a:gdLst/>
                <a:ahLst/>
                <a:rect l="l" t="t" r="r" b="b"/>
                <a:pathLst>
                  <a:path w="1059" h="172">
                    <a:moveTo>
                      <a:pt x="1059" y="0"/>
                    </a:moveTo>
                    <a:cubicBezTo>
                      <a:pt x="543" y="45"/>
                      <a:pt x="291" y="112"/>
                      <a:pt x="147" y="144"/>
                    </a:cubicBezTo>
                    <a:cubicBezTo>
                      <a:pt x="0" y="172"/>
                      <a:pt x="153" y="147"/>
                      <a:pt x="177" y="171"/>
                    </a:cubicBezTo>
                    <a:cubicBezTo>
                      <a:pt x="329" y="151"/>
                      <a:pt x="339" y="99"/>
                      <a:pt x="1059" y="24"/>
                    </a:cubicBezTo>
                    <a:cubicBezTo>
                      <a:pt x="1059" y="24"/>
                      <a:pt x="1059" y="0"/>
                      <a:pt x="10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6600"/>
                  </a:gs>
                  <a:gs pos="100000">
                    <a:srgbClr val="f5ebc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21092400">
                <a:off x="1838160" y="-141120"/>
                <a:ext cx="6543360" cy="1000080"/>
              </a:xfrm>
              <a:custGeom>
                <a:avLst/>
                <a:gdLst/>
                <a:ahLst/>
                <a:rect l="l" t="t" r="r" b="b"/>
                <a:pathLst>
                  <a:path w="4122" h="630">
                    <a:moveTo>
                      <a:pt x="0" y="204"/>
                    </a:moveTo>
                    <a:cubicBezTo>
                      <a:pt x="255" y="198"/>
                      <a:pt x="1686" y="0"/>
                      <a:pt x="3544" y="348"/>
                    </a:cubicBezTo>
                    <a:cubicBezTo>
                      <a:pt x="4122" y="464"/>
                      <a:pt x="3754" y="614"/>
                      <a:pt x="3680" y="630"/>
                    </a:cubicBezTo>
                    <a:cubicBezTo>
                      <a:pt x="3680" y="630"/>
                      <a:pt x="3642" y="626"/>
                      <a:pt x="3616" y="624"/>
                    </a:cubicBezTo>
                    <a:cubicBezTo>
                      <a:pt x="3678" y="612"/>
                      <a:pt x="4118" y="488"/>
                      <a:pt x="3534" y="368"/>
                    </a:cubicBezTo>
                    <a:cubicBezTo>
                      <a:pt x="2029" y="98"/>
                      <a:pt x="696" y="156"/>
                      <a:pt x="17" y="231"/>
                    </a:cubicBezTo>
                    <a:cubicBezTo>
                      <a:pt x="17" y="231"/>
                      <a:pt x="0" y="204"/>
                      <a:pt x="0" y="204"/>
                    </a:cubicBez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" name="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8" name="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52C00-F8D2-406F-97CD-16A6D1B4F380}" type="slidenum">
              <a:rPr b="0" lang="zh-CN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4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42" name=""/>
              <p:cNvSpPr/>
              <p:nvPr/>
            </p:nvSpPr>
            <p:spPr>
              <a:xfrm>
                <a:off x="0" y="1981080"/>
                <a:ext cx="9144000" cy="1752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0" y="0"/>
                <a:ext cx="1776240" cy="6858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1295280" y="4114800"/>
              <a:ext cx="1113120" cy="2743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-10800" y="895680"/>
            <a:ext cx="8454600" cy="1951920"/>
            <a:chOff x="-10800" y="895680"/>
            <a:chExt cx="8454600" cy="1951920"/>
          </a:xfrm>
        </p:grpSpPr>
        <p:sp>
          <p:nvSpPr>
            <p:cNvPr id="146" name=""/>
            <p:cNvSpPr/>
            <p:nvPr/>
          </p:nvSpPr>
          <p:spPr>
            <a:xfrm rot="21092400">
              <a:off x="0" y="2344680"/>
              <a:ext cx="1681200" cy="273240"/>
            </a:xfrm>
            <a:custGeom>
              <a:avLst/>
              <a:gdLst/>
              <a:ahLst/>
              <a:rect l="l" t="t" r="r" b="b"/>
              <a:pathLst>
                <a:path w="1059" h="172">
                  <a:moveTo>
                    <a:pt x="1059" y="0"/>
                  </a:moveTo>
                  <a:cubicBezTo>
                    <a:pt x="543" y="45"/>
                    <a:pt x="291" y="112"/>
                    <a:pt x="147" y="144"/>
                  </a:cubicBezTo>
                  <a:cubicBezTo>
                    <a:pt x="0" y="172"/>
                    <a:pt x="153" y="147"/>
                    <a:pt x="177" y="171"/>
                  </a:cubicBezTo>
                  <a:cubicBezTo>
                    <a:pt x="329" y="151"/>
                    <a:pt x="339" y="99"/>
                    <a:pt x="1059" y="24"/>
                  </a:cubicBezTo>
                  <a:cubicBezTo>
                    <a:pt x="1059" y="24"/>
                    <a:pt x="1059" y="0"/>
                    <a:pt x="10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f5ebc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21092400">
              <a:off x="1862280" y="1371240"/>
              <a:ext cx="6543360" cy="1000080"/>
            </a:xfrm>
            <a:custGeom>
              <a:avLst/>
              <a:gdLst/>
              <a:ahLst/>
              <a:rect l="l" t="t" r="r" b="b"/>
              <a:pathLst>
                <a:path w="4122" h="630">
                  <a:moveTo>
                    <a:pt x="0" y="204"/>
                  </a:moveTo>
                  <a:cubicBezTo>
                    <a:pt x="255" y="198"/>
                    <a:pt x="1686" y="0"/>
                    <a:pt x="3544" y="348"/>
                  </a:cubicBezTo>
                  <a:cubicBezTo>
                    <a:pt x="4122" y="464"/>
                    <a:pt x="3754" y="614"/>
                    <a:pt x="3680" y="630"/>
                  </a:cubicBezTo>
                  <a:cubicBezTo>
                    <a:pt x="3680" y="630"/>
                    <a:pt x="3642" y="626"/>
                    <a:pt x="3616" y="624"/>
                  </a:cubicBezTo>
                  <a:cubicBezTo>
                    <a:pt x="3678" y="612"/>
                    <a:pt x="4118" y="488"/>
                    <a:pt x="3534" y="368"/>
                  </a:cubicBezTo>
                  <a:cubicBezTo>
                    <a:pt x="2029" y="98"/>
                    <a:pt x="696" y="156"/>
                    <a:pt x="17" y="231"/>
                  </a:cubicBezTo>
                  <a:cubicBezTo>
                    <a:pt x="17" y="231"/>
                    <a:pt x="0" y="204"/>
                    <a:pt x="0" y="204"/>
                  </a:cubicBez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1600200" y="1981080"/>
              <a:ext cx="456840" cy="456840"/>
              <a:chOff x="1600200" y="1981080"/>
              <a:chExt cx="456840" cy="456840"/>
            </a:xfrm>
          </p:grpSpPr>
          <p:sp>
            <p:nvSpPr>
              <p:cNvPr id="149" name=""/>
              <p:cNvSpPr/>
              <p:nvPr/>
            </p:nvSpPr>
            <p:spPr>
              <a:xfrm>
                <a:off x="1600200" y="1981080"/>
                <a:ext cx="456840" cy="45684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828800" y="210204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671840" y="2037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671840" y="216684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778760" y="22093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921680" y="21949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807200" y="23022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671840" y="2280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800360" y="198792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ftr" idx="11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sldNum" idx="12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6A545-E24E-4ED7-94E9-05F9DF7415A8}" type="slidenum">
              <a:rPr b="0" lang="zh-CN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DEE3A-5CC8-4CCB-855C-7904723F09E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7ctime.com/Article/lishi/200602/3406_5.html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www.fsyz.com.cn/xkjy/closehistory/wangji/shihai/qimeng/24/24tuwen.htm" TargetMode="External"/><Relationship Id="rId4" Type="http://schemas.openxmlformats.org/officeDocument/2006/relationships/image" Target="../media/image20.jpeg"/><Relationship Id="rId5" Type="http://schemas.openxmlformats.org/officeDocument/2006/relationships/hyperlink" Target="http://www.7ctime.com/Article/lishi/200602/3406_2.html" TargetMode="External"/><Relationship Id="rId6" Type="http://schemas.openxmlformats.org/officeDocument/2006/relationships/image" Target="../media/image21.jpeg"/><Relationship Id="rId7" Type="http://schemas.openxmlformats.org/officeDocument/2006/relationships/hyperlink" Target="http://www.7ctime.com/Article/lishi/200602/3406_3.html" TargetMode="External"/><Relationship Id="rId8" Type="http://schemas.openxmlformats.org/officeDocument/2006/relationships/image" Target="../media/image22.jpe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8.gif"/><Relationship Id="rId3" Type="http://schemas.openxmlformats.org/officeDocument/2006/relationships/slide" Target="slide14.xml"/><Relationship Id="rId4" Type="http://schemas.openxmlformats.org/officeDocument/2006/relationships/slide" Target="slide15.xml"/><Relationship Id="rId5" Type="http://schemas.openxmlformats.org/officeDocument/2006/relationships/image" Target="../media/image29.gif"/><Relationship Id="rId6" Type="http://schemas.openxmlformats.org/officeDocument/2006/relationships/image" Target="../media/image30.gif"/><Relationship Id="rId7" Type="http://schemas.openxmlformats.org/officeDocument/2006/relationships/image" Target="../media/image31.gif"/><Relationship Id="rId8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" Target="slide13.xml"/><Relationship Id="rId3" Type="http://schemas.openxmlformats.org/officeDocument/2006/relationships/image" Target="../media/image33.gif"/><Relationship Id="rId4" Type="http://schemas.openxmlformats.org/officeDocument/2006/relationships/image" Target="../media/image34.gif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image" Target="../media/image40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1.gif"/><Relationship Id="rId3" Type="http://schemas.openxmlformats.org/officeDocument/2006/relationships/image" Target="../media/image41.gif"/><Relationship Id="rId4" Type="http://schemas.openxmlformats.org/officeDocument/2006/relationships/image" Target="../media/image41.gif"/><Relationship Id="rId5" Type="http://schemas.openxmlformats.org/officeDocument/2006/relationships/image" Target="../media/image41.gif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gif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24.xml"/><Relationship Id="rId3" Type="http://schemas.openxmlformats.org/officeDocument/2006/relationships/image" Target="../media/image8.gif"/><Relationship Id="rId4" Type="http://schemas.openxmlformats.org/officeDocument/2006/relationships/slide" Target="slide8.xml"/><Relationship Id="rId5" Type="http://schemas.openxmlformats.org/officeDocument/2006/relationships/image" Target="../media/image8.gif"/><Relationship Id="rId6" Type="http://schemas.openxmlformats.org/officeDocument/2006/relationships/slide" Target="slide19.xml"/><Relationship Id="rId7" Type="http://schemas.openxmlformats.org/officeDocument/2006/relationships/image" Target="../media/image8.gif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5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gif"/><Relationship Id="rId2" Type="http://schemas.openxmlformats.org/officeDocument/2006/relationships/image" Target="../media/image44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" Target="slide26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audio" Target="../media/chimes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" Target="slide1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17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4356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1752480" y="1371600"/>
            <a:ext cx="563904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华文行楷"/>
              </a:rPr>
              <a:t>孝敬父母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900000" y="5950080"/>
            <a:ext cx="43200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1180" fill="hold"/>
                                        <p:tgtEl>
                                          <p:spTgt spid="2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404640"/>
            <a:ext cx="3382920" cy="237492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92720" y="404640"/>
            <a:ext cx="3419640" cy="338472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3068640"/>
            <a:ext cx="3456000" cy="347328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292720" y="4005360"/>
            <a:ext cx="3456000" cy="244800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 txBox="1"/>
          <p:nvPr/>
        </p:nvSpPr>
        <p:spPr>
          <a:xfrm rot="5400000">
            <a:off x="1931760" y="2900160"/>
            <a:ext cx="5185080" cy="914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</a:rPr>
              <a:t>二十四孝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1371600" y="380880"/>
            <a:ext cx="2583000" cy="342900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4684680" y="563400"/>
            <a:ext cx="10987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274280" y="591120"/>
            <a:ext cx="3837960" cy="52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ff99"/>
                </a:solidFill>
                <a:latin typeface="Times New Roman"/>
                <a:ea typeface="华文行楷"/>
              </a:rPr>
              <a:t>老吾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ff99"/>
                </a:solidFill>
                <a:latin typeface="Times New Roman"/>
                <a:ea typeface="华文行楷"/>
              </a:rPr>
              <a:t>以及人之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ff99"/>
                </a:solidFill>
                <a:latin typeface="Times New Roman"/>
                <a:ea typeface="华文行楷"/>
              </a:rPr>
              <a:t>幼吾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ff99"/>
                </a:solidFill>
                <a:latin typeface="Times New Roman"/>
                <a:ea typeface="华文行楷"/>
              </a:rPr>
              <a:t>以及人之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063520" y="4010040"/>
            <a:ext cx="12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方正舒体"/>
              </a:rPr>
              <a:t>孟  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13.gif (10433 bytes)"/>
          <p:cNvPicPr/>
          <p:nvPr/>
        </p:nvPicPr>
        <p:blipFill>
          <a:blip r:embed="rId3"/>
          <a:stretch/>
        </p:blipFill>
        <p:spPr>
          <a:xfrm>
            <a:off x="8001000" y="380880"/>
            <a:ext cx="628560" cy="8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67" dur="75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914400" y="762120"/>
            <a:ext cx="1849320" cy="2931840"/>
          </a:xfrm>
          <a:prstGeom prst="rect">
            <a:avLst/>
          </a:prstGeom>
          <a:ln w="38160">
            <a:solidFill>
              <a:srgbClr val="000000"/>
            </a:solidFill>
            <a:prstDash val="dash"/>
            <a:miter/>
          </a:ln>
        </p:spPr>
      </p:pic>
      <p:sp>
        <p:nvSpPr>
          <p:cNvPr id="301" name=""/>
          <p:cNvSpPr/>
          <p:nvPr/>
        </p:nvSpPr>
        <p:spPr>
          <a:xfrm>
            <a:off x="5796000" y="-552600"/>
            <a:ext cx="1947960" cy="83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隶书"/>
                <a:ea typeface="华文隶书"/>
              </a:rPr>
              <a:t>负米供甘旨，宁辞百里遥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华文隶书"/>
                <a:ea typeface="华文隶书"/>
              </a:rPr>
              <a:t>　身荣亲已没，犹念旧劬劳</a:t>
            </a:r>
            <a:r>
              <a:rPr b="0" lang="zh-CN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166120" y="4343400"/>
            <a:ext cx="1095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仲由、字子路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周朝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>
            <a:hlinkClick r:id="" action="ppaction://hlinkshowjump?jump=nextslide"/>
          </p:cNvPr>
          <p:cNvSpPr/>
          <p:nvPr/>
        </p:nvSpPr>
        <p:spPr>
          <a:xfrm>
            <a:off x="4119480" y="268920"/>
            <a:ext cx="1185840" cy="53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66ffcc"/>
                </a:solidFill>
                <a:latin typeface="华文彩云"/>
                <a:ea typeface="华文彩云"/>
              </a:rPr>
              <a:t>负 米 养 亲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0" dur="75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5" dur="75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14.gif (24210 bytes)"/>
          <p:cNvPicPr/>
          <p:nvPr/>
        </p:nvPicPr>
        <p:blipFill>
          <a:blip r:embed="rId1"/>
          <a:stretch/>
        </p:blipFill>
        <p:spPr>
          <a:xfrm>
            <a:off x="1558800" y="4670280"/>
            <a:ext cx="503280" cy="52236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14.gif (24210 bytes)"/>
          <p:cNvPicPr/>
          <p:nvPr/>
        </p:nvPicPr>
        <p:blipFill>
          <a:blip r:embed="rId2"/>
          <a:stretch/>
        </p:blipFill>
        <p:spPr>
          <a:xfrm>
            <a:off x="1528920" y="3679920"/>
            <a:ext cx="502920" cy="522360"/>
          </a:xfrm>
          <a:prstGeom prst="rect">
            <a:avLst/>
          </a:prstGeom>
          <a:ln w="0">
            <a:noFill/>
          </a:ln>
        </p:spPr>
      </p:pic>
      <p:sp>
        <p:nvSpPr>
          <p:cNvPr id="306" name="">
            <a:hlinkClick r:id="rId3" action="ppaction://hlinksldjump"/>
          </p:cNvPr>
          <p:cNvSpPr/>
          <p:nvPr/>
        </p:nvSpPr>
        <p:spPr>
          <a:xfrm>
            <a:off x="3081240" y="3375000"/>
            <a:ext cx="3566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阿 麻 的 故 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>
            <a:hlinkClick r:id="rId4" action="ppaction://hlinksldjump"/>
          </p:cNvPr>
          <p:cNvSpPr/>
          <p:nvPr/>
        </p:nvSpPr>
        <p:spPr>
          <a:xfrm>
            <a:off x="3157560" y="4365720"/>
            <a:ext cx="3566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阿 美 的 故 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4.gif (7056 字节)"/>
          <p:cNvPicPr/>
          <p:nvPr/>
        </p:nvPicPr>
        <p:blipFill>
          <a:blip r:embed="rId5"/>
          <a:stretch/>
        </p:blipFill>
        <p:spPr>
          <a:xfrm>
            <a:off x="3995640" y="1125360"/>
            <a:ext cx="1648080" cy="137340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6"/>
          <a:stretch/>
        </p:blipFill>
        <p:spPr>
          <a:xfrm>
            <a:off x="304920" y="380880"/>
            <a:ext cx="1406520" cy="179388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7"/>
          <a:stretch/>
        </p:blipFill>
        <p:spPr>
          <a:xfrm>
            <a:off x="7467480" y="380880"/>
            <a:ext cx="140652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11.gif (22393 bytes)"/>
          <p:cNvPicPr/>
          <p:nvPr/>
        </p:nvPicPr>
        <p:blipFill>
          <a:blip r:embed="rId1"/>
          <a:stretch/>
        </p:blipFill>
        <p:spPr>
          <a:xfrm>
            <a:off x="457200" y="1295280"/>
            <a:ext cx="4286160" cy="449100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4419720" y="457200"/>
            <a:ext cx="3809880" cy="2438280"/>
          </a:xfrm>
          <a:prstGeom prst="cloudCallout">
            <a:avLst>
              <a:gd name="adj1" fmla="val -84500"/>
              <a:gd name="adj2" fmla="val 39388"/>
            </a:avLst>
          </a:prstGeom>
          <a:solidFill>
            <a:srgbClr val="f5eb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嗨！我叫阿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419720" y="457200"/>
            <a:ext cx="3809880" cy="2438280"/>
          </a:xfrm>
          <a:prstGeom prst="cloudCallout">
            <a:avLst>
              <a:gd name="adj1" fmla="val -84500"/>
              <a:gd name="adj2" fmla="val 39388"/>
            </a:avLst>
          </a:prstGeom>
          <a:solidFill>
            <a:srgbClr val="f5eb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我是我家小太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419720" y="457200"/>
            <a:ext cx="3809880" cy="2438280"/>
          </a:xfrm>
          <a:prstGeom prst="cloudCallout">
            <a:avLst>
              <a:gd name="adj1" fmla="val -84500"/>
              <a:gd name="adj2" fmla="val 39388"/>
            </a:avLst>
          </a:prstGeom>
          <a:solidFill>
            <a:srgbClr val="f5eb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我家我最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419720" y="457200"/>
            <a:ext cx="3809880" cy="2438280"/>
          </a:xfrm>
          <a:prstGeom prst="cloudCallout">
            <a:avLst>
              <a:gd name="adj1" fmla="val -84958"/>
              <a:gd name="adj2" fmla="val 40171"/>
            </a:avLst>
          </a:prstGeom>
          <a:solidFill>
            <a:srgbClr val="f5eb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不信？你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5.gif (31829 bytes)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238880" y="54864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1.gif (9814 bytes)"/>
          <p:cNvPicPr/>
          <p:nvPr/>
        </p:nvPicPr>
        <p:blipFill>
          <a:blip r:embed="rId4"/>
          <a:stretch/>
        </p:blipFill>
        <p:spPr>
          <a:xfrm>
            <a:off x="4648320" y="3733920"/>
            <a:ext cx="342900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18.gif (14157 字节)"/>
          <p:cNvPicPr/>
          <p:nvPr/>
        </p:nvPicPr>
        <p:blipFill>
          <a:blip r:embed="rId1"/>
          <a:stretch/>
        </p:blipFill>
        <p:spPr>
          <a:xfrm>
            <a:off x="5105520" y="1752480"/>
            <a:ext cx="4038480" cy="434340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1876320" y="609480"/>
            <a:ext cx="4204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Times New Roman"/>
                <a:ea typeface="方正舒体"/>
              </a:rPr>
              <a:t>我叫小美，我爱我的父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Times New Roman"/>
                <a:ea typeface="方正舒体"/>
              </a:rPr>
              <a:t>我要为他们做一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3194280" y="496800"/>
            <a:ext cx="1643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新三字经中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“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能温席，小黄香，爱父母，意深长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85800" y="1752480"/>
            <a:ext cx="609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小黄香是汉代湖北省一位孝敬长辈而名留千古的好儿童。他九岁时，不幸丧母，小小年纪便懂得孝敬父亲。每当夏天炎热时，他就把父亲睡的枕席扇凉，赶走蚊子，放好帐子，让父亲能睡得舒服；在寒冷的冬天，床席冰冷如铁，他就先睡在父亲的床席上，用自己的体温把被子暖热，再请父亲睡到温暖的床上。小黄香不仅以孝心闻名，而且刻苦勤奋，博学多才，当时有“天下无双，江夏黄童”的赞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7010280" y="2057400"/>
            <a:ext cx="1752840" cy="43434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  <p:sndAc>
      <p:stSnd>
        <p:snd r:embed="rId3" name="chimes.wav"/>
      </p:stSnd>
    </p:sndAc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" descr=""/>
          <p:cNvPicPr/>
          <p:nvPr/>
        </p:nvPicPr>
        <p:blipFill>
          <a:blip r:embed="rId2"/>
          <a:stretch/>
        </p:blipFill>
        <p:spPr>
          <a:xfrm>
            <a:off x="380880" y="457200"/>
            <a:ext cx="6629400" cy="419112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6191640" y="304920"/>
            <a:ext cx="261756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    </a:t>
            </a:r>
            <a:r>
              <a:rPr b="1" lang="zh-CN" sz="3200" spc="-1" strike="noStrike">
                <a:solidFill>
                  <a:srgbClr val="3366cc"/>
                </a:solidFill>
                <a:latin typeface="华文新魏"/>
                <a:ea typeface="华文新魏"/>
              </a:rPr>
              <a:t>我们的前辈在对待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cc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3366cc"/>
                </a:solidFill>
                <a:latin typeface="华文新魏"/>
                <a:ea typeface="华文新魏"/>
              </a:rPr>
              <a:t>父母的态度上表现了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cc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3366cc"/>
                </a:solidFill>
                <a:latin typeface="华文新魏"/>
                <a:ea typeface="华文新魏"/>
              </a:rPr>
              <a:t>尚的情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3"/>
          <a:stretch/>
        </p:blipFill>
        <p:spPr>
          <a:xfrm>
            <a:off x="533520" y="5029200"/>
            <a:ext cx="8001000" cy="9936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  <p:sndAc>
      <p:stSnd>
        <p:snd r:embed="rId4" name="chimes.wav"/>
      </p:stSnd>
    </p:sndAc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2615040" y="1447920"/>
            <a:ext cx="336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方正舒体"/>
                <a:ea typeface="方正舒体"/>
              </a:rPr>
              <a:t>精神上满足父母的需要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745000" y="2270160"/>
            <a:ext cx="366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舒体"/>
                <a:ea typeface="方正舒体"/>
              </a:rPr>
              <a:t>牢记父母为所付出的心血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925720" y="312408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从生活小事做起，孝敬父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344400" y="3886200"/>
            <a:ext cx="3666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舒体"/>
                <a:ea typeface="方正舒体"/>
              </a:rPr>
              <a:t>按照《中学生日常行为规范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舒体"/>
                <a:ea typeface="方正舒体"/>
              </a:rPr>
              <a:t>中对父母孝敬的要求去做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" descr="6.gif (3168 bytes)"/>
          <p:cNvPicPr/>
          <p:nvPr/>
        </p:nvPicPr>
        <p:blipFill>
          <a:blip r:embed="rId2"/>
          <a:stretch/>
        </p:blipFill>
        <p:spPr>
          <a:xfrm>
            <a:off x="1143000" y="1542960"/>
            <a:ext cx="514440" cy="51444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6.gif (3168 bytes)"/>
          <p:cNvPicPr/>
          <p:nvPr/>
        </p:nvPicPr>
        <p:blipFill>
          <a:blip r:embed="rId3"/>
          <a:stretch/>
        </p:blipFill>
        <p:spPr>
          <a:xfrm>
            <a:off x="1143000" y="2362320"/>
            <a:ext cx="514440" cy="5140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6.gif (3168 bytes)"/>
          <p:cNvPicPr/>
          <p:nvPr/>
        </p:nvPicPr>
        <p:blipFill>
          <a:blip r:embed="rId4"/>
          <a:stretch/>
        </p:blipFill>
        <p:spPr>
          <a:xfrm>
            <a:off x="1143000" y="3200400"/>
            <a:ext cx="514440" cy="51444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6.gif (3168 bytes)"/>
          <p:cNvPicPr/>
          <p:nvPr/>
        </p:nvPicPr>
        <p:blipFill>
          <a:blip r:embed="rId5"/>
          <a:stretch/>
        </p:blipFill>
        <p:spPr>
          <a:xfrm>
            <a:off x="1143000" y="4038480"/>
            <a:ext cx="514440" cy="51444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3033000" y="706320"/>
            <a:ext cx="373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99"/>
                </a:solidFill>
                <a:latin typeface="Times New Roman"/>
                <a:ea typeface="方正舒体"/>
              </a:rPr>
              <a:t>我 们 应 该 怎 样 做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2133720" y="533520"/>
            <a:ext cx="4752720" cy="24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百行孝为先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36" name=""/>
          <p:cNvSpPr/>
          <p:nvPr/>
        </p:nvSpPr>
        <p:spPr>
          <a:xfrm>
            <a:off x="4284720" y="4149720"/>
            <a:ext cx="17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28195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现在的独生子女，都是生长在安逸的环境里，什么都觉得理所当然，因为他们不知道为人父母的艰辛，“树欲静而风不止，子欲养而亲不在”，等到孩子长大成人，再明白孝的道理，似乎已经太迟了。所以我们有必要与子女一起重读经典故事。知道“二十四孝”的人，已经不多了；知道“二十四孝”的年轻一代，更是少之又少。“孝”在今日社会，似乎已是一个“过气”的词。我们读《二十四孝》，感觉那似乎是十分遥远的故事，其实细细想来，它好像又近在咫尺，离我们并不远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孝   敬   父   母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3124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00"/>
                </a:solidFill>
                <a:latin typeface="Times New Roman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  <a:ea typeface="黑体"/>
              </a:rPr>
              <a:t>孝敬父母与缺乏孝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1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10000"/>
                </a:solidFill>
                <a:latin typeface="Times New Roman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010000"/>
                </a:solidFill>
                <a:latin typeface="Times New Roman"/>
                <a:ea typeface="黑体"/>
              </a:rPr>
              <a:t>为什么要孝敬父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1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10000"/>
                </a:solidFill>
                <a:latin typeface="Times New Roman"/>
                <a:ea typeface="黑体"/>
              </a:rPr>
              <a:t>       </a:t>
            </a:r>
            <a:r>
              <a:rPr b="0" lang="zh-CN" sz="3200" spc="-1" strike="noStrike">
                <a:solidFill>
                  <a:srgbClr val="010000"/>
                </a:solidFill>
                <a:latin typeface="Times New Roman"/>
                <a:ea typeface="黑体"/>
              </a:rPr>
              <a:t>怎样孝敬父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62120" y="42670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62120" y="54864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62120" y="31240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  <p:sndAc>
      <p:stSnd>
        <p:snd r:embed="rId8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826920" y="4292640"/>
            <a:ext cx="83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曾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孔子的得意弟子，世称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"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曾子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"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以孝著称。少年时家贫，常入山打柴。一天，家里来了客人，母亲不知所措，就用牙咬自己的手指。曾参忽然觉得心疼，知道母亲在呼唤自己，便背着柴迅速返回家中，跪问缘故。母亲说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"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客人忽然到来，我咬手指盼你回来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"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曾参于是接见客人，以礼相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57200" y="0"/>
            <a:ext cx="223200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孝感动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457200"/>
            <a:ext cx="9144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舜，传说中的远古帝王，五帝之一。相传他的父亲瞽叟及继母、异母弟象，多次想害死他：让舜修补谷仓仓顶时，从谷仓下纵火，舜手持两个斗笠跳下逃脱；让舜掘井时，瞽叟与象却下土填井，舜掘地道逃脱。事后舜毫不嫉恨，仍对父亲恭顺，对弟弟慈爱。他的孝行感动了天帝。舜在厉山耕种，大象替他耕地，鸟代他锄草。帝尧听说舜非常孝顺，有处理政事的才干，把两个女儿娥皇和女英嫁给他；经过多年观察和考验，选定舜做他的继承人。舜登天子位后，去看望父亲，仍然恭恭敬敬，并封象为诸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 rot="5400000">
            <a:off x="-768960" y="5187960"/>
            <a:ext cx="2395800" cy="5540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99ccff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宋体"/>
              </a:rPr>
              <a:t>啮指痛心</a:t>
            </a:r>
            <a:endParaRPr b="0" lang="en-US" sz="1800" spc="1" strike="noStrike">
              <a:ln w="12600">
                <a:solidFill>
                  <a:srgbClr val="99ccff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2851560" y="228600"/>
            <a:ext cx="347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西方儿子眼中的父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813320" y="1371600"/>
            <a:ext cx="5688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岁：“爸爸真了不起，什么都懂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岁：“爸爸有时候说的也不对……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岁：“爸爸有点落伍了，他的理论和时代格格不入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岁：“老头子一无所知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岁：“如果爸爸当年象我这样老练，今天肯定是个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翁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4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岁：“我不知是否该和老头子商量商量，或许他能帮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出主意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5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岁：“真可惜，爸爸去世。说实在话，他的看法相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高明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6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岁：“可怜的爸爸，你简直无所不知，遗憾的是我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解你太晚了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>
            <a:hlinkClick r:id="rId2" action="ppaction://hlinksldjump"/>
          </p:cNvPr>
          <p:cNvSpPr/>
          <p:nvPr/>
        </p:nvSpPr>
        <p:spPr>
          <a:xfrm>
            <a:off x="8534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7493"/>
                </a:moveTo>
                <a:lnTo>
                  <a:pt x="10895" y="7493"/>
                </a:lnTo>
                <a:lnTo>
                  <a:pt x="10895" y="12828"/>
                </a:lnTo>
                <a:cubicBezTo>
                  <a:pt x="10895" y="13751"/>
                  <a:pt x="11696" y="14482"/>
                  <a:pt x="12732" y="14482"/>
                </a:cubicBezTo>
                <a:lnTo>
                  <a:pt x="14394" y="14482"/>
                </a:lnTo>
                <a:cubicBezTo>
                  <a:pt x="15430" y="14482"/>
                  <a:pt x="16231" y="13751"/>
                  <a:pt x="16231" y="12828"/>
                </a:cubicBezTo>
                <a:lnTo>
                  <a:pt x="16231" y="7493"/>
                </a:lnTo>
                <a:lnTo>
                  <a:pt x="14394" y="7493"/>
                </a:lnTo>
                <a:lnTo>
                  <a:pt x="17902" y="3985"/>
                </a:lnTo>
                <a:lnTo>
                  <a:pt x="21575" y="7493"/>
                </a:lnTo>
                <a:lnTo>
                  <a:pt x="19738" y="7493"/>
                </a:lnTo>
                <a:lnTo>
                  <a:pt x="19738" y="12828"/>
                </a:lnTo>
                <a:cubicBezTo>
                  <a:pt x="19738" y="15596"/>
                  <a:pt x="17162" y="18155"/>
                  <a:pt x="14394" y="18155"/>
                </a:cubicBezTo>
                <a:lnTo>
                  <a:pt x="12732" y="18155"/>
                </a:lnTo>
                <a:cubicBezTo>
                  <a:pt x="9964" y="18155"/>
                  <a:pt x="7388" y="15596"/>
                  <a:pt x="7388" y="12828"/>
                </a:cubicBez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3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1908000" y="62064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你对父母的了解有多少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295280" y="1403280"/>
            <a:ext cx="8229600" cy="49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你母亲的生日？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你给父亲买过生日礼物吗？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你母亲最喜欢的是哪套衣服？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你父母的结婚纪念日？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你爸爸今天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几岁？属什么的？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你爸爸喜欢喝白酒吗？那他一般喝什么牌子的？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你父亲喜欢吃的菜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你能说出来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himes.wav"/>
      </p:stSnd>
    </p:sndAc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651240" y="842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Times New Roman"/>
                <a:ea typeface="华文新魏"/>
              </a:rPr>
              <a:t>课堂作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28600" y="380880"/>
            <a:ext cx="868680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一、判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、当父母问题的看法不如我们正确时，也可以指责父 母“没水平”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(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920" y="160020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、子女最初的生活知识、劳动知识和做人的道理都是老师教给的。</a:t>
            </a:r>
            <a:r>
              <a:rPr b="1" lang="zh-CN" sz="3200" spc="-1" strike="noStrike">
                <a:solidFill>
                  <a:srgbClr val="3366cc"/>
                </a:solidFill>
                <a:latin typeface="Times New Roman"/>
                <a:ea typeface="华文中宋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(           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66cc"/>
                </a:solidFill>
                <a:latin typeface="Times New Roman"/>
                <a:ea typeface="华文中宋"/>
              </a:rPr>
              <a:t>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28600" y="251460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、孝敬父母不等于无原则的百依百顺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(    )</a:t>
            </a:r>
            <a:r>
              <a:rPr b="1" lang="zh-CN" sz="2000" spc="-1" strike="noStrike">
                <a:solidFill>
                  <a:srgbClr val="3366cc"/>
                </a:solidFill>
                <a:latin typeface="Times New Roman"/>
                <a:ea typeface="华文新魏"/>
              </a:rPr>
              <a:t>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292248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二、选择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、下例选项正确的有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(                      )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、尊重父母就是不可以向父母提出意见和批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、尊敬父母就是对父母的要求百依百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、当发现父母的知识水平不如你时，不应对父母抱不屑一顾的态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、当父母有不正确的言行时，应当善意提出，帮助父母纠正错误过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619120" y="1041120"/>
            <a:ext cx="66780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错   错  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524196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8381880" y="2514600"/>
            <a:ext cx="489240" cy="24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106600" y="3209760"/>
            <a:ext cx="76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C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620120" y="52657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himes.wav"/>
      </p:stSnd>
    </p:sndAc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26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0" y="1143000"/>
            <a:ext cx="914400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、尊敬父母是子女的义务，因为                           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(                       )             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、父母是社会主义的建设子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、父母对子女有养育之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、父母是子女生活道路上的第一任老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、父母对社会的进步和人民的事业作出         了贡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85800" y="16765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ABC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1" name="chimes.wav"/>
      </p:stSnd>
    </p:sndAc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457200" y="343080"/>
            <a:ext cx="242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三、讨论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80880" y="1112760"/>
            <a:ext cx="8821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、心理学家查利吉斯在调节青少年的烦恼时，发现许多人都反映父母说话“罗嗦”。我国的父母与子女的关系较西方更为密切，因此更容易引起子女们对父母“罗嗦”的抱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有的同学认为自己已经长大成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希望独立解决问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不需要父母的“罗嗦”了。这种想法对吗？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57200" y="3581280"/>
            <a:ext cx="8686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、小红看到同班同学穿着一件漂亮的时装，她也要求父母给买一件，父母一合计，觉得价格太贵，就决定花几十元买一套普通的学生服，这一下可使小红生气了。小红呕气，一个多星期不理睬父母。你认为小红的 表现有什么错？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>
            <a:hlinkClick r:id="rId2" action="ppaction://hlinksldjump"/>
          </p:cNvPr>
          <p:cNvSpPr/>
          <p:nvPr/>
        </p:nvSpPr>
        <p:spPr>
          <a:xfrm>
            <a:off x="7772400" y="6019920"/>
            <a:ext cx="838080" cy="585720"/>
          </a:xfrm>
          <a:custGeom>
            <a:avLst/>
            <a:gdLst>
              <a:gd name="textAreaLeft" fmla="*/ 37800 w 838080"/>
              <a:gd name="textAreaRight" fmla="*/ 800280 w 83808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30901" h="21600">
                <a:moveTo>
                  <a:pt x="0" y="0"/>
                </a:moveTo>
                <a:lnTo>
                  <a:pt x="30901" y="0"/>
                </a:lnTo>
                <a:lnTo>
                  <a:pt x="30901" y="21600"/>
                </a:lnTo>
                <a:lnTo>
                  <a:pt x="0" y="21600"/>
                </a:lnTo>
                <a:close/>
              </a:path>
              <a:path fill="lightenLess" w="30901" h="21600">
                <a:moveTo>
                  <a:pt x="0" y="0"/>
                </a:moveTo>
                <a:lnTo>
                  <a:pt x="30901" y="0"/>
                </a:lnTo>
                <a:lnTo>
                  <a:pt x="29501" y="1400"/>
                </a:lnTo>
                <a:lnTo>
                  <a:pt x="1400" y="1400"/>
                </a:lnTo>
                <a:close/>
              </a:path>
              <a:path fill="darken" w="30901" h="21600">
                <a:moveTo>
                  <a:pt x="30901" y="0"/>
                </a:moveTo>
                <a:lnTo>
                  <a:pt x="30901" y="21600"/>
                </a:lnTo>
                <a:lnTo>
                  <a:pt x="29501" y="20200"/>
                </a:lnTo>
                <a:lnTo>
                  <a:pt x="29501" y="1400"/>
                </a:lnTo>
                <a:close/>
              </a:path>
              <a:path fill="darkenLess" w="30901" h="21600">
                <a:moveTo>
                  <a:pt x="30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501" y="20200"/>
                </a:lnTo>
                <a:close/>
              </a:path>
              <a:path fill="lighten" w="30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901" h="21600">
                <a:moveTo>
                  <a:pt x="8444" y="7493"/>
                </a:moveTo>
                <a:lnTo>
                  <a:pt x="11951" y="7493"/>
                </a:lnTo>
                <a:lnTo>
                  <a:pt x="11951" y="12828"/>
                </a:lnTo>
                <a:cubicBezTo>
                  <a:pt x="11951" y="13751"/>
                  <a:pt x="12752" y="14482"/>
                  <a:pt x="13788" y="14482"/>
                </a:cubicBezTo>
                <a:lnTo>
                  <a:pt x="15450" y="14482"/>
                </a:lnTo>
                <a:cubicBezTo>
                  <a:pt x="16486" y="14482"/>
                  <a:pt x="17287" y="13751"/>
                  <a:pt x="17287" y="12828"/>
                </a:cubicBezTo>
                <a:lnTo>
                  <a:pt x="17287" y="7493"/>
                </a:lnTo>
                <a:lnTo>
                  <a:pt x="15450" y="7493"/>
                </a:lnTo>
                <a:lnTo>
                  <a:pt x="18958" y="3985"/>
                </a:lnTo>
                <a:lnTo>
                  <a:pt x="22631" y="7493"/>
                </a:lnTo>
                <a:lnTo>
                  <a:pt x="20794" y="7493"/>
                </a:lnTo>
                <a:lnTo>
                  <a:pt x="20794" y="12828"/>
                </a:lnTo>
                <a:cubicBezTo>
                  <a:pt x="20794" y="15596"/>
                  <a:pt x="18218" y="18155"/>
                  <a:pt x="15450" y="18155"/>
                </a:cubicBezTo>
                <a:lnTo>
                  <a:pt x="13788" y="18155"/>
                </a:lnTo>
                <a:cubicBezTo>
                  <a:pt x="11020" y="18155"/>
                  <a:pt x="8444" y="15596"/>
                  <a:pt x="8444" y="12828"/>
                </a:cubicBez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  <p:sndAc>
      <p:stSnd>
        <p:snd r:embed="rId3" name="chimes.wav"/>
      </p:stSnd>
    </p:sndAc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3048120" y="228600"/>
            <a:ext cx="313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9900"/>
                </a:solidFill>
                <a:latin typeface="Times New Roman"/>
                <a:ea typeface="华文新魏"/>
              </a:rPr>
              <a:t>孝敬父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80880" y="898560"/>
            <a:ext cx="47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华文新魏"/>
              </a:rPr>
              <a:t>一、孝敬父母与缺乏孝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04920" y="1600200"/>
            <a:ext cx="716256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华文新魏"/>
              </a:rPr>
              <a:t>二、为什么要孝敬父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</a:t>
            </a:r>
            <a:r>
              <a:rPr b="1" lang="zh-CN" sz="2800" spc="-1" strike="noStrike">
                <a:solidFill>
                  <a:srgbClr val="0066cc"/>
                </a:solidFill>
                <a:latin typeface="Times New Roman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0066cc"/>
                </a:solidFill>
                <a:latin typeface="Times New Roman"/>
                <a:ea typeface="华文新魏"/>
              </a:rPr>
              <a:t>、父母对子女有养育之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cc"/>
                </a:solidFill>
                <a:latin typeface="Times New Roman"/>
                <a:ea typeface="华文新魏"/>
              </a:rPr>
              <a:t>     </a:t>
            </a:r>
            <a:r>
              <a:rPr b="1" lang="zh-CN" sz="2800" spc="-1" strike="noStrike">
                <a:solidFill>
                  <a:srgbClr val="0066cc"/>
                </a:solidFill>
                <a:latin typeface="Times New Roman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66cc"/>
                </a:solidFill>
                <a:latin typeface="Times New Roman"/>
                <a:ea typeface="华文新魏"/>
              </a:rPr>
              <a:t>、父母是人生道路上的第一任老师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cc"/>
                </a:solidFill>
                <a:latin typeface="Times New Roman"/>
                <a:ea typeface="华文新魏"/>
              </a:rPr>
              <a:t>     </a:t>
            </a:r>
            <a:r>
              <a:rPr b="1" lang="zh-CN" sz="2800" spc="-1" strike="noStrike">
                <a:solidFill>
                  <a:srgbClr val="0066cc"/>
                </a:solidFill>
                <a:latin typeface="Times New Roman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66cc"/>
                </a:solidFill>
                <a:latin typeface="Times New Roman"/>
                <a:ea typeface="华文新魏"/>
              </a:rPr>
              <a:t>、父母是社会主义劳动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cc"/>
                </a:solidFill>
                <a:latin typeface="Times New Roman"/>
                <a:ea typeface="华文新魏"/>
              </a:rPr>
              <a:t>     </a:t>
            </a:r>
            <a:r>
              <a:rPr b="1" lang="zh-CN" sz="2800" spc="-1" strike="noStrike">
                <a:solidFill>
                  <a:srgbClr val="3366cc"/>
                </a:solidFill>
                <a:latin typeface="Times New Roman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3366cc"/>
                </a:solidFill>
                <a:latin typeface="Times New Roman"/>
                <a:ea typeface="华文新魏"/>
              </a:rPr>
              <a:t>、拒绝赡养是一种违法行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cc"/>
                </a:solidFill>
                <a:latin typeface="Times New Roman"/>
                <a:ea typeface="华文新魏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57200" y="3733920"/>
            <a:ext cx="37288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华文新魏"/>
              </a:rPr>
              <a:t>三、怎样孝敬父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cc"/>
                </a:solidFill>
                <a:latin typeface="Times New Roman"/>
                <a:ea typeface="华文新魏"/>
              </a:rPr>
              <a:t>     </a:t>
            </a:r>
            <a:r>
              <a:rPr b="1" lang="zh-CN" sz="2800" spc="-1" strike="noStrike">
                <a:solidFill>
                  <a:srgbClr val="0066cc"/>
                </a:solidFill>
                <a:latin typeface="Times New Roman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0066cc"/>
                </a:solidFill>
                <a:latin typeface="Times New Roman"/>
                <a:ea typeface="华文新魏"/>
              </a:rPr>
              <a:t>、听从父母教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cc"/>
                </a:solidFill>
                <a:latin typeface="Times New Roman"/>
                <a:ea typeface="华文新魏"/>
              </a:rPr>
              <a:t>     </a:t>
            </a:r>
            <a:r>
              <a:rPr b="1" lang="zh-CN" sz="2800" spc="-1" strike="noStrike">
                <a:solidFill>
                  <a:srgbClr val="0066cc"/>
                </a:solidFill>
                <a:latin typeface="Times New Roman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66cc"/>
                </a:solidFill>
                <a:latin typeface="Times New Roman"/>
                <a:ea typeface="华文新魏"/>
              </a:rPr>
              <a:t>、关心体贴父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cc"/>
                </a:solidFill>
                <a:latin typeface="Times New Roman"/>
                <a:ea typeface="华文新魏"/>
              </a:rPr>
              <a:t>     </a:t>
            </a:r>
            <a:r>
              <a:rPr b="1" lang="zh-CN" sz="2800" spc="-1" strike="noStrike">
                <a:solidFill>
                  <a:srgbClr val="0066cc"/>
                </a:solidFill>
                <a:latin typeface="Times New Roman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66cc"/>
                </a:solidFill>
                <a:latin typeface="Times New Roman"/>
                <a:ea typeface="华文新魏"/>
              </a:rPr>
              <a:t>、尊重父母意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cc"/>
                </a:solidFill>
                <a:latin typeface="Times New Roman"/>
                <a:ea typeface="华文新魏"/>
              </a:rPr>
              <a:t>     </a:t>
            </a:r>
            <a:r>
              <a:rPr b="1" lang="zh-CN" sz="2800" spc="-1" strike="noStrike">
                <a:solidFill>
                  <a:srgbClr val="0066cc"/>
                </a:solidFill>
                <a:latin typeface="Times New Roman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0066cc"/>
                </a:solidFill>
                <a:latin typeface="Times New Roman"/>
                <a:ea typeface="华文新魏"/>
              </a:rPr>
              <a:t>、体谅父母困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cc"/>
                </a:solidFill>
                <a:latin typeface="Times New Roman"/>
                <a:ea typeface="华文新魏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715000" y="4191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657600" y="4800600"/>
            <a:ext cx="304920" cy="1371600"/>
          </a:xfrm>
          <a:custGeom>
            <a:avLst/>
            <a:gdLst>
              <a:gd name="textAreaLeft" fmla="*/ 0 w 304920"/>
              <a:gd name="textAreaRight" fmla="*/ 110160 w 304920"/>
              <a:gd name="textAreaTop" fmla="*/ 24840 h 1371600"/>
              <a:gd name="textAreaBottom" fmla="*/ 13467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30"/>
                  <a:pt x="10800" y="1260"/>
                </a:cubicBezTo>
                <a:lnTo>
                  <a:pt x="10800" y="9801"/>
                </a:lnTo>
                <a:cubicBezTo>
                  <a:pt x="10800" y="10431"/>
                  <a:pt x="16200" y="11061"/>
                  <a:pt x="21600" y="11061"/>
                </a:cubicBezTo>
                <a:cubicBezTo>
                  <a:pt x="16200" y="11061"/>
                  <a:pt x="10800" y="11691"/>
                  <a:pt x="10800" y="12321"/>
                </a:cubicBezTo>
                <a:lnTo>
                  <a:pt x="10800" y="20340"/>
                </a:lnTo>
                <a:cubicBezTo>
                  <a:pt x="10800" y="2097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038480" y="5029200"/>
            <a:ext cx="466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成人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表现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4648320"/>
            <a:ext cx="304920" cy="1447560"/>
          </a:xfrm>
          <a:custGeom>
            <a:avLst/>
            <a:gdLst>
              <a:gd name="textAreaLeft" fmla="*/ 194760 w 304920"/>
              <a:gd name="textAreaRight" fmla="*/ 305280 w 304920"/>
              <a:gd name="textAreaTop" fmla="*/ 23040 h 1447560"/>
              <a:gd name="textAreaBottom" fmla="*/ 1424520 h 144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57"/>
                  <a:pt x="10800" y="1113"/>
                </a:cubicBezTo>
                <a:lnTo>
                  <a:pt x="10800" y="9280"/>
                </a:lnTo>
                <a:cubicBezTo>
                  <a:pt x="10800" y="9837"/>
                  <a:pt x="5400" y="10393"/>
                  <a:pt x="0" y="10393"/>
                </a:cubicBezTo>
                <a:cubicBezTo>
                  <a:pt x="5400" y="10393"/>
                  <a:pt x="10800" y="10950"/>
                  <a:pt x="10800" y="11506"/>
                </a:cubicBezTo>
                <a:lnTo>
                  <a:pt x="10800" y="20487"/>
                </a:lnTo>
                <a:cubicBezTo>
                  <a:pt x="10800" y="21044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562720" y="4495680"/>
            <a:ext cx="3581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cc"/>
                </a:solidFill>
                <a:latin typeface="Times New Roman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0066cc"/>
                </a:solidFill>
                <a:latin typeface="Times New Roman"/>
                <a:ea typeface="华文新魏"/>
              </a:rPr>
              <a:t>、物质上的赡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cc"/>
                </a:solidFill>
                <a:latin typeface="Times New Roman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66cc"/>
                </a:solidFill>
                <a:latin typeface="Times New Roman"/>
                <a:ea typeface="华文新魏"/>
              </a:rPr>
              <a:t>、精神上的关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2332800" y="262080"/>
            <a:ext cx="4021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不孝敬父母的几种表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063600" y="1208160"/>
            <a:ext cx="76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不尊重父母或顶撞父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914360" y="1849320"/>
            <a:ext cx="4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在花钱、衣物选择、择友标准等方面意见不同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342520" y="2565360"/>
            <a:ext cx="75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、提出过分要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47920" y="3373560"/>
            <a:ext cx="420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在同学中存在互相攀比现象，不知道父母的钱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何辛苦得来的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75520" y="4091040"/>
            <a:ext cx="76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对父母无原则的百依百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108880" y="5734080"/>
            <a:ext cx="402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父母不正确的言行应善意指出，假如百依百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就失去了独立思考，独立生活的能力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>
            <a:hlinkClick r:id="rId2" action="ppaction://hlinksldjump"/>
          </p:cNvPr>
          <p:cNvSpPr/>
          <p:nvPr/>
        </p:nvSpPr>
        <p:spPr>
          <a:xfrm>
            <a:off x="845820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22937" y="10800"/>
                </a:moveTo>
                <a:lnTo>
                  <a:pt x="12431" y="17806"/>
                </a:lnTo>
                <a:lnTo>
                  <a:pt x="12431" y="3794"/>
                </a:lnTo>
                <a:close/>
              </a:path>
              <a:path fill="darken" w="38876" h="21600">
                <a:moveTo>
                  <a:pt x="24782" y="3794"/>
                </a:moveTo>
                <a:lnTo>
                  <a:pt x="24782" y="17806"/>
                </a:lnTo>
                <a:lnTo>
                  <a:pt x="26444" y="17806"/>
                </a:lnTo>
                <a:lnTo>
                  <a:pt x="26444" y="3794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7956720" y="580536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back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fade thruBlk="true"/>
    <p:sndAc>
      <p:stSnd>
        <p:snd r:embed="rId3" name="chimes.wav"/>
      </p:stSnd>
    </p:sndAc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4419720" y="1066680"/>
            <a:ext cx="4724280" cy="57913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6400800" y="2819520"/>
            <a:ext cx="1371600" cy="304560"/>
          </a:xfrm>
          <a:prstGeom prst="ellipse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724280" y="2362320"/>
            <a:ext cx="1905120" cy="533160"/>
          </a:xfrm>
          <a:prstGeom prst="ellipse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0880" y="533520"/>
            <a:ext cx="4419720" cy="2590560"/>
          </a:xfrm>
          <a:prstGeom prst="ellipse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99"/>
                </a:solidFill>
                <a:latin typeface="Times New Roman"/>
                <a:ea typeface="华文新魏"/>
              </a:rPr>
              <a:t>小丽那件</a:t>
            </a:r>
            <a:r>
              <a:rPr b="0" lang="zh-CN" sz="3200" spc="-1" strike="noStrike">
                <a:solidFill>
                  <a:srgbClr val="ff6699"/>
                </a:solidFill>
                <a:latin typeface="Times New Roman"/>
                <a:ea typeface="华文新魏"/>
              </a:rPr>
              <a:t>720</a:t>
            </a:r>
            <a:r>
              <a:rPr b="0" lang="zh-CN" sz="3200" spc="-1" strike="noStrike">
                <a:solidFill>
                  <a:srgbClr val="ff6699"/>
                </a:solidFill>
                <a:latin typeface="Times New Roman"/>
                <a:ea typeface="华文新魏"/>
              </a:rPr>
              <a:t>元</a:t>
            </a:r>
            <a:r>
              <a:rPr b="0" lang="zh-CN" sz="3200" spc="-1" strike="noStrike">
                <a:solidFill>
                  <a:srgbClr val="ff6699"/>
                </a:solidFill>
                <a:latin typeface="Times New Roman"/>
                <a:ea typeface="华文新魏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99"/>
                </a:solidFill>
                <a:latin typeface="Times New Roman"/>
                <a:ea typeface="华文新魏"/>
              </a:rPr>
              <a:t>我就要买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99"/>
                </a:solidFill>
                <a:latin typeface="Times New Roman"/>
                <a:ea typeface="华文新魏"/>
              </a:rPr>
              <a:t>比她好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80988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2627280" y="640080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back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fade thruBlk="true"/>
    <p:sndAc>
      <p:stSnd>
        <p:snd r:embed="rId3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2548080" y="47772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Times New Roman"/>
                <a:ea typeface="华文新魏"/>
              </a:rPr>
              <a:t>为什么要孝敬父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38080" y="137160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、父母对子女有养育之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838080" y="236232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cc"/>
                </a:solidFill>
                <a:latin typeface="Times New Roman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366cc"/>
                </a:solidFill>
                <a:latin typeface="Times New Roman"/>
                <a:ea typeface="华文新魏"/>
              </a:rPr>
              <a:t>、父母是人生道路上的第一任老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974880" y="3406680"/>
            <a:ext cx="588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38080" y="3352680"/>
            <a:ext cx="7696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、父母是社会主义劳动者  ，他们为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会作了贡献。</a:t>
            </a:r>
            <a:r>
              <a:rPr b="1" lang="zh-CN" sz="3200" spc="-1" strike="noStrike">
                <a:solidFill>
                  <a:srgbClr val="cccc00"/>
                </a:solidFill>
                <a:latin typeface="Times New Roman"/>
                <a:ea typeface="华文新魏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838080" y="5105520"/>
            <a:ext cx="59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cc"/>
                </a:solidFill>
                <a:latin typeface="Times New Roman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3366cc"/>
                </a:solidFill>
                <a:latin typeface="Times New Roman"/>
                <a:ea typeface="华文新魏"/>
              </a:rPr>
              <a:t>、拒绝赡养是一种违法行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019920" y="160020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324480" y="533412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012000" y="602136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back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fade thruBlk="true"/>
    <p:sndAc>
      <p:stSnd>
        <p:snd r:embed="rId2" name="chimes.wav"/>
      </p:stSnd>
    </p:sndAc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457200" y="228600"/>
            <a:ext cx="3990960" cy="373392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5029200" y="228600"/>
            <a:ext cx="3581280" cy="373392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845820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7493"/>
                </a:moveTo>
                <a:lnTo>
                  <a:pt x="15939" y="7493"/>
                </a:lnTo>
                <a:lnTo>
                  <a:pt x="15939" y="12828"/>
                </a:lnTo>
                <a:cubicBezTo>
                  <a:pt x="15939" y="13751"/>
                  <a:pt x="16740" y="14482"/>
                  <a:pt x="17776" y="14482"/>
                </a:cubicBezTo>
                <a:lnTo>
                  <a:pt x="19438" y="14482"/>
                </a:lnTo>
                <a:cubicBezTo>
                  <a:pt x="20474" y="14482"/>
                  <a:pt x="21274" y="13751"/>
                  <a:pt x="21274" y="12828"/>
                </a:cubicBezTo>
                <a:lnTo>
                  <a:pt x="21274" y="7493"/>
                </a:lnTo>
                <a:lnTo>
                  <a:pt x="19438" y="7493"/>
                </a:lnTo>
                <a:lnTo>
                  <a:pt x="22946" y="3985"/>
                </a:lnTo>
                <a:lnTo>
                  <a:pt x="26619" y="7493"/>
                </a:lnTo>
                <a:lnTo>
                  <a:pt x="24782" y="7493"/>
                </a:lnTo>
                <a:lnTo>
                  <a:pt x="24782" y="12828"/>
                </a:lnTo>
                <a:cubicBezTo>
                  <a:pt x="24782" y="15596"/>
                  <a:pt x="22206" y="18155"/>
                  <a:pt x="19438" y="18155"/>
                </a:cubicBezTo>
                <a:lnTo>
                  <a:pt x="17776" y="18155"/>
                </a:lnTo>
                <a:cubicBezTo>
                  <a:pt x="15008" y="18155"/>
                  <a:pt x="12431" y="15596"/>
                  <a:pt x="12431" y="12828"/>
                </a:cubicBezTo>
                <a:close/>
              </a:path>
            </a:pathLst>
          </a:custGeom>
          <a:solidFill>
            <a:srgbClr val="b887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-2912040" y="4114800"/>
            <a:ext cx="1127484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游子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慈母手中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游子身上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临行密密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意恐迟迟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谁言寸草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报得三春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8229600" y="400536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back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fade thruBlk="true"/>
    <p:sndAc>
      <p:stSnd>
        <p:snd r:embed="rId4" name="chimes.wav"/>
      </p:stSnd>
    </p:sndAc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4114800" y="228600"/>
            <a:ext cx="4572000" cy="63244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228600" y="457200"/>
            <a:ext cx="388620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黑体"/>
                <a:ea typeface="黑体"/>
              </a:rPr>
              <a:t>岂可这样对待老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808080"/>
                </a:solidFill>
                <a:latin typeface="黑体"/>
                <a:ea typeface="黑体"/>
              </a:rPr>
              <a:t>她已</a:t>
            </a:r>
            <a:r>
              <a:rPr b="1" lang="zh-CN" sz="3200" spc="-1" strike="noStrike">
                <a:solidFill>
                  <a:srgbClr val="808080"/>
                </a:solidFill>
                <a:latin typeface="黑体"/>
                <a:ea typeface="黑体"/>
              </a:rPr>
              <a:t>91</a:t>
            </a:r>
            <a:r>
              <a:rPr b="1" lang="zh-CN" sz="3200" spc="-1" strike="noStrike">
                <a:solidFill>
                  <a:srgbClr val="808080"/>
                </a:solidFill>
                <a:latin typeface="黑体"/>
                <a:ea typeface="黑体"/>
              </a:rPr>
              <a:t>岁高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9933ff"/>
                </a:solidFill>
                <a:latin typeface="华文新魏"/>
                <a:ea typeface="华文新魏"/>
              </a:rPr>
              <a:t>家住杭州的朱老太                  已</a:t>
            </a:r>
            <a:r>
              <a:rPr b="1" lang="zh-CN" sz="2800" spc="-1" strike="noStrike">
                <a:solidFill>
                  <a:srgbClr val="9933ff"/>
                </a:solidFill>
                <a:latin typeface="华文新魏"/>
                <a:ea typeface="华文新魏"/>
              </a:rPr>
              <a:t>91</a:t>
            </a:r>
            <a:r>
              <a:rPr b="1" lang="zh-CN" sz="2800" spc="-1" strike="noStrike">
                <a:solidFill>
                  <a:srgbClr val="9933ff"/>
                </a:solidFill>
                <a:latin typeface="华文新魏"/>
                <a:ea typeface="华文新魏"/>
              </a:rPr>
              <a:t>岁高龄，育有三女一男。可儿女们谁也不肯多承担赡养义务，最后在舆论的谴责和法律的监督下，合资将老人送到老人公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8229600" y="616572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back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fade thruBlk="true"/>
    <p:sndAc>
      <p:stSnd>
        <p:snd r:embed="rId3" name="chimes.wav"/>
      </p:stSnd>
    </p:sndAc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209680" y="304920"/>
            <a:ext cx="4724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cc"/>
                </a:solidFill>
                <a:latin typeface="Times New Roman"/>
                <a:ea typeface="华文新魏"/>
              </a:rPr>
              <a:t>怎样孝敬父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914400" y="68580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cc"/>
                </a:solidFill>
                <a:latin typeface="Times New Roman"/>
                <a:ea typeface="华文新魏"/>
              </a:rPr>
              <a:t>一、尊敬和爱戴父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295280" y="1371600"/>
            <a:ext cx="4638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、要听从父母的正确教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295280" y="1905120"/>
            <a:ext cx="392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、要关心和体贴父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295280" y="2438280"/>
            <a:ext cx="358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、要尊重父母意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295280" y="2971800"/>
            <a:ext cx="4191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、要体谅父母的困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838080" y="3505320"/>
            <a:ext cx="523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cc"/>
                </a:solidFill>
                <a:latin typeface="Times New Roman"/>
                <a:ea typeface="华文新魏"/>
              </a:rPr>
              <a:t>二、承担赡养父母的责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432080" y="4267080"/>
            <a:ext cx="2850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、物质上的赡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447920" y="48006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、精神上的关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6732720" y="544500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back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fade thruBlk="true"/>
    <p:sndAc>
      <p:stSnd>
        <p:snd r:embed="rId2" name="chimes.wav"/>
      </p:stSnd>
    </p:sndAc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6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1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0" y="1143000"/>
            <a:ext cx="5410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孝道”是我中华民族传统文化之精髓。此《二十四孝图》乃陈少梅先生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4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岁时盛年之杰作，其题材不多见，笔墨工雅，设色清丽，非同寻常，故堪称国之重宝。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16:23:10Z</dcterms:created>
  <dc:creator>主题班会课件(分28大类): http://shop62905894.taobao.com</dc:creator>
  <dc:description/>
  <cp:keywords>主题班会课件(分28大类): http://shop62905894.taobao.com</cp:keywords>
  <dc:language>en-US</dc:language>
  <cp:lastModifiedBy>User</cp:lastModifiedBy>
  <dcterms:modified xsi:type="dcterms:W3CDTF">2013-04-13T17:48:12Z</dcterms:modified>
  <cp:revision>36</cp:revision>
  <dc:subject>主题班会课件(分28大类): http://shop62905894.taobao.com</dc:subject>
  <dc:title>主题班会课件(分28大类): http://shop62905894.taobao.com</dc:title>
</cp:coreProperties>
</file>