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7.jpeg" ContentType="image/jpeg"/>
  <Override PartName="/ppt/media/image10.gif" ContentType="image/gif"/>
  <Override PartName="/ppt/media/projctor.wav" ContentType="audio/x-wav"/>
  <Override PartName="/ppt/media/image13.wmf" ContentType="image/x-wmf"/>
  <Override PartName="/ppt/media/image14.png" ContentType="image/png"/>
  <Override PartName="/ppt/media/image11.gif" ContentType="image/gif"/>
  <Override PartName="/ppt/media/image5.jpeg" ContentType="image/jpeg"/>
  <Override PartName="/ppt/media/image1.png" ContentType="image/png"/>
  <Override PartName="/ppt/media/image3.jpeg" ContentType="image/jpeg"/>
  <Override PartName="/ppt/media/image12.gif" ContentType="image/gif"/>
  <Override PartName="/ppt/media/image9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73B-0A26-4DFC-9DD5-DF63DFE4E3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说了很多，但关键在于去做。我们懂得回报，更要用自己的实际行去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924-D2DD-4834-A330-9866AB86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8D6-C418-40DF-85CF-DD87306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B7F-8323-46FD-9F18-85E5E54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710-8D8E-4B26-B4D2-3420C563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11B-345F-4240-A02B-FF3F8F4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570-4088-45F7-945A-6FB1786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50A-7177-4179-8304-70B26A8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415-2D9A-40EC-9E25-090196C6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A1D-0AD9-4D6B-8CF4-5F408368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6C1-DCC4-40CD-94DB-EC8D39F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B34-4C14-4498-8C01-17E5DF3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303-70D6-4116-82C2-6120FF7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AE9-088D-423D-8876-86EA10CB85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2032;&#26448;/&#22825;&#19979;&#29238;&#27597;&#24515;2.sw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47840" y="4010040"/>
            <a:ext cx="47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581360"/>
            <a:ext cx="81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石门实验中学初一（２０）主题班会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66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41148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孔子是我国古代最著名的教育家，是一个非常孝顺的人。他小时候经常帮助妈妈做事，每晚都替妈妈捶背，母亲希望他成为有学问的人，他就勤奋读书，最后终于成为了伟大思想家和教育家。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刘胡兰小时候非常孝顺母亲，她５岁的时候，妈妈得了痨病，刘胡兰总是围在妈妈身边擦汗，端水喂药，有时还使劲扶起妈妈，让妈妈倚着自己瘦小的身上把药吃下，再擦擦嘴角，这才欣慰地走开，哄妹妹去玩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22766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总司令对母亲非常敬爱，在他的《母亲的回忆》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第四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47640" y="2276640"/>
            <a:ext cx="5545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真情回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4648320"/>
            <a:ext cx="71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把父母为你做的事和你为父母做的事例举出来，作为砝码放在天平的两端，看看你的天平是否倾斜得太厉害？如果是，你得加重砝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53352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爱的天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9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39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43640" y="476280"/>
            <a:ext cx="18572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484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、刚换了新环境，你有些不适应，时间过得真快，一转眼，期中考试到了，你考得很不好。这时，你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5922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6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526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、出门上学时，爸爸、妈妈每次都要叮咛一句“路上小心，注意安全，早点回来。”你想：天天这句话，我耳朵都快磨出茧子了，烦不烦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365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、你要过生日了，他对爸爸、妈妈提了两个要求。一是买双名牌鞋，二是请几个好朋友晚上来家里一起与他过生日，爸妈给做一桌生日饭菜。爸妈经商量只答应了第二条，并要求时间不能超过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8:3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隶书"/>
              </a:rPr>
              <a:t>。你很扫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623736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7301"/>
                </a:moveTo>
                <a:lnTo>
                  <a:pt x="26173" y="7301"/>
                </a:lnTo>
                <a:lnTo>
                  <a:pt x="26556" y="7667"/>
                </a:lnTo>
                <a:lnTo>
                  <a:pt x="35765" y="7667"/>
                </a:lnTo>
                <a:lnTo>
                  <a:pt x="36322" y="8224"/>
                </a:lnTo>
                <a:lnTo>
                  <a:pt x="36322" y="8772"/>
                </a:lnTo>
                <a:lnTo>
                  <a:pt x="38167" y="8772"/>
                </a:lnTo>
                <a:lnTo>
                  <a:pt x="38532" y="8224"/>
                </a:lnTo>
                <a:lnTo>
                  <a:pt x="39272" y="8224"/>
                </a:lnTo>
                <a:lnTo>
                  <a:pt x="39272" y="13376"/>
                </a:lnTo>
                <a:lnTo>
                  <a:pt x="38532" y="13376"/>
                </a:lnTo>
                <a:lnTo>
                  <a:pt x="38167" y="12828"/>
                </a:lnTo>
                <a:lnTo>
                  <a:pt x="36322" y="12828"/>
                </a:lnTo>
                <a:lnTo>
                  <a:pt x="36322" y="14107"/>
                </a:lnTo>
                <a:lnTo>
                  <a:pt x="26739" y="14107"/>
                </a:lnTo>
                <a:lnTo>
                  <a:pt x="26739" y="9877"/>
                </a:lnTo>
                <a:lnTo>
                  <a:pt x="26556" y="9877"/>
                </a:lnTo>
                <a:lnTo>
                  <a:pt x="26173" y="10243"/>
                </a:lnTo>
                <a:lnTo>
                  <a:pt x="2525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下面的情境中，你该怎么做？不该怎么做？讲讲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59236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同学们谈谈自己在孝敬父母方面能做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小组列四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3336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实话实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677160" y="-3566160"/>
            <a:ext cx="53316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5589720"/>
            <a:ext cx="417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36134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63440"/>
            <a:ext cx="65530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了解自己的父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的生日分别在什么时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什么事最让父母开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什么事最让父母动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父母从事的工作中，什么时候是最辛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在单位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大的压力是什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最突出的优点、缺点分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最爱吃什么？不愿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爱看哪一类电视节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的健康状况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父母对你寄予什么希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0"/>
            <a:ext cx="689004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实话实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你平时是怎样孝敬父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如：  父母生病时——————————     父母遇到烦恼的事情时————————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父母劳累一天回到家的时候——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父母外出遇到大雨时—————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父母在有些问题的看法上出现错误时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父母为你做了一顿丰盛的晚餐时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父母辅导你做作业时—————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面对父母的批评教育时———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336600"/>
                </a:solidFill>
                <a:latin typeface="Times New Roman"/>
              </a:rPr>
              <a:t>其他———————————————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22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25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28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31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34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37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40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60360" y="2709720"/>
            <a:ext cx="8664480" cy="1439640"/>
            <a:chOff x="360360" y="2709720"/>
            <a:chExt cx="8664480" cy="1439640"/>
          </a:xfrm>
        </p:grpSpPr>
        <p:sp>
          <p:nvSpPr>
            <p:cNvPr id="143" name=""/>
            <p:cNvSpPr/>
            <p:nvPr/>
          </p:nvSpPr>
          <p:spPr>
            <a:xfrm>
              <a:off x="360360" y="2709720"/>
              <a:ext cx="86644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0360" y="2709720"/>
              <a:ext cx="85946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296640" cy="30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297000" cy="30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96640" cy="30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297000" cy="307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55640" y="3860640"/>
            <a:ext cx="297000" cy="308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11280" y="3429000"/>
            <a:ext cx="296640" cy="30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39640" y="3068640"/>
            <a:ext cx="297000" cy="307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11280" y="2708280"/>
            <a:ext cx="296640" cy="307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539640" y="2276640"/>
            <a:ext cx="297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08880" y="620640"/>
            <a:ext cx="4330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看谁能做到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给父母洗一次脚！帮父母做一次饭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帮父母捶捶背，洗洗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用自己攒的零用钱为父母买一件喜欢的礼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走进父母的心灵，倾听父母的心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0360" y="1303200"/>
            <a:ext cx="8664480" cy="4251240"/>
            <a:chOff x="360360" y="1303200"/>
            <a:chExt cx="8664480" cy="4251240"/>
          </a:xfrm>
        </p:grpSpPr>
        <p:sp>
          <p:nvSpPr>
            <p:cNvPr id="157" name=""/>
            <p:cNvSpPr/>
            <p:nvPr/>
          </p:nvSpPr>
          <p:spPr>
            <a:xfrm>
              <a:off x="360360" y="1303200"/>
              <a:ext cx="8664480" cy="42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1303200"/>
              <a:ext cx="86076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1143000" cy="971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60360" y="1303200"/>
            <a:ext cx="8664480" cy="4251240"/>
            <a:chOff x="360360" y="1303200"/>
            <a:chExt cx="8664480" cy="4251240"/>
          </a:xfrm>
        </p:grpSpPr>
        <p:sp>
          <p:nvSpPr>
            <p:cNvPr id="161" name=""/>
            <p:cNvSpPr/>
            <p:nvPr/>
          </p:nvSpPr>
          <p:spPr>
            <a:xfrm>
              <a:off x="360360" y="1303200"/>
              <a:ext cx="8664480" cy="42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360" y="1303200"/>
              <a:ext cx="86076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990720" y="350532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60360" y="1303200"/>
            <a:ext cx="8664480" cy="4251240"/>
            <a:chOff x="360360" y="1303200"/>
            <a:chExt cx="8664480" cy="4251240"/>
          </a:xfrm>
        </p:grpSpPr>
        <p:sp>
          <p:nvSpPr>
            <p:cNvPr id="165" name=""/>
            <p:cNvSpPr/>
            <p:nvPr/>
          </p:nvSpPr>
          <p:spPr>
            <a:xfrm>
              <a:off x="360360" y="1303200"/>
              <a:ext cx="8664480" cy="42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360" y="1303200"/>
              <a:ext cx="86076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8380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60360" y="1303200"/>
            <a:ext cx="8664480" cy="4251240"/>
            <a:chOff x="360360" y="1303200"/>
            <a:chExt cx="8664480" cy="4251240"/>
          </a:xfrm>
        </p:grpSpPr>
        <p:sp>
          <p:nvSpPr>
            <p:cNvPr id="169" name=""/>
            <p:cNvSpPr/>
            <p:nvPr/>
          </p:nvSpPr>
          <p:spPr>
            <a:xfrm>
              <a:off x="360360" y="1303200"/>
              <a:ext cx="8664480" cy="42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360" y="1303200"/>
              <a:ext cx="86076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066680" y="1905120"/>
            <a:ext cx="762120" cy="688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403848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640" y="2276640"/>
            <a:ext cx="5545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受父母之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64280" y="4781520"/>
            <a:ext cx="2079720" cy="2076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332000" y="333360"/>
            <a:ext cx="70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母是最伟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3623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362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赋予我们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关爱我们健康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2362320"/>
            <a:ext cx="381240" cy="2133360"/>
          </a:xfrm>
          <a:custGeom>
            <a:avLst/>
            <a:gdLst>
              <a:gd name="textAreaLeft" fmla="*/ 0 w 381240"/>
              <a:gd name="textAreaRight" fmla="*/ 137520 w 3812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3352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124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答养育之恩、孝敬父母是我们的职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5661000"/>
            <a:ext cx="630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0"/>
            <a:ext cx="6048360" cy="71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1003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3300"/>
                </a:solidFill>
                <a:latin typeface="Arial"/>
              </a:rPr>
              <a:t>结束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56000" y="2708280"/>
            <a:ext cx="475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母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58920" y="1268280"/>
            <a:ext cx="561816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光临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76360" y="501336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课件制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石门实验中学  胡德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请听一个真实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Arial"/>
                <a:ea typeface="华文新魏"/>
              </a:rPr>
              <a:t>从狼嘴里换来的</a:t>
            </a: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1"/>
              </a:rPr>
              <a:t>母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请听另一个真实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Arial"/>
                <a:ea typeface="华文新魏"/>
              </a:rPr>
              <a:t>鲜血换来女儿的生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850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76440"/>
            <a:ext cx="9144000" cy="4286160"/>
            <a:chOff x="0" y="676440"/>
            <a:chExt cx="9144000" cy="4286160"/>
          </a:xfrm>
        </p:grpSpPr>
        <p:sp>
          <p:nvSpPr>
            <p:cNvPr id="64" name=""/>
            <p:cNvSpPr/>
            <p:nvPr/>
          </p:nvSpPr>
          <p:spPr>
            <a:xfrm>
              <a:off x="0" y="676440"/>
              <a:ext cx="91440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6764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724280" y="295200"/>
            <a:ext cx="40528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0"/>
            <a:ext cx="525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罗中立油画《父亲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76440"/>
            <a:ext cx="9144000" cy="4286160"/>
            <a:chOff x="0" y="676440"/>
            <a:chExt cx="9144000" cy="4286160"/>
          </a:xfrm>
        </p:grpSpPr>
        <p:sp>
          <p:nvSpPr>
            <p:cNvPr id="71" name=""/>
            <p:cNvSpPr/>
            <p:nvPr/>
          </p:nvSpPr>
          <p:spPr>
            <a:xfrm>
              <a:off x="0" y="676440"/>
              <a:ext cx="91440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764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343400" y="457200"/>
            <a:ext cx="4433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古铜色的老脸，艰辛岁月耕耘出的那一条条车辙似的皱纹；犁耙似的手，曾创造了多少大米、白面？那缺了牙的嘴，又扒进多少粗粮糠菜？他身后是经过辛勤劳动换来的一片金色的丰收景象，他的手中端着的却是一个破旧的茶碗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   画家以深沉的感情，用巨幅画的形式，借超写实主义手法，刻画出一个勤劳、朴实、善良、贫穷的老农的形象。他咄咄逼人，发人深省。多少人曾在他面前黯然神伤。因为这位老农的形象已经远远超出了生活原型，他所代表的是中华民族千千万万的农民。正是他们辛勤的劳动，才养育出世世代代的中华儿女，他是我们精神上的父亲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3766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听我们身边母亲的心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1916280"/>
            <a:ext cx="7632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妈妈这样对我们说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6334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47640" y="2276640"/>
            <a:ext cx="5545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话说父母之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彩云"/>
                <a:ea typeface="华文彩云"/>
              </a:rPr>
              <a:t>谈一谈</a:t>
            </a:r>
            <a:r>
              <a:rPr b="0" lang="zh-CN" sz="4400" spc="-1" strike="noStrike">
                <a:solidFill>
                  <a:srgbClr val="ff0066"/>
                </a:solidFill>
                <a:latin typeface="华文彩云"/>
                <a:ea typeface="华文彩云"/>
              </a:rPr>
              <a:t>:</a:t>
            </a:r>
            <a:r>
              <a:rPr b="0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父母在生活中令我们无比感动的事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1708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8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6134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第三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47640" y="2276640"/>
            <a:ext cx="5545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永恒的典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1:50:0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5:45Z</dcterms:modified>
  <cp:revision>17</cp:revision>
  <dc:subject>主题班会课件(分28大类): http://shop62905894.taobao.com</dc:subject>
  <dc:title>主题班会课件(分28大类): http://shop62905894.taobao.com</dc:title>
</cp:coreProperties>
</file>