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5.jpeg" ContentType="image/jpeg"/>
  <Override PartName="/ppt/media/image13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chimes.wav" ContentType="audio/x-wav"/>
  <Override PartName="/ppt/media/image16.jpeg" ContentType="image/jpeg"/>
  <Override PartName="/ppt/media/image14.jpeg" ContentType="image/jpeg"/>
  <Override PartName="/ppt/media/image5.gif" ContentType="image/gif"/>
  <Override PartName="/ppt/media/image3.gif" ContentType="image/gif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8EC-DA0D-4DE5-A416-9AA273DB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1C1-40BF-4E55-9C61-201C1255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0ECE-56FD-479B-93E5-BA46CEF5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DCA-B718-49DA-B0A0-AC20F9FD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08E-67DA-4245-BA6B-3868BE01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A346-B27F-407A-BAE5-38511AFF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683-3DA9-400F-AFE9-361A8FBF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353-F299-4F40-BFA5-CD380B54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618-D882-4155-8A5D-9483985A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C09C-ABB2-4B5B-A387-89E367D8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B77-C883-4C9D-B825-387680F0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7C5-6C18-4C32-B312-8173F054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B95F-9310-4311-BBDB-1197CC407A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73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619280" y="2421000"/>
            <a:ext cx="4824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妈妈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想对你说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.....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73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16120" y="142884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幼圆"/>
              </a:rPr>
              <a:t>不要忘了哦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332000" y="2349360"/>
            <a:ext cx="820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8000"/>
                </a:solidFill>
                <a:latin typeface="幼圆"/>
                <a:ea typeface="幼圆"/>
              </a:rPr>
              <a:t>爸爸的生日————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幼圆"/>
                <a:ea typeface="幼圆"/>
              </a:rPr>
              <a:t>           </a:t>
            </a:r>
            <a:r>
              <a:rPr b="1" lang="zh-CN" sz="2800" spc="-1" strike="noStrike">
                <a:solidFill>
                  <a:srgbClr val="008000"/>
                </a:solidFill>
                <a:latin typeface="幼圆"/>
                <a:ea typeface="幼圆"/>
              </a:rPr>
              <a:t>爸爸最喜欢吃的食品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幼圆"/>
                <a:ea typeface="幼圆"/>
              </a:rPr>
              <a:t>           </a:t>
            </a:r>
            <a:r>
              <a:rPr b="1" lang="zh-CN" sz="2800" spc="-1" strike="noStrike">
                <a:solidFill>
                  <a:srgbClr val="008000"/>
                </a:solidFill>
                <a:latin typeface="幼圆"/>
                <a:ea typeface="幼圆"/>
              </a:rPr>
              <a:t>妈妈的生日————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幼圆"/>
                <a:ea typeface="幼圆"/>
              </a:rPr>
              <a:t>           </a:t>
            </a:r>
            <a:r>
              <a:rPr b="1" lang="zh-CN" sz="2800" spc="-1" strike="noStrike">
                <a:solidFill>
                  <a:srgbClr val="008000"/>
                </a:solidFill>
                <a:latin typeface="幼圆"/>
                <a:ea typeface="幼圆"/>
              </a:rPr>
              <a:t>妈妈最喜欢看的电视节目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幼圆"/>
                <a:ea typeface="幼圆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幼圆"/>
                <a:ea typeface="幼圆"/>
              </a:rPr>
              <a:t>           </a:t>
            </a:r>
            <a:r>
              <a:rPr b="1" lang="zh-CN" sz="2800" spc="-1" strike="noStrike">
                <a:solidFill>
                  <a:srgbClr val="008000"/>
                </a:solidFill>
                <a:latin typeface="幼圆"/>
                <a:ea typeface="幼圆"/>
              </a:rPr>
              <a:t>父亲节——————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幼圆"/>
                <a:ea typeface="幼圆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幼圆"/>
                <a:ea typeface="幼圆"/>
              </a:rPr>
              <a:t>           </a:t>
            </a:r>
            <a:r>
              <a:rPr b="1" lang="zh-CN" sz="2800" spc="-1" strike="noStrike">
                <a:solidFill>
                  <a:srgbClr val="008000"/>
                </a:solidFill>
                <a:latin typeface="幼圆"/>
                <a:ea typeface="幼圆"/>
              </a:rPr>
              <a:t>母亲节——————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4292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月的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星期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501336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月的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星期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73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40464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99"/>
                </a:solidFill>
                <a:uFillTx/>
                <a:latin typeface="Times New Roman"/>
                <a:ea typeface="隶书"/>
              </a:rPr>
              <a:t>心灵导航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2421000"/>
            <a:ext cx="583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1341360"/>
            <a:ext cx="6337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父母的养育之恩，我们唯有以爱和孝敬来报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用心领会父母的教诲与期待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诚心体谅父母的忧虑和烦恼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真心关注父母的健康和心情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以同样的行动去孝敬爷爷奶奶，外公外婆及其他长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119160"/>
            <a:ext cx="8748720" cy="6497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1268280"/>
            <a:ext cx="54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家的实践作业（选择自己能做得到的去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2205000"/>
            <a:ext cx="6553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帮父母做一次饭。洗洗碗。扫扫地！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帮父母捶捶背，陪父母上街买菜，买东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用自己攒的零用钱为父母买一件喜欢的礼物！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走进父母的心灵，倾听父母的心声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其他我可以做的事………还有很多很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73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58920" y="1197000"/>
            <a:ext cx="73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百善孝为先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</a:t>
            </a:r>
            <a:r>
              <a:rPr b="1" i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老吾老，以及人之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“</a:t>
            </a:r>
            <a:r>
              <a:rPr b="1" i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乌鸦及哺，羔羊跪乳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                                      “</a:t>
            </a:r>
            <a:r>
              <a:rPr b="1" i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不忘父母养育恩，砥犊反哺总关情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00240" y="439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青春寄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5300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周六回家，大胆地向爸爸妈妈说：我爱您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2384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24080" y="-380880"/>
            <a:ext cx="5867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慈母手中线，游子身上衣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.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临行密密缝，意恐迟迟归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.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谁言寸草心，报得三春晖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505320" y="0"/>
            <a:ext cx="5257080" cy="2187000"/>
            <a:chOff x="3505320" y="0"/>
            <a:chExt cx="5257080" cy="2187000"/>
          </a:xfrm>
        </p:grpSpPr>
        <p:grpSp>
          <p:nvGrpSpPr>
            <p:cNvPr id="47" name=""/>
            <p:cNvGrpSpPr/>
            <p:nvPr/>
          </p:nvGrpSpPr>
          <p:grpSpPr>
            <a:xfrm>
              <a:off x="3641400" y="0"/>
              <a:ext cx="5121000" cy="1787400"/>
              <a:chOff x="3641400" y="0"/>
              <a:chExt cx="5121000" cy="1787400"/>
            </a:xfrm>
          </p:grpSpPr>
          <p:sp>
            <p:nvSpPr>
              <p:cNvPr id="48" name=""/>
              <p:cNvSpPr/>
              <p:nvPr/>
            </p:nvSpPr>
            <p:spPr>
              <a:xfrm>
                <a:off x="3641400" y="0"/>
                <a:ext cx="5121000" cy="11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游子吟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—孟郊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41400" y="961920"/>
                <a:ext cx="5121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3505320" y="1361520"/>
              <a:ext cx="27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0360" y="2629080"/>
            <a:ext cx="8664480" cy="1485720"/>
            <a:chOff x="360360" y="2629080"/>
            <a:chExt cx="8664480" cy="1485720"/>
          </a:xfrm>
        </p:grpSpPr>
        <p:sp>
          <p:nvSpPr>
            <p:cNvPr id="52" name=""/>
            <p:cNvSpPr/>
            <p:nvPr/>
          </p:nvSpPr>
          <p:spPr>
            <a:xfrm>
              <a:off x="360360" y="2629080"/>
              <a:ext cx="8664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0360" y="2629080"/>
              <a:ext cx="8572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60360" y="2685960"/>
            <a:ext cx="8664480" cy="1485720"/>
            <a:chOff x="360360" y="2685960"/>
            <a:chExt cx="8664480" cy="1485720"/>
          </a:xfrm>
        </p:grpSpPr>
        <p:sp>
          <p:nvSpPr>
            <p:cNvPr id="55" name=""/>
            <p:cNvSpPr/>
            <p:nvPr/>
          </p:nvSpPr>
          <p:spPr>
            <a:xfrm>
              <a:off x="360360" y="2685960"/>
              <a:ext cx="8664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0360" y="2685960"/>
              <a:ext cx="8572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0670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0" y="-380880"/>
            <a:ext cx="8664480" cy="7623000"/>
            <a:chOff x="0" y="-380880"/>
            <a:chExt cx="8664480" cy="7623000"/>
          </a:xfrm>
        </p:grpSpPr>
        <p:sp>
          <p:nvSpPr>
            <p:cNvPr id="59" name=""/>
            <p:cNvSpPr/>
            <p:nvPr/>
          </p:nvSpPr>
          <p:spPr>
            <a:xfrm>
              <a:off x="0" y="-380880"/>
              <a:ext cx="8664480" cy="76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380880"/>
              <a:ext cx="8607600" cy="21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533520" cy="1425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80010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84320"/>
            <a:ext cx="10874520" cy="704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56000" y="1125360"/>
            <a:ext cx="73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幼圆"/>
              </a:rPr>
              <a:t>时代不同了，而如今，我们的父母，他们给予我们的，又是什么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幼圆"/>
              </a:rPr>
              <a:t>请看下面的图片－－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幼圆"/>
              </a:rPr>
              <a:t>联系自己的实际情况，谈谈父母从我们出生到现在给予了我们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16732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581280" y="3108240"/>
            <a:ext cx="5715000" cy="374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57150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796000" y="692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哺乳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4653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把屎一把尿养大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3863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30960" y="1557360"/>
            <a:ext cx="3760560" cy="5300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300720" y="260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日的祝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5084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53737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9760" cy="5877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40360" y="333360"/>
            <a:ext cx="5256000" cy="4141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5636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望子成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64008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欢乐时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620640"/>
            <a:ext cx="77040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ff"/>
                </a:solidFill>
                <a:uFillTx/>
                <a:latin typeface="Times New Roman"/>
                <a:ea typeface="隶书"/>
              </a:rPr>
              <a:t>心灵导航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隶书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父母赋予我们生命，把我们带到这个美好的世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父母给我们衣食和爱抚，使我们健康成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父母给我们的学习、生活以强有力的保障！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父母是我们生命中的阳光，他们的真情挚爱是我们健康成长的养料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孝敬父母是中华民族的传统美德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73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55640" y="3068640"/>
            <a:ext cx="5689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给大家三分钟时间，搜索要感谢父母的事情，写下要感谢的话语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45320" y="1758960"/>
            <a:ext cx="1704600" cy="70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看谁写的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11280" y="0"/>
            <a:ext cx="7921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提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了解父母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日                主要优点     性格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好的朋友                     最爱吃的东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爱看的电视节目          最喜欢的休闲活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擅长的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大的负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大的希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家的贡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2997360"/>
            <a:ext cx="5219640" cy="178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们了解父母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5T04:55:07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6:55:02Z</dcterms:modified>
  <cp:revision>60</cp:revision>
  <dc:subject>主题班会课件(分28大类): http://shop62905894.taobao.com</dc:subject>
  <dc:title>主题班会课件(分28大类): http://shop62905894.taobao.com</dc:title>
</cp:coreProperties>
</file>