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6EA-8153-4999-8C5A-B6D25CFE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6F1-D211-4928-A121-1AB7D5D2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3E0-567D-45B8-A629-DC80F8A2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D6F-F887-4D1C-9618-B8AB0191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C58-433D-4566-A8BA-3DDE5780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C09-087D-4B7A-88AE-F087E19A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F54-F631-400F-96BD-E807EC5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DDC-5C11-4C4D-A9F0-A62F46AD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DEA-8E61-4C1B-BD2A-AE05BFD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724-8C5C-46C1-A212-1A9175D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D45-ED48-45CF-AAE6-AB4FF13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D69-3D20-4150-A96E-CF489FF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D7B8-5BF4-4644-A82F-B96033363D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00000" y="476280"/>
            <a:ext cx="6985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同一首歌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40360" y="6021360"/>
            <a:ext cx="48290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高二（</a:t>
            </a: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2</a:t>
            </a: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）班开学主题班会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数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3573360"/>
            <a:ext cx="64764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4149720"/>
            <a:ext cx="64764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00280"/>
            <a:ext cx="539640" cy="648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21000"/>
            <a:ext cx="468360" cy="648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907920"/>
            <a:ext cx="64620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260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英语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00360" y="907920"/>
            <a:ext cx="64620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3573360"/>
            <a:ext cx="71892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924280"/>
            <a:ext cx="71892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500280"/>
            <a:ext cx="539640" cy="648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24280"/>
            <a:ext cx="53964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17080" y="260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生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2360" y="3573360"/>
            <a:ext cx="71892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924280"/>
            <a:ext cx="71892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907920"/>
            <a:ext cx="64620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500280"/>
            <a:ext cx="539640" cy="648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24280"/>
            <a:ext cx="53964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260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27280" y="907920"/>
            <a:ext cx="71928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573360"/>
            <a:ext cx="576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260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w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573360"/>
            <a:ext cx="576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221000"/>
            <a:ext cx="576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907920"/>
            <a:ext cx="576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17080" y="260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y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3573360"/>
            <a:ext cx="576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2924280"/>
            <a:ext cx="576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907920"/>
            <a:ext cx="57636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17080" y="260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619280" y="333360"/>
            <a:ext cx="56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班风与成绩的关系？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43280" y="2205000"/>
            <a:ext cx="374472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姚体"/>
              </a:rPr>
              <a:t>你说我说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良好的班风是否重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08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文明班是衡量班风的重要而且是必要的指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19640" y="105264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结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2492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60a0a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如果我们班的班集体是优秀的，那么我们班每个同学也是优秀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6920" y="692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我们的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1844640"/>
            <a:ext cx="64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师生</a:t>
            </a: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加强合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500280"/>
            <a:ext cx="60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生生</a:t>
            </a: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加强合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515772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合作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才能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共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422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让我们高二（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班在新的一年里面，龙腾虎跃，虎虎生威，如虎添翼，同唱一首欢乐、胜利、共赢的歌曲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640" y="2565360"/>
            <a:ext cx="81853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祝你们新年快乐，身体健康，学习更上一层楼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3357720"/>
            <a:ext cx="76327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60a0a"/>
                </a:solidFill>
                <a:latin typeface="Arial"/>
                <a:ea typeface="黑体"/>
              </a:rPr>
              <a:t>如果我们班每个同学都是优秀的，那么我们的班集体也是优秀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0a0a"/>
                </a:solidFill>
                <a:latin typeface="Arial"/>
                <a:ea typeface="黑体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1125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写在前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16720" y="3213000"/>
            <a:ext cx="719280" cy="180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1557360"/>
            <a:ext cx="1008000" cy="172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84280"/>
            <a:ext cx="1116000" cy="187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3789360"/>
            <a:ext cx="792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6360" y="3500280"/>
            <a:ext cx="273672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3500280"/>
            <a:ext cx="792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3500280"/>
            <a:ext cx="79200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3500280"/>
            <a:ext cx="792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8028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817236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763640" y="3357720"/>
            <a:ext cx="547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作   共赢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989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我们班的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8028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47640" y="3573360"/>
            <a:ext cx="792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3573360"/>
            <a:ext cx="79200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573360"/>
            <a:ext cx="792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3573360"/>
            <a:ext cx="792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3573360"/>
            <a:ext cx="792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00000" y="836640"/>
            <a:ext cx="72010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桎梏我们成为文明班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56000" y="1413000"/>
            <a:ext cx="403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绊脚石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47640" y="5373720"/>
            <a:ext cx="37450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姚体"/>
              </a:rPr>
              <a:t>你说我说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645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考勤、仪表仪容、眼保健操、清洁卫生、升旗仪式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爱护公物、班容班貌、宿舍、保洁、广播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84720" y="5157720"/>
            <a:ext cx="2590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策？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242100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风与成绩的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900000" y="5229360"/>
            <a:ext cx="1152720" cy="119700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97000"/>
              <a:gd name="textAreaBottom" fmla="*/ 1122480 h 1197000"/>
            </a:gdLst>
            <a:ahLst/>
            <a:rect l="textAreaLeft" t="textAreaTop" r="textAreaRight" b="textAreaBottom"/>
            <a:pathLst>
              <a:path w="21600" h="22429">
                <a:moveTo>
                  <a:pt x="0" y="0"/>
                </a:moveTo>
                <a:lnTo>
                  <a:pt x="21600" y="0"/>
                </a:lnTo>
                <a:lnTo>
                  <a:pt x="21600" y="22429"/>
                </a:lnTo>
                <a:lnTo>
                  <a:pt x="0" y="22429"/>
                </a:lnTo>
                <a:close/>
              </a:path>
              <a:path fill="lightenLess" w="21600" h="224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29">
                <a:moveTo>
                  <a:pt x="21600" y="0"/>
                </a:moveTo>
                <a:lnTo>
                  <a:pt x="21600" y="22429"/>
                </a:lnTo>
                <a:lnTo>
                  <a:pt x="20200" y="21030"/>
                </a:lnTo>
                <a:lnTo>
                  <a:pt x="20200" y="1400"/>
                </a:lnTo>
                <a:close/>
              </a:path>
              <a:path fill="darkenLess" w="21600" h="22429">
                <a:moveTo>
                  <a:pt x="21600" y="22429"/>
                </a:moveTo>
                <a:lnTo>
                  <a:pt x="0" y="22429"/>
                </a:lnTo>
                <a:lnTo>
                  <a:pt x="1400" y="21030"/>
                </a:lnTo>
                <a:lnTo>
                  <a:pt x="20200" y="21030"/>
                </a:lnTo>
                <a:close/>
              </a:path>
              <a:path fill="lighten" w="21600" h="22429">
                <a:moveTo>
                  <a:pt x="0" y="224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300640"/>
            <a:ext cx="1079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期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语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3132000" y="3716280"/>
            <a:ext cx="1152720" cy="119700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97000"/>
              <a:gd name="textAreaBottom" fmla="*/ 1122480 h 1197000"/>
            </a:gdLst>
            <a:ahLst/>
            <a:rect l="textAreaLeft" t="textAreaTop" r="textAreaRight" b="textAreaBottom"/>
            <a:pathLst>
              <a:path w="21600" h="22429">
                <a:moveTo>
                  <a:pt x="0" y="0"/>
                </a:moveTo>
                <a:lnTo>
                  <a:pt x="21600" y="0"/>
                </a:lnTo>
                <a:lnTo>
                  <a:pt x="21600" y="22429"/>
                </a:lnTo>
                <a:lnTo>
                  <a:pt x="0" y="22429"/>
                </a:lnTo>
                <a:close/>
              </a:path>
              <a:path fill="lightenLess" w="21600" h="224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29">
                <a:moveTo>
                  <a:pt x="21600" y="0"/>
                </a:moveTo>
                <a:lnTo>
                  <a:pt x="21600" y="22429"/>
                </a:lnTo>
                <a:lnTo>
                  <a:pt x="20200" y="21030"/>
                </a:lnTo>
                <a:lnTo>
                  <a:pt x="20200" y="1400"/>
                </a:lnTo>
                <a:close/>
              </a:path>
              <a:path fill="darkenLess" w="21600" h="22429">
                <a:moveTo>
                  <a:pt x="21600" y="22429"/>
                </a:moveTo>
                <a:lnTo>
                  <a:pt x="0" y="22429"/>
                </a:lnTo>
                <a:lnTo>
                  <a:pt x="1400" y="21030"/>
                </a:lnTo>
                <a:lnTo>
                  <a:pt x="20200" y="21030"/>
                </a:lnTo>
                <a:close/>
              </a:path>
              <a:path fill="lighten" w="21600" h="22429">
                <a:moveTo>
                  <a:pt x="0" y="224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5508720" y="4508640"/>
            <a:ext cx="1152360" cy="1197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97000"/>
              <a:gd name="textAreaBottom" fmla="*/ 1122480 h 1197000"/>
            </a:gdLst>
            <a:ahLst/>
            <a:rect l="textAreaLeft" t="textAreaTop" r="textAreaRight" b="textAreaBottom"/>
            <a:pathLst>
              <a:path w="21600" h="22436">
                <a:moveTo>
                  <a:pt x="0" y="0"/>
                </a:moveTo>
                <a:lnTo>
                  <a:pt x="21600" y="0"/>
                </a:lnTo>
                <a:lnTo>
                  <a:pt x="21600" y="22436"/>
                </a:lnTo>
                <a:lnTo>
                  <a:pt x="0" y="22436"/>
                </a:lnTo>
                <a:close/>
              </a:path>
              <a:path fill="lightenLess" w="21600" h="2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36">
                <a:moveTo>
                  <a:pt x="21600" y="0"/>
                </a:moveTo>
                <a:lnTo>
                  <a:pt x="21600" y="22436"/>
                </a:lnTo>
                <a:lnTo>
                  <a:pt x="20200" y="21037"/>
                </a:lnTo>
                <a:lnTo>
                  <a:pt x="20200" y="1400"/>
                </a:lnTo>
                <a:close/>
              </a:path>
              <a:path fill="darkenLess" w="21600" h="22436">
                <a:moveTo>
                  <a:pt x="21600" y="22436"/>
                </a:moveTo>
                <a:lnTo>
                  <a:pt x="0" y="22436"/>
                </a:lnTo>
                <a:lnTo>
                  <a:pt x="1400" y="21037"/>
                </a:lnTo>
                <a:lnTo>
                  <a:pt x="20200" y="21037"/>
                </a:lnTo>
                <a:close/>
              </a:path>
              <a:path fill="lighten" w="21600" h="22436">
                <a:moveTo>
                  <a:pt x="0" y="2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7667640" y="5300640"/>
            <a:ext cx="1152360" cy="1197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97000"/>
              <a:gd name="textAreaBottom" fmla="*/ 1122480 h 1197000"/>
            </a:gdLst>
            <a:ahLst/>
            <a:rect l="textAreaLeft" t="textAreaTop" r="textAreaRight" b="textAreaBottom"/>
            <a:pathLst>
              <a:path w="21600" h="22436">
                <a:moveTo>
                  <a:pt x="0" y="0"/>
                </a:moveTo>
                <a:lnTo>
                  <a:pt x="21600" y="0"/>
                </a:lnTo>
                <a:lnTo>
                  <a:pt x="21600" y="22436"/>
                </a:lnTo>
                <a:lnTo>
                  <a:pt x="0" y="22436"/>
                </a:lnTo>
                <a:close/>
              </a:path>
              <a:path fill="lightenLess" w="21600" h="2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36">
                <a:moveTo>
                  <a:pt x="21600" y="0"/>
                </a:moveTo>
                <a:lnTo>
                  <a:pt x="21600" y="22436"/>
                </a:lnTo>
                <a:lnTo>
                  <a:pt x="20200" y="21037"/>
                </a:lnTo>
                <a:lnTo>
                  <a:pt x="20200" y="1400"/>
                </a:lnTo>
                <a:close/>
              </a:path>
              <a:path fill="darkenLess" w="21600" h="22436">
                <a:moveTo>
                  <a:pt x="21600" y="22436"/>
                </a:moveTo>
                <a:lnTo>
                  <a:pt x="0" y="22436"/>
                </a:lnTo>
                <a:lnTo>
                  <a:pt x="1400" y="21037"/>
                </a:lnTo>
                <a:lnTo>
                  <a:pt x="20200" y="21037"/>
                </a:lnTo>
                <a:close/>
              </a:path>
              <a:path fill="lighten" w="21600" h="22436">
                <a:moveTo>
                  <a:pt x="0" y="2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3789360"/>
            <a:ext cx="1079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 action="ppaction://hlinksldjump"/>
              </a:rPr>
              <a:t>期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 action="ppaction://hlinksldjump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4581360"/>
            <a:ext cx="1079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 action="ppaction://hlinksldjump"/>
              </a:rPr>
              <a:t>期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 action="ppaction://hlinksldjump"/>
              </a:rPr>
              <a:t>英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40720" y="5373720"/>
            <a:ext cx="1079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 action="ppaction://hlinksldjump"/>
              </a:rPr>
              <a:t>期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 action="ppaction://hlinksldjump"/>
              </a:rPr>
              <a:t>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3" action="ppaction://hlinksldjump"/>
          </p:cNvPr>
          <p:cNvSpPr/>
          <p:nvPr/>
        </p:nvSpPr>
        <p:spPr>
          <a:xfrm>
            <a:off x="1619280" y="189000"/>
            <a:ext cx="1152360" cy="1197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97000"/>
              <a:gd name="textAreaBottom" fmla="*/ 1122480 h 1197000"/>
            </a:gdLst>
            <a:ahLst/>
            <a:rect l="textAreaLeft" t="textAreaTop" r="textAreaRight" b="textAreaBottom"/>
            <a:pathLst>
              <a:path w="21600" h="22436">
                <a:moveTo>
                  <a:pt x="0" y="0"/>
                </a:moveTo>
                <a:lnTo>
                  <a:pt x="21600" y="0"/>
                </a:lnTo>
                <a:lnTo>
                  <a:pt x="21600" y="22436"/>
                </a:lnTo>
                <a:lnTo>
                  <a:pt x="0" y="22436"/>
                </a:lnTo>
                <a:close/>
              </a:path>
              <a:path fill="lightenLess" w="21600" h="2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36">
                <a:moveTo>
                  <a:pt x="21600" y="0"/>
                </a:moveTo>
                <a:lnTo>
                  <a:pt x="21600" y="22436"/>
                </a:lnTo>
                <a:lnTo>
                  <a:pt x="20200" y="21037"/>
                </a:lnTo>
                <a:lnTo>
                  <a:pt x="20200" y="1400"/>
                </a:lnTo>
                <a:close/>
              </a:path>
              <a:path fill="darkenLess" w="21600" h="22436">
                <a:moveTo>
                  <a:pt x="21600" y="22436"/>
                </a:moveTo>
                <a:lnTo>
                  <a:pt x="0" y="22436"/>
                </a:lnTo>
                <a:lnTo>
                  <a:pt x="1400" y="21037"/>
                </a:lnTo>
                <a:lnTo>
                  <a:pt x="20200" y="21037"/>
                </a:lnTo>
                <a:close/>
              </a:path>
              <a:path fill="lighten" w="21600" h="22436">
                <a:moveTo>
                  <a:pt x="0" y="2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4" action="ppaction://hlinksldjump"/>
          </p:cNvPr>
          <p:cNvSpPr/>
          <p:nvPr/>
        </p:nvSpPr>
        <p:spPr>
          <a:xfrm>
            <a:off x="4859280" y="620640"/>
            <a:ext cx="1152720" cy="119700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97000"/>
              <a:gd name="textAreaBottom" fmla="*/ 1122480 h 1197000"/>
            </a:gdLst>
            <a:ahLst/>
            <a:rect l="textAreaLeft" t="textAreaTop" r="textAreaRight" b="textAreaBottom"/>
            <a:pathLst>
              <a:path w="21600" h="22429">
                <a:moveTo>
                  <a:pt x="0" y="0"/>
                </a:moveTo>
                <a:lnTo>
                  <a:pt x="21600" y="0"/>
                </a:lnTo>
                <a:lnTo>
                  <a:pt x="21600" y="22429"/>
                </a:lnTo>
                <a:lnTo>
                  <a:pt x="0" y="22429"/>
                </a:lnTo>
                <a:close/>
              </a:path>
              <a:path fill="lightenLess" w="21600" h="224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29">
                <a:moveTo>
                  <a:pt x="21600" y="0"/>
                </a:moveTo>
                <a:lnTo>
                  <a:pt x="21600" y="22429"/>
                </a:lnTo>
                <a:lnTo>
                  <a:pt x="20200" y="21030"/>
                </a:lnTo>
                <a:lnTo>
                  <a:pt x="20200" y="1400"/>
                </a:lnTo>
                <a:close/>
              </a:path>
              <a:path fill="darkenLess" w="21600" h="22429">
                <a:moveTo>
                  <a:pt x="21600" y="22429"/>
                </a:moveTo>
                <a:lnTo>
                  <a:pt x="0" y="22429"/>
                </a:lnTo>
                <a:lnTo>
                  <a:pt x="1400" y="21030"/>
                </a:lnTo>
                <a:lnTo>
                  <a:pt x="20200" y="21030"/>
                </a:lnTo>
                <a:close/>
              </a:path>
              <a:path fill="lighten" w="21600" h="22429">
                <a:moveTo>
                  <a:pt x="0" y="224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0720" y="1628640"/>
            <a:ext cx="1152360" cy="1197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97000"/>
              <a:gd name="textAreaBottom" fmla="*/ 1122480 h 1197000"/>
            </a:gdLst>
            <a:ahLst/>
            <a:rect l="textAreaLeft" t="textAreaTop" r="textAreaRight" b="textAreaBottom"/>
            <a:pathLst>
              <a:path w="21600" h="22436">
                <a:moveTo>
                  <a:pt x="0" y="0"/>
                </a:moveTo>
                <a:lnTo>
                  <a:pt x="21600" y="0"/>
                </a:lnTo>
                <a:lnTo>
                  <a:pt x="21600" y="22436"/>
                </a:lnTo>
                <a:lnTo>
                  <a:pt x="0" y="22436"/>
                </a:lnTo>
                <a:close/>
              </a:path>
              <a:path fill="lightenLess" w="21600" h="2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36">
                <a:moveTo>
                  <a:pt x="21600" y="0"/>
                </a:moveTo>
                <a:lnTo>
                  <a:pt x="21600" y="22436"/>
                </a:lnTo>
                <a:lnTo>
                  <a:pt x="20200" y="21037"/>
                </a:lnTo>
                <a:lnTo>
                  <a:pt x="20200" y="1400"/>
                </a:lnTo>
                <a:close/>
              </a:path>
              <a:path fill="darkenLess" w="21600" h="22436">
                <a:moveTo>
                  <a:pt x="21600" y="22436"/>
                </a:moveTo>
                <a:lnTo>
                  <a:pt x="0" y="22436"/>
                </a:lnTo>
                <a:lnTo>
                  <a:pt x="1400" y="21037"/>
                </a:lnTo>
                <a:lnTo>
                  <a:pt x="20200" y="21037"/>
                </a:lnTo>
                <a:close/>
              </a:path>
              <a:path fill="lighten" w="21600" h="22436">
                <a:moveTo>
                  <a:pt x="0" y="2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26028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期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语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69228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期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物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5080" y="177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期末英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语文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92360" y="3573360"/>
            <a:ext cx="71892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4221000"/>
            <a:ext cx="718920" cy="648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907920"/>
            <a:ext cx="719280" cy="72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73360"/>
            <a:ext cx="46836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221000"/>
            <a:ext cx="468360" cy="648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17080" y="260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42:48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52:09Z</dcterms:modified>
  <cp:revision>6</cp:revision>
  <dc:subject>主题班会课件(分28大类): http://shop62905894.taobao.com</dc:subject>
  <dc:title>主题班会课件(分28大类): http://shop62905894.taobao.com</dc:title>
</cp:coreProperties>
</file>