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58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20.png" ContentType="image/png"/>
  <Override PartName="/ppt/media/image36.jpeg" ContentType="image/jpeg"/>
  <Override PartName="/ppt/media/image15.gif" ContentType="image/gif"/>
  <Override PartName="/ppt/media/image14.gif" ContentType="image/gif"/>
  <Override PartName="/ppt/media/image24.gif" ContentType="image/gif"/>
  <Override PartName="/ppt/media/image1.gif" ContentType="image/gif"/>
  <Override PartName="/ppt/media/image31.gif" ContentType="image/gif"/>
  <Override PartName="/ppt/media/image10.png" ContentType="image/png"/>
  <Override PartName="/ppt/media/image54.gif" ContentType="image/gif"/>
  <Override PartName="/ppt/media/image29.jpeg" ContentType="image/jpeg"/>
  <Override PartName="/ppt/media/image7.gif" ContentType="image/gif"/>
  <Override PartName="/ppt/media/image37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11.png" ContentType="image/png"/>
  <Override PartName="/ppt/media/image55.gif" ContentType="image/gif"/>
  <Override PartName="/ppt/media/image26.gif" ContentType="image/gif"/>
  <Override PartName="/ppt/media/image45.gif" ContentType="image/gif"/>
  <Override PartName="/ppt/media/image46.gif" ContentType="image/gif"/>
  <Override PartName="/ppt/media/image47.gif" ContentType="image/gif"/>
  <Override PartName="/ppt/media/image49.gif" ContentType="image/gif"/>
  <Override PartName="/ppt/media/image12.gif" ContentType="image/gif"/>
  <Override PartName="/ppt/media/image48.gif" ContentType="image/gif"/>
  <Override PartName="/ppt/media/image50.gif" ContentType="image/gif"/>
  <Override PartName="/ppt/media/image42.png" ContentType="image/png"/>
  <Override PartName="/ppt/media/image40.gif" ContentType="image/gif"/>
  <Override PartName="/ppt/media/image51.gif" ContentType="image/gif"/>
  <Override PartName="/ppt/media/image44.png" ContentType="image/png"/>
  <Override PartName="/ppt/media/image41.gif" ContentType="image/gif"/>
  <Override PartName="/ppt/media/image52.gif" ContentType="image/gif"/>
  <Override PartName="/ppt/media/image53.gif" ContentType="image/gif"/>
  <Override PartName="/ppt/media/image56.gif" ContentType="image/gif"/>
  <Override PartName="/ppt/media/image30.gif" ContentType="image/gif"/>
  <Override PartName="/ppt/media/image28.gif" ContentType="image/gif"/>
  <Override PartName="/ppt/media/image38.gif" ContentType="image/gif"/>
  <Override PartName="/ppt/media/image8.gif" ContentType="image/gif"/>
  <Override PartName="/ppt/media/image5.gif" ContentType="image/gif"/>
  <Override PartName="/ppt/media/image35.gif" ContentType="image/gif"/>
  <Override PartName="/ppt/media/image13.png" ContentType="image/png"/>
  <Override PartName="/ppt/media/image57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6.png" ContentType="image/png"/>
  <Override PartName="/ppt/media/image4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709-4C0F-461A-BCBE-6BBAE9F3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6C8-0F85-4DB9-8FAD-489E1137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90C-6DE4-4A39-9BDC-D4703687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8D0-875A-4934-8976-16DCCAF6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131-A617-4E6C-A66E-478B9EA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17D-1EF5-47F4-93C5-00041E52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3BE-2C25-4983-AFA7-22808E9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C18-14AC-4043-9309-41B7E28F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1EB-99A4-4EBB-8392-31F8D976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0BE-FD3B-4141-A922-9F8A558B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F29-C6BC-4BB1-9BC6-EBE4915C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A2A-DF43-4504-B008-2111DC31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8023-727B-4517-BD40-7AEE0B444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21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4.gif"/><Relationship Id="rId8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56.gif"/><Relationship Id="rId4" Type="http://schemas.openxmlformats.org/officeDocument/2006/relationships/image" Target="../media/image58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image" Target="../media/image57.gif"/><Relationship Id="rId9" Type="http://schemas.openxmlformats.org/officeDocument/2006/relationships/image" Target="../media/image57.gif"/><Relationship Id="rId10" Type="http://schemas.openxmlformats.org/officeDocument/2006/relationships/image" Target="../media/image57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uwenzhang.com/" TargetMode="External"/><Relationship Id="rId2" Type="http://schemas.openxmlformats.org/officeDocument/2006/relationships/hyperlink" Target="http://www.duwenzhang.com/huati/muqin/index1.html" TargetMode="External"/><Relationship Id="rId3" Type="http://schemas.openxmlformats.org/officeDocument/2006/relationships/hyperlink" Target="http://www.duwenzhang.com/huati/shengming/index1.html" TargetMode="External"/><Relationship Id="rId4" Type="http://schemas.openxmlformats.org/officeDocument/2006/relationships/hyperlink" Target="http://www.duwenzhang.com/huati/pingdan/index1.html" TargetMode="External"/><Relationship Id="rId5" Type="http://schemas.openxmlformats.org/officeDocument/2006/relationships/hyperlink" Target="http://www.duwenzhang.com/huati/jiejie/index1.html" TargetMode="External"/><Relationship Id="rId6" Type="http://schemas.openxmlformats.org/officeDocument/2006/relationships/hyperlink" Target="http://www.duwenzhang.com/huati/fumu/index1.html" TargetMode="External"/><Relationship Id="rId7" Type="http://schemas.openxmlformats.org/officeDocument/2006/relationships/hyperlink" Target="http://www.duwenzhang.com/huati/yongyou/index1.html" TargetMode="External"/><Relationship Id="rId8" Type="http://schemas.openxmlformats.org/officeDocument/2006/relationships/hyperlink" Target="http://www.duwenzhang.com/huati/nvren/index1.html" TargetMode="External"/><Relationship Id="rId9" Type="http://schemas.openxmlformats.org/officeDocument/2006/relationships/hyperlink" Target="http://www.duwenzhang.com/huati/tongnian/index1.html" TargetMode="External"/><Relationship Id="rId10" Type="http://schemas.openxmlformats.org/officeDocument/2006/relationships/hyperlink" Target="http://www.duwenzhang.com/huati/kuaile/index1.html" TargetMode="External"/><Relationship Id="rId11" Type="http://schemas.openxmlformats.org/officeDocument/2006/relationships/hyperlink" Target="http://www.duwenzhang.com/huati/meihao/index1.html" TargetMode="External"/><Relationship Id="rId12" Type="http://schemas.openxmlformats.org/officeDocument/2006/relationships/hyperlink" Target="http://www.duwenzhang.com/wenzhang/shenghuosuibi/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uwenzhang.com/huati/shengri/index1.html" TargetMode="External"/><Relationship Id="rId2" Type="http://schemas.openxmlformats.org/officeDocument/2006/relationships/hyperlink" Target="http://www.duwenzhang.com/huati/fuqin/index1.html" TargetMode="External"/><Relationship Id="rId3" Type="http://schemas.openxmlformats.org/officeDocument/2006/relationships/hyperlink" Target="http://www.duwenzhang.com/huati/xiangxin/index1.html" TargetMode="External"/><Relationship Id="rId4" Type="http://schemas.openxmlformats.org/officeDocument/2006/relationships/hyperlink" Target="http://www.duwenzhang.com/huati/mingyun/index1.html" TargetMode="External"/><Relationship Id="rId5" Type="http://schemas.openxmlformats.org/officeDocument/2006/relationships/hyperlink" Target="http://www.duwenzhang.com/huati/cuozhe/index1.html" TargetMode="External"/><Relationship Id="rId6" Type="http://schemas.openxmlformats.org/officeDocument/2006/relationships/hyperlink" Target="http://www.duwenzhang.com/huati/muai/index1.html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628640"/>
            <a:ext cx="334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题班会：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21043200">
            <a:off x="3347640" y="285264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恩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17080" y="4365720"/>
            <a:ext cx="826920" cy="2492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7164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0998800">
            <a:off x="3708000" y="393372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感恩教育</a:t>
            </a:r>
            <a:endParaRPr b="1" lang="en-US" sz="4000" spc="1" strike="noStrike">
              <a:ln w="12600">
                <a:solidFill>
                  <a:srgbClr val="00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77868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是只小小的船，悠悠地划行在平静的水面。母亲摇着爱的小船，把希望挂在帆上，把沉重装进船舱，把思念藏入船底，把笑容露在脸上，日复一日，年复一年地挥动着双桨，在那条流淌着希望和快乐的河面上，不倦地解绳，离岸，守望，返航，重复着无尽的付出与盼望。水中清晰的倒影映出了母亲的疲惫和劳累，回家路上那串深浅不一的脚印，标记着母爱的坚毅和刚强。母亲用自己整个的生命，在人生的长河里，艰难地打捞着快乐，打捞着希望，也为自己酿造着迷茫、孤寂与悲凉——风雨无阻，冒雪迎霜，无怨无悔，暗自惆怅，却不惧山崩地裂，直至两鬓如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是只希望的船，轻盈地荡漾在清澈的水面。母亲摇着爱的小船，把碧波划向船尾，把春意装满小船，把思念的种籽撒进两岸的泥土，把轻松和惬意载向远方。母亲倾其一生的力气，在那条婉延伸展的长河上，日复一日，年复一年地划着双浆，遭受屡屡失望之后再重新启航，继续守望。虔诚的祈祷在默默的守望中流动，静静的祝愿不发出一点声响。母亲只想用自己的方式，为在竞技场上苦斗的孩儿，悄悄地送去浓缩着母爱的春天气息，让他在身体和大脑疲惫的时候，能感受到亲情的温暖和真实，使那颗鲜活跳动的心儿，没有尘染，不会寂寞，永不疲倦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5673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是只快乐的船，幸福地划行在明净的水面。母亲摇着爱的小船，迎太阳露脸，送月亮上天。追逐的河风顽皮地撩起母亲的头发，推搡的水浪围聚在母亲的身边，飞溅的浪花撒娇地拉住母亲湿润的衣角和粗糙的手，央求着母亲放下双桨，缠住母亲嬉戏游玩，愿与母亲喜乐共享。于是，母亲用自己全部的快乐，在水浪和涟漪里编织理想，编织希望，编织梦里缤纷的向往，也铺起河面上长长的遐想：当那只梦寐以求的小船凯旋归来时，观两岸柳枝摇曳，望河水清澈如蓝，见水中山的倒影清晰可见，看稚气的脸上春意盎然。到那时，母亲的笑容是多么的真实和灿烂——虽然还是泪流满面，但笑靥上奔流着的，却是母亲幸福的甘泉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7320" cy="481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692000" y="0"/>
            <a:ext cx="745164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母爱是只坚固的船，终年飘荡在多浪的水面。母亲摇着爱的小船，把恐惧丢在脑后，把坚韧聚集双腕，在波涛翻滚的河面上，迎风击浪，起伏向前，为的是冲过黎明前的黑暗。时而被激浪冲上峰顶，时而被狂涛卷入漩涡，时而与大船突然相撞，还有那些从狰狞面孔上倾泄而至的狂暴，以及怒目而视的眼睛里喷射出的阴森目光。狂风、巨浪和高耸的船，强硬地堵截着小船的航线，强大的压力挤压和震裂着每一块船板，也挤压和撕扯着母亲瘦弱的躯体和灵敏的心弦……站在冰冷、沉寂的茫茫水面，找不到一丝丝人间的温暖。母亲靠自己微弱的力量，支撑着自己，也支撑起小船，气喘嘘嘘地抵挡着人生遭遇的不幸苦难——没有终点，没有怨言，唯有一条望不到头的视线，在心里无限伸延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母爱是只破旧的船，载着沉重，拖着疲倦，浸透了血汗。母亲站在小小的船头，无言地守望着迷茫的河面。颤巍巍的双手紧紧抓住矮矮的船板，肌肠漉漉伴着佝偻的躯体用力地靠住船边……生命的河流带走了母亲的年轻和美丽，岁月的风霜蚀去了母亲的健康与顽强，迷茫的守望是母亲晚年唯一的依赖……母爱那颗苍凉的心啊，依旧还在那条弯曲的路上痴痴地回想，似乎嘴里还哼着那首童曲，仿佛手里还摇着那辆童车，直到摇过金色年华，摇出苍苍白发，摇到胸骨佝偻，摇得身姿不再挺拔，脸上那一道道重叠堆积着的皱纹里，依然还缓缓地流淌着母爱的泉水，母亲浑浊的眼珠里，还不住地飞舞着五彩的光环和簇拥的鲜花——只是，其中已不再有象征光宗耀祖的法码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54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慈 母 手 中 线，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 子 身 上 衣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临 行 密 密 缝，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 恐 迟 迟 归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 言 寸 草 心，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 得 三 春 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6457320" y="2839320"/>
            <a:ext cx="2808000" cy="96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游子吟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0" y="4723920"/>
            <a:ext cx="40384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文章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1081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218440" cy="579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人世间如果缺少了颗感恩的心，那将是一个凄惨、冷漠的地方。唱一首《感恩的心》送给上苍，“我来自偶然，像一粒尘土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苍天知道我不认输，感恩的心，感谢命运，花开花落我一样珍惜”。歌罢泪眼朦胧，却仿佛看到母亲郑重的、微笑着喝下毒药、又仿佛看见父亲蹒跚着双腿拖着沉重的垃圾袋，从这里我们该感恩的对象是他们，该唱首感恩的歌送给他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我们的父母：“我原想收获一缕春风，你却给了我整个春天；我原想捧起一簇浪花，你却给了我整个海洋；我原想撷取一枚红叶，你却给了我整个枫林；我原想亲吻一朵雪花，你却给了我整个银色世界。”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    人世间像这样感恩的父母有千千万，但有感恩的孩子却很少，我想对父母说：“为了我们这些不知道感恩的孩子们，您们保重！”我还想对自己说：“为了这些感恩的父母，我们也需要感恩！”感谢自然，给予我们享受生活中的斑斓；感谢父母，给予我生命中爱的呵护；感谢爱人，给予生命中的甜蜜；感谢所有有生命的或者无生命的，给予我生命中不同的感受。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    心中充满感恩，你就会快乐一生！心中充满感恩，你就会爱满身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168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拥有一颗感恩的心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  从小体弱多病的他成绩骄然，全家一心希望他将来能荣宗耀祖学个“秀才”乃至“状元”出来，母亲从他出生起就日夜操劳，请医求药，导致积劳成疾身患癌症，可母亲没舍得为自己用一分钱，拒绝求医，并且喝农药自杀了，患有风湿性关节炎的父亲为了支付他上学学费，沿街捡垃圾，炎炎夏日中暑而死。     一个体弱多病的大学生，在他的成长历程中，逼死了母亲、累死了父亲，可以说是罪孽深重，双亲都是因为“爱”他而牺牲了自己的生命，这样的爱让人多么痛心又多么敬佩，看着这对为爱而放弃生命的父母，你能说的只有“感恩”，他们用自己的生命来报答上苍赐予的新生命，因为这新生命能够慰籍他们失落的灵魂，能让他们得到快乐和幸福。因果循环，他们的孩子在经受过爱的洗礼之后，也拥有了一颗感恩的心，他知道必须努力，才能回报上苍赐予他这样的父母，回报父母给予的生命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Arial"/>
                <a:ea typeface="华文隶书"/>
              </a:rPr>
              <a:t>《感恩父母》精彩片断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给心灵刻上感恩的烙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陈思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条船，感恩之心则是让船前进的桨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片树，感恩之心则是这片树林里的花朵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条河，感恩之心则是河中美丽的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滴水之恩，当涌泉相报，更何况是父母的恩同再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拥有了关爱我们的亲人，我们却抱怨他们太过唠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感恩于爱，感谢它给了我感受温暖的热源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特别感恩于母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8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6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7993080" cy="64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上只有妈妈好，有个好妈妈的我幸福得不得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，您辛苦了！感谢您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”，是这个世界上最美但又最朴素的名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须用任何的东西修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哭哭啼啼的我，到现在坚强乐观的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调皮淘气的我，到现在懂事明事理的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知让母亲操了多少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倾注的心血，我无以为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您曾经忙碌的身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焦急的神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馨的关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悔地付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今，尤使我感动万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我写不出您对我好的三分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859520" cy="626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的流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面容憔悴的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仍旧在工作，不时地还要顾及我的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多么想替您分担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有话可说，可不知该怎么开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似乎妈妈的教导仍在耳边回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您是最伟大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阳光般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写不出诗一般的情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只想表达自己内心的真情实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我对您的感恩已经烙在心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给心灵刻上感恩的烙印，您是我扬帆的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7308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是感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是一个历史悠久的文明古国，以“礼仪之邦”闻名于世。古人历来重视道德修养和文明礼貌，自古就有“施恩不图报”的美德，但也有“知恩不报非君子”的古训。有“鸟有反哺之义，羊有跪乳之恩”的名句，更有“受人滴水之恩，当以涌泉相报”和“吃水不忘打井人”的处世信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西方，有个“感恩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很多人相信上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认为所有的一切都是上天的恩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颗感恩的心使他们的人生充满了希望和色彩，从而创造出生命中一个又一个的高潮。因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节那天，人们都要举行各种欢庆活动，以感谢上帝赐予丰收之“恩”，正所谓“信仰使岁月处处动人，感恩的心点滴满怀，荣耀终归何处，只因它从何处而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你在一起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785080" cy="525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，我可以拉着您的手对您说出：“执子之手，与子偕老”的话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直想永远和你在一起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许，母亲就是萦绕在我们身边的絮絮叨叨，我们有时可能会烦躁，会气恼，甚至将自己的怨气一股脑儿向她泼去，她都默默承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的爱或许就是天冷加在我们身上的一件衣，一床被，这可能会被我们视作理所应当，但她都默默付出，母爱或许就是临行时的一句句叮咛，失意时的一句鼓励，看似简单，平常，然而这背后所有的那剪不断的牵挂和坚定不移的信念，她默默坚持着。她的确就是我们的避风港，在哺育我们的同时，也给了我们的心灵以寄托和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74560" y="333360"/>
            <a:ext cx="856944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外面的风大了，在这里歇歇再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外受了伤害，回到这里就能得到抚慰。有母亲的天空永远不会失去色彩，有母亲的生活，永远不会暗淡无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许，许多人慨叹：母亲在的时候，母亲就是一切；母亲不在的时候，一切都是母亲。那是对逝去时光的一种默默忏悔，对母亲情愫的一种深深怀念，让人感到既怅惘又怜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Arial"/>
                <a:ea typeface="黑体"/>
              </a:rPr>
              <a:t>音乐故事：感恩的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个天生失语的小女孩，爸爸在她很小的时候就去世了。她和妈妈相依为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每天很早出去工作，很晚才回来。每到日落时分，小女孩就开始站在家门口，充满期待地望着门前的那条路，等妈妈回家。妈妈回来的时候是她一天中最快乐的时刻，因为妈妈每天都要给她带一块年糕回家。在她们贫穷的家里，一块小小的年糕都是无上的美味了啊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天，下着很大的雨，已经过了晚饭时间了，妈妈却还没有回来。小女孩站在家门口望啊望啊，总也等不到妈妈的身影。天，越来越黑，雨，越下越大，小女孩决定顺着妈妈每天回来的路自己去找妈妈。她走啊走啊，走了很远，终于在路边看见了倒在地上的妈妈。她使劲摇着妈妈的身体，妈妈却没有回答她。她以为妈妈太累，睡着了。就把妈妈的头枕在自己的腿上，想让妈妈睡得舒服一点。但是这时她发现，妈妈的眼睛没有闭上！小女孩突然明白：妈妈可能已经死了！她感到恐惧，拉过妈妈的手使劲摇晃，却发现妈妈的手里还紧紧地拽着一块年糕……她拼命地哭着，却发不出一点声音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一直在下，小女孩也不知哭了多久。她知道妈妈再也不会醒来，现在就只剩下她自己。妈妈的眼睛为什么不闭上呢？她是因为不放心她吗？她突然明白了自己该怎样做。于是擦干眼泪，决定用自己的语言来告诉妈妈她一定会好好地活着，让妈妈放心地走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女孩就在雨中一遍一遍用手语做着这首《感恩的心》，泪水和雨水混在一起，从她小小的却写满坚强的脸上滑过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的心，感谢有你，伴我一生，让我有勇气做我自己……感恩的心，感谢命运，花开花落，我一样会珍惜……”她就这样站在雨中不停歇地做着，一直到妈妈的眼睛终于闭上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35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丽的笑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大早起来，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灰蒙蒙的天空笼罩了一切。推开房门，饭桌上只有简单的饭菜，一看就知道是爸爸做的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我不由得眼睛湿润了，想起昨天和妈妈吵架的情景，——就因为饭菜不合胃口，吵了个天昏地暗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背着沉甸甸的书包，迈着沉重的脚步走出了家门。平日里走了很远，扭回头，还能看见妈妈慈祥可亲的面容；现在看见的却只是门口几盆勉强挣扎的残花罢了。一阵酸楚涌上了心头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到了学校，老师在讲台上讲课，而台下的我认为他在唱“独角戏”。下课了，只是在角落里呆呆地看着课本。因为忘交作业，又让老师批了一顿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终于挨到了放学，几个好友叫我去玩会儿，我没去。不知为什么，我只是觉得难受，便又背上沉甸甸的书包向回家的路走去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回到家，爸爸正在客厅里看电视，见我回来了，赶忙起来，跑到我的身边：“去，给妈妈道个歉。”我开始很犹豫，爸爸看出了我的心思：“怎么？妈妈每天为你忙死忙活，不值你个道歉。”我无言。只好硬着头皮走进了里屋。 </a:t>
            </a:r>
            <a:br>
              <a:rPr sz="1500"/>
            </a:b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554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静静的坐在床上。我轻轻的走过去，蹲在了妈妈的身旁：“妈，都是我的不对，是我太挑剔了。”眼泪伴随着颤抖的声音流了下来。妈妈一下把我抱紧了，暖暖的胸怀中流露着深深的爱。“乖，不哭了，妈妈去给你做最你吃的手擀面了。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看着妈妈，不由得心里是一阵感动：寒风中伫立门前，目送我远去的是妈妈；病榻前忙前忙后，为我端汤送药的是妈妈；晨曦中守护厨房，端到我面前一碗手擀面的还是妈妈……一切的一切，妈妈生我养我，这恩情比天高，比海深，可我竟为了一顿饭不合口，和妈妈吵了个天昏地暗，唉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一碗香喷喷的手擀面摆在了我面前，那碗饭的价值铭记在了我的心中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“乖，快吃吧！”妈妈露出了她那慈祥而美丽的笑容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在生活中，让我们心怀感恩，让我们的世界少份抱怨，多分珍惜，美丽便在我们面前像一条河一样铺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1676520" cy="2095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母亲的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-more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那是母亲所给予我的太多太多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-old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可是母亲却在慢慢变老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-tear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就是母亲曾为我拭去的那串串泪珠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-heart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这是母亲那颗金子般纯净的心灵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-eye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她是母亲那爱意盈盈的眼神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-right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是我对母亲的祝愿——永远永远地健康幸福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把它们拼起来后，你就会明白为什么我们深情呼唤：母亲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沐浴着爱的阳光长大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滋润着人间的真情成长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次带着幸福的感觉进入梦乡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回含着感动的泪花畅想未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的最后一个星期四是感恩节，虽然它已远去，但一颗感恩之心，一腔感激之情永驻心间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怀感恩之心的人是最幸福的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怀感激之情的生活是最甜美的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的父母，因为他们给了我宝贵的生命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的老师，因为他们给了我无穷的知识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的朋友，因为他们给了我克服困难的力量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周围的一切，因为他们给了我和谐健康的成长空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要忘记说声——“谢谢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们的成长道路上，要感激的人太多太多，你最想感谢谁，就把感激的话写在感恩卡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5761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就是学会了懂得尊重他人、学会了付出、学会以平等的眼光看待每一个生命、学会了把快乐带给每一个与你擦肩而过的人、学会珍惜你的幸福，学会感谢你身边的一切，因为珍惜才会拥有，感恩才能天长地久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987640" cy="2852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3628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词语最亲切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声呼唤最动听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人最要感谢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人最应感恩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它就是——“妈妈”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皱纹深了，她把美丽的青春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手粗了，她把温暖的阳光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腰弯了，她把挺直的脊梁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眼花了，她把明亮的双眸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对妈妈深沉的感情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聆听妈妈殷切的心愿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应该学会感恩，应该学会感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很多时候，我们习惯接受这种关爱，并且认为是理所当然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渐渐忘记了感动，忘了说声谢谢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爱像一杯浓茶，需要我们细细品味。请欣赏小品《一袋饺子》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袋饺子是微不足道的，但妈妈的爱却是感人肺腑的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过上幸福的生活，让我们没有忧虑地成长，是所有父母的心愿，主持人甲：如果说母爱是船，载着我们从少年走向成熟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父爱就是一片海，给了我们一个幸福的港湾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母亲的真情，点燃了我们心中的希望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父亲的厚爱，将是鼓起我们远航的风帆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拿什么来感谢你，我的父母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父母的爱说不完、道不尽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有的恩情我们铭记于心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1886040" cy="2247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3357360"/>
            <a:ext cx="4176720" cy="29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感恩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2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鲜花感恩雨露，因为雨露滋润它成长；苍鹰感恩长空，因为长空让它飞翔；高山感恩大地，因为大地让它高耸；我感恩，很多很多人……但我最感恩的人还是老师。 　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当我们怀着害怕的心第一次跨进校门时，您阳光般的笑容给我以安慰。您将我那颗恐惧的心带到了学校，带进了丰富多彩校园，也带进了学习的殿堂。 　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   当我们怀着惭愧的心面对错误时，您意味深长的教诲给我做人的道理。您将我那颗幼小的心，无知的心带到了正确的道理中，带进了我日后要正确面对错误的信念中，也带进从错误走向正确的生活中。 　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当我们怀着失落的心面对失败时，您天使般的来到我身边给我以勇气与希望。您将我那颗受伤、气馁的心带到了“自信”的“天空”中，带进了坚强的“海洋”里，也带进了以后成功的大门。 　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  　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44000" y="4221000"/>
            <a:ext cx="6998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26920" y="23320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怀着喜悦的心得到一个好的成绩时，您善意的提醒给我以谦虚。您将我那颗骄傲、浮躁的心带到了严格的“高山”上，带进了上进的“流水”中，也带进了自强不息的世界里。 　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   当我…… 　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您在教室里走了一圈，目光注视着每一个同学。最后您停在了我的面前。我的心在刹那间猛跳起来，许久，没有我期待的话语，我抬起头，迎接我的是一个眼神。您静静的看着我，眉头平展着，眼睫毛时不时眨动着，但您的目光不动。昔日严肃的面庞，挂着一种温和的笑容。那是这样的一种眼神啊，有关爱，有温馨，有期望，有激励，那么明亮，那么闪烁，给人以温暖，给人以勇气！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68256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20200" y="5084640"/>
            <a:ext cx="5238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05680" y="5133960"/>
            <a:ext cx="2038320" cy="1724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！您可曾还记得，每一次考试成绩成功的背后，总是有着您付出的辛勤汗水与辛酸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您，不惜用自己那原本白皙的双手，为同学们在黑板上勾勒出一个又一个锦绣前程，让无情的粉笔末沾满双鬓，却依就向我们的美好明天报以希望与笑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您，不惜牺牲自己的睡眠时间，在这寂静的夜晚里，趁着屋里那几丝微弱的灯光，不辞辛苦的批改着我们的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82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793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您，不惜舍去节假日休息的时间，听着儿女们尖酸的指责，只为费尽心思的多出几道我们容易出错的题，好在学习上取得更加优异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见我们的成功时，喜悦，认可的笑容总会绽放在你那憔悴的脸上，看在我们的退步时，痛心，难过得泪水也悄悄随脸颊滑落……岁月的痕迹，在您的脸上是那样的清晰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我们的学业，您付出得似乎已太多太多，无以用言语来表达。只希望从您手中放飞的那些雏鹰们，能够越飞越高，翱翔在祖国希望的蓝天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32720" y="4365720"/>
            <a:ext cx="762120" cy="16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381880" y="5013360"/>
            <a:ext cx="762120" cy="16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381880" y="3213000"/>
            <a:ext cx="762120" cy="161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101080" y="4005360"/>
            <a:ext cx="76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8472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99"/>
                </a:solidFill>
                <a:latin typeface="Arial"/>
              </a:rPr>
              <a:t>感恩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0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文章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67640" y="3860640"/>
            <a:ext cx="1116000" cy="299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476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谢师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至今仍很难忘记那个夜晚，仍铭记着老师灯光下的语重心长：“把握今天，努力不使它成为带有遗憾的昨天……”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那是刚进行完一次考试。我因为考得很糟糕，心情非常烦躁，灰心丧气，整天只觉得昏昏沉沉，无所事事。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那天是周日晚上，我们刚刚到校。随着晚自习的铃声落下，教室里顿时一片寂静。我坐在座位上，手中拿着一本书，翻来翻去的什么也看不进去。“新华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你出来一下。”这一声打断了我的遐想，我急步走出教室。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 当走到教室门口的时候，一股凉风扑面吹来，使我的身体直发抖，我想退回来，但是看到老师那单薄的身体在风中晃动，我把脚迈出了教室，走到了老师的面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老师用手理了理她那被风吹乱的头发，清了清嗓子，开始和我谈话。“杨楠，你觉得这一阵子的学习怎么样？”我把头低下，默默无语。老师紧接着又追问了一句：“是不是这次考试给你很大打击？”我点了点头，然后把头扎得更低了，不争气的泪水也涌出了眼眶。老师拍了拍我的肩膀又说：“一次失败决定不了什么，失</a:t>
            </a:r>
            <a:br>
              <a:rPr sz="700"/>
            </a:br>
            <a:br>
              <a:rPr sz="600"/>
            </a:br>
            <a:br>
              <a:rPr sz="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79200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败只是暂时的，要敢于面对失败。失败了要找到失败的原因，找到原因，要对症下药，这样才会有进步。把头抬起来，敢天面对生活！”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我抬起头，远处黑暗的天空中有一颗闪闪发光的星星。我和老师面对面站着，昏暗的灯光撒在我们的身上，我们的影子投射在墙上，勾勒出了一幅人生最美的图画。这时老师又开口了：“生命的意义在于过程，只要付出了，努力了，又何必太在乎结果呢？”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就是在我极度的想得到别人安慰的时候，老师，是您给了我安慰，使我重新燃起了心中的梦想，重新开始把奋斗的道路确定。</a:t>
            </a:r>
            <a:br>
              <a:rPr sz="1500"/>
            </a:br>
            <a:r>
              <a:rPr b="1" lang="zh-CN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1880" y="-387360"/>
            <a:ext cx="762120" cy="23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79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柔和的南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迷人的银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金黄的圆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欢笑的飞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的海洋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庄严的船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委屈的泪光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慈祥的外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我们走出灵魂的荒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愈作《师说》以颂师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魏巍写《我的老师》以谢师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一生铭记老师徐特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泽民访美不忘拜访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聂海胜创造不了航天奇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老师我们这些稚嫩小苗长不成参天大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你把我从过去的漫不经心培养成现在的沉着稳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你把我从过去的灰心丧志打造成现在的意志坚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你把我从过去的品行不端教育成现在的明理知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11280" y="0"/>
            <a:ext cx="3132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师恩如海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4140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700280"/>
            <a:ext cx="341964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619720" cy="361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781200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76360" y="0"/>
            <a:ext cx="7667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101080" y="5445000"/>
            <a:ext cx="71424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075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面对挫折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为我定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当凌绝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览众山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人生目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励树立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风破浪会有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挂云帆济沧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执着信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教会了我文天祥那舍身为国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生自古谁无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留取丹心照汗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伟大的民族气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教会了我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孔曰成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曰取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对困难大义凛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更教会了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富贵不能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贫贱不能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威武不能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高风亮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尺讲台迎冬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腔热血与春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对您勤劳的最好诠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蚕到死丝方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炬成灰泪始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对您那默默无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私奉献的真实写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兢兢业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辞辛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我们以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授我们以真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动之情怎能用语言来表达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我是那不起眼的火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用知识的火焰为我点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我大放异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我是那微小的船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给我前进的动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我乘风破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我是那希望的种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播种了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我长成参天大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您引领我寻找知识的源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您教会我做人的真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所有的感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作我向前的无形动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许将来我远走他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我永远是您的学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会铭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师恩如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572680" y="1773360"/>
            <a:ext cx="571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762120" cy="2381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381880" y="2205000"/>
            <a:ext cx="762120" cy="2390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们的成长历程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伴随着浓浓的师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就是严冬中的炭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酷暑里的浓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湍流中的绊脚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雾海中的航标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用知识的甘露孕育鲜美的硕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心灵的清泉滋润理想的花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是我们学习的指导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用渊博的知识和创造性的劳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帮助我们掌握科学文化和技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养我们的创新意识和实践能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给我们科学的思维方法和学习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学习的金钥匙支配到我们的手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我们学会学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是我们成长道路上了引路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教我们学会做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做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我们走好人生之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门遇到挫折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帮我们撑起前进的风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们遇到困惑和迷茫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为我们指点迷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们取得成绩不骄傲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及时点拨让我清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离不开老师的指点和帮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捧着一颗心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带半根草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就是老师诲人不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私奉献精神的体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爱是超凡脱俗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无私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爱给了我们温暖和力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促使每一个学习不断的实现自己的追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达到理想的彼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32000" y="476280"/>
            <a:ext cx="273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爱我师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793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是人类文明的传播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人类社会文化的积累和传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继承和发扬发挥了特殊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可替代的作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誉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类灵魂的工程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育了一代一代的新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尊重老师的劳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是一种很细致的脑力劳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为此付出了大量的时间和精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心设计每一个教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真上好每一节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仔细批改每一份作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工作是辛苦而有繁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努力学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奋发向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样虚心听取老师的教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对待老师提出的要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真诚地接受老师的批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自己不断进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之以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学奋进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做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做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共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求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2160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99640" y="836640"/>
            <a:ext cx="6923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亲爱的老师，您是辛勤的园丁。您用真情传播着智慧的火种，您用友爱缩短着心与心的路程。你是那阳光融化冷漠的雪冰，您用充满感性的语言在我们心灵播种知识，粉尘飞舞间从此放飞希望。三尺讲台一展抱负与理想，教鞭起落绘起一片宏伟蓝图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亲爱的老师，您是辛勤的园丁。您使玫瑰更鲜艳，百合更纯洁，使幼小的我们变得强壮。世人赞颂您是蜡烛，为我们燃烧着亮丽的生命；世人赞颂您是秒针，默默无闻地辛勤工作着。老师，您那无私的爱让世界变得更美丽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亲爱的老师，您是辛勤的园丁。您培养了千万个祖国的栋梁，世界的精英；您教会了祖国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会了世界知识；祖国要感谢您，世界要感谢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的精神应当得到永世的流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32000" y="1483920"/>
            <a:ext cx="6983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亲爱的老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是辛勤的园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光下，我总看到您疲惫的影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灯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总看到您疲惫的双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课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总看到您活跃的身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教会我们学习，教会我们生活，教会我们为人处事，教会我们要以热情对待每件事。您用知识甘露，浇开我们理想的花朵；您用心灵的清泉，润育我们情操的美果。老师，谢谢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亲爱的老师，您是辛勤的园丁。每当我们成功，您和我们一样喜悦；每当我们失败，您努力地安慰我们，使我们得到勇气与希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加减乘除，算不尽您作出的奉献！诗歌歌赋，颂不完对您的崇敬！在这不寻常的节日里，献上我深深的祝福！我亲爱的老师，愿春天永远与您同在！阳光普照，园丁心坎春意暖；雨露滋润，桃李枝头蓓蕾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51280" y="33336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867280" y="333360"/>
            <a:ext cx="935280" cy="101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859280" y="33336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771640" y="404640"/>
            <a:ext cx="93528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692360" y="476280"/>
            <a:ext cx="934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早霜将您的黑发打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用它染浓了黑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课业多的让您挥汗如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用它灌溉了幼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情的板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擦去了您年轻的容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雪白的粉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勾勒了您的皱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苦的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一字一句不辞辛苦的教导我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苦的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一点一滴不辞辛苦的为我们奉献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苦的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当我们偏离轨道时对我们的矫正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使感恩上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上帝赐予它纯洁的心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感恩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老师交给我们理想大门的钥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，我们的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您为我们所作的一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5400000">
            <a:off x="7056000" y="2744640"/>
            <a:ext cx="2736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恩老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 rot="20689800">
            <a:off x="4793760" y="1055520"/>
            <a:ext cx="3527640" cy="1500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4157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419640" y="476892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300720" y="5229360"/>
            <a:ext cx="1452600" cy="162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4932360" y="5013360"/>
            <a:ext cx="1670040" cy="184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752472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763640" y="448164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大爱无言，母爱如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曾经流传着这样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/>
              </a:rPr>
              <a:t>故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每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母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曾经都是一个漂亮的仙女，有一件漂亮的衣裳。当她们决定要做某个孩子的母亲，呵护某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生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时候，就会褪去这件衣裳，变成一个普通的女子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平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奇，一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亲唯一一张年轻时的照片被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姐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心翼翼地珍藏在相册里。母亲已走过了四十多个春秋，却没有拍过几张真正的照片，家里的相册满满一本的都是我和姐姐跟同学的相片，而真正属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父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却是寥寥可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亲是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拥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个孩子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女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曾几何时我们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童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都是在母亲的臂弯里度过的，我们在母亲的怀里拥有了一个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快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美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童年，却不知道留给年轻母亲的是多重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/>
              </a:rPr>
              <a:t>生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母亲不知道有母亲节这个节日，她只知道每年在我们三姐弟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生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那天都要煮上一碗热乎乎的鸡蛋面和春节前给我们准备的新衣裳。母亲一生中没有给自己买过几件新衣服，也从没有认认真真地给自己过生日。母亲一直在细致地操持着我们这个家，却从未细致地为自己着想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二那年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工伤住院，母亲一个人里里外外照料了大半年，在我们感到生活的负担突然压下来的时候，是母亲用她柔弱的身子为我们扛起了一片晴朗的天空。我想母亲是从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相信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命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，因为她总是在和生活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挫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着最艰辛，最顽强的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今，母亲曾经的美好容颜已经消失殆尽，岁月留给她的是一脸深浅不一的沟壑，和风霜摧残后瘦弱，多病的身子。当我们越来越健壮的时候，母亲却在岁月的蹂躏中越来越瘦小。我想这应该就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母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好诠释，朴素而深沉的一种付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姐姐每次回家总要让母亲做一些家乡的食物，每每这样，母亲总会高兴地答应着，满足我们各种各样的要求。我想，大爱无言！母亲对于我们，并不要求什么，她最大的希望只不过是儿女的平安，她从不向我们索取什么，相反地总是在我们的索取中感到异常的幸福而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姐弟三人中，属弟弟个性最要强，老弟总会惹是生非，每每都要让母亲生气，母亲每次打他的时候我都看到母亲眼里蒙上的薄雾，我知道母亲是心疼的，虽然每每打弟弟都很重，但我知道她的心里更是不好受。现在，弟弟长大懂事了，在外打工，也寄钱回家，母亲心里该是踏实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异地求学的日子，很难再见到母亲。清明节回了一趟家，知道母亲在一家工厂做包袋，晚上经常熬夜加班，我知道母亲的身子不行，总希望她换回原来的工作。劝母亲多吃一点好的，她总是不愿，我知道她是舍不得那点钱，为了这个家，为了他儿子的学业，母亲总是这样虐待自己的身子，忽视自己的健康，却还一直担心自己儿子是否吃好，穿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亲和姐姐都是属虎的。姐姐已将近谈婚论嫁的年龄，母亲希望姐姐能够找到自己的好归宿，却不希望姐姐嫁给属兔的男生。我想原因在于母亲害怕姐姐向她一样，不希望姐姐向她一样活得那么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想过去，母亲为我们做的事情数不胜数，而我们真正为母亲做的却微乎其微。现在能为母亲做的事就是活得好好的，好好的，让母亲少一份担心，少一份牵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母亲还是会一直站在我生命的最高点，为我默默地指引着人生的道路，我在母亲的指引中学会了审视生命的高度，母亲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爱无言，母爱如水，这种爱，温柔而深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5:12:56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43:31Z</dcterms:modified>
  <cp:revision>13</cp:revision>
  <dc:subject>主题班会课件(分28大类): http://shop62905894.taobao.com</dc:subject>
  <dc:title>主题班会课件(分28大类): http://shop62905894.taobao.com</dc:title>
</cp:coreProperties>
</file>