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2AF-34EE-4EC0-A0D3-1E6EFD66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FEC-EBF5-4EF5-AEB5-21B66B48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6DB-F230-4149-BBEA-B716BAC1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025-7D3A-4B93-91F8-97131185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81C-0134-4D20-9E7A-67036FAC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A12-9828-4F9E-A21F-0B901598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7DF-C1C8-46C7-927E-8A511E2C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66D-C6E3-4456-A135-ACF78380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A9D-9897-4A73-A0A6-F1D4E97B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444-FE14-4850-848A-C6BE8E8A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0B7-86F1-4A66-BC0F-ED329B4D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3A2-76B5-4CA2-A62C-7620E28B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EDA7-368C-4050-87B8-EAA95EA9B7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1989000"/>
            <a:ext cx="4535640" cy="12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爱的  体验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177336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ungsuh"/>
                <a:ea typeface="Gungsuh"/>
              </a:rPr>
              <a:t> </a:t>
            </a:r>
            <a:r>
              <a:rPr b="0" lang="en-US" sz="9600" spc="-1" strike="noStrike">
                <a:solidFill>
                  <a:srgbClr val="ff0000"/>
                </a:solidFill>
                <a:latin typeface="Gungsuh"/>
                <a:ea typeface="Gungsuh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95640" y="2060640"/>
            <a:ext cx="289080" cy="217440"/>
          </a:xfrm>
          <a:custGeom>
            <a:avLst/>
            <a:gdLst>
              <a:gd name="textAreaLeft" fmla="*/ 67680 w 289080"/>
              <a:gd name="textAreaRight" fmla="*/ 221040 w 28908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2360" y="274680"/>
            <a:ext cx="3643200" cy="2727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724360" y="549360"/>
            <a:ext cx="7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应晖的遗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357336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如果我治不好了，我只有一点遗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父母照顾我这么久，我没机会报答他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爱要说出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561440" cy="25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爸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儿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儿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希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7640" y="5661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8406"/>
                </a:moveTo>
                <a:lnTo>
                  <a:pt x="8296" y="8406"/>
                </a:lnTo>
                <a:lnTo>
                  <a:pt x="12717" y="3794"/>
                </a:lnTo>
                <a:lnTo>
                  <a:pt x="12717" y="17806"/>
                </a:lnTo>
                <a:lnTo>
                  <a:pt x="8296" y="13194"/>
                </a:lnTo>
                <a:lnTo>
                  <a:pt x="3865" y="13194"/>
                </a:lnTo>
                <a:close/>
              </a:path>
              <a:path fill="darken" w="21744" h="21600">
                <a:moveTo>
                  <a:pt x="14371" y="10800"/>
                </a:moveTo>
                <a:lnTo>
                  <a:pt x="17878" y="10800"/>
                </a:lnTo>
              </a:path>
              <a:path fill="darken" w="21744" h="21600">
                <a:moveTo>
                  <a:pt x="14371" y="8406"/>
                </a:moveTo>
                <a:lnTo>
                  <a:pt x="17878" y="5639"/>
                </a:lnTo>
              </a:path>
              <a:path fill="darken" w="21744" h="21600">
                <a:moveTo>
                  <a:pt x="14371" y="13194"/>
                </a:moveTo>
                <a:lnTo>
                  <a:pt x="17878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1253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F     A     M    I     L    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ather and  mother  I    love  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453960"/>
            <a:ext cx="7345440" cy="550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2010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71360" y="126720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需要你任何努力就能轻易获得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5040" y="25642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觉得你理所当然的应该得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8520" y="369720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的你们现在会把它看作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的烦恼想急于摆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32600" y="333360"/>
            <a:ext cx="45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活动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844640"/>
            <a:ext cx="683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动规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男生女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队进行比赛，用生活中的事实来描述父母对自己的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实生动者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47600" y="3716280"/>
            <a:ext cx="35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感动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温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快乐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幸幸福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2200" y="829080"/>
            <a:ext cx="65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::where are you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: going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: with wh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: its none of your buniness,o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: what you goanna do l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: stop acting like you care about me,, s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cting like you want to know some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bout me,…You don’t care! Stop asking!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摔门而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: I 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85080" y="566100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8406"/>
                </a:moveTo>
                <a:lnTo>
                  <a:pt x="13570" y="8406"/>
                </a:lnTo>
                <a:lnTo>
                  <a:pt x="17991" y="3794"/>
                </a:lnTo>
                <a:lnTo>
                  <a:pt x="17991" y="17806"/>
                </a:lnTo>
                <a:lnTo>
                  <a:pt x="13570" y="13194"/>
                </a:lnTo>
                <a:lnTo>
                  <a:pt x="9140" y="13194"/>
                </a:lnTo>
                <a:close/>
              </a:path>
              <a:path fill="darken" w="32293" h="21600">
                <a:moveTo>
                  <a:pt x="19645" y="10800"/>
                </a:moveTo>
                <a:lnTo>
                  <a:pt x="23153" y="10800"/>
                </a:lnTo>
              </a:path>
              <a:path fill="darken" w="32293" h="21600">
                <a:moveTo>
                  <a:pt x="19645" y="8406"/>
                </a:moveTo>
                <a:lnTo>
                  <a:pt x="23153" y="5639"/>
                </a:lnTo>
              </a:path>
              <a:path fill="darken" w="32293" h="21600">
                <a:moveTo>
                  <a:pt x="19645" y="13194"/>
                </a:moveTo>
                <a:lnTo>
                  <a:pt x="23153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59640" y="5589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53280" y="40766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话前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有什么样的故事发生呢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66040" y="50655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烦躁，郁闷，愤怒，委屈，伤心</a:t>
            </a: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755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40464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我好想回到过去看你微笑摸摸我的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课本写说你们应是我最好的朋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如果换个公式我祈祷不同故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每次我想更懂你我们却更有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是不是都用错言语也用错了表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其实我想更懂你不是为了抓紧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我只是怕你会忘记有人永远爱着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每次我想更懂你我们却更有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是不是都用错言语也用错了表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其实我想更懂你不是为了抓紧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我只是怕你会忘记有人永远爱着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2924280"/>
            <a:ext cx="11512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860640"/>
            <a:ext cx="352872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7596360" y="566100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1125360"/>
            <a:ext cx="1009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PMingLiU"/>
              </a:rPr>
              <a:t>沟通秘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想更懂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3640" y="3665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77840" y="378936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怕你会忘记有人爱着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怕你不爱他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532720" y="580536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0:41:32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11:27Z</dcterms:modified>
  <cp:revision>21</cp:revision>
  <dc:subject>主题班会课件(分28大类): http://shop62905894.taobao.com</dc:subject>
  <dc:title>主题班会课件(分28大类): http://shop62905894.taobao.com</dc:title>
</cp:coreProperties>
</file>