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6.gif" ContentType="image/gif"/>
  <Override PartName="/ppt/media/image11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2EE-D0B1-4812-B5A5-F3BE82CB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FFE-1711-4F03-9489-9612FA67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AD7-308F-453F-8EB0-F9CF8597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918-23CF-4175-BF00-EA9C01F2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932-D883-4610-9D36-EC6D7B6C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CDE-34DC-4339-8166-17B9A1D1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6BD-6AEE-496F-80C2-4CD6690A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DE1-9A16-46D6-9604-A356765B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895-9DA1-463C-9331-887B6FD0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D2F-D2FD-4563-A6FA-7B3E241D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FF18-93C7-4207-8C3B-6E42148B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F05-3A96-4FC4-AB10-99C71A9C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CBFF-823D-4601-84E8-89EE49D4AF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92360" y="429264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珍惜亲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24000" y="2133720"/>
            <a:ext cx="4535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3300"/>
                </a:solidFill>
                <a:latin typeface="宋体"/>
              </a:rPr>
              <a:t>走近父母</a:t>
            </a:r>
            <a:endParaRPr b="0" lang="en-US" sz="4400" spc="1" strike="noStrike">
              <a:ln w="9360">
                <a:solidFill>
                  <a:srgbClr val="990099"/>
                </a:solidFill>
                <a:miter/>
              </a:ln>
              <a:solidFill>
                <a:srgbClr val="99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0" y="9144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采    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2276640"/>
            <a:ext cx="62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知道父母的生日吗？每年父母的生日你会怎样做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父母为你做的哪一件事最让你感动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38280" y="2462040"/>
            <a:ext cx="419112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050920" y="2349360"/>
            <a:ext cx="5432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欣赏歌曲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念亲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40000" y="3860640"/>
            <a:ext cx="46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三、孝道之“星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134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星”者，模范也。选举，需要规则。凡符合以下要求者均可参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班内评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认真完成校方规定的“六个一”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能够真正尊重父母，尽量理解父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在平时生活中开支合理，不乱花钱，珍惜物品，不浪费粮食，节约勤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、在学习中持之以恒、迎难而上，能以刻苦求学报答父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为人处事谦和有礼，尊老爱幼，尊敬师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7120" y="6257880"/>
            <a:ext cx="6213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学校要求，每班选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参加校内评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105264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四、回报父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2276640"/>
            <a:ext cx="69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父母是阳光，我们是花草，那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健康成长，茁壮挺拔就是对他们的回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父母是海洋，我们是鱼儿，那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稳健矫捷，乘风破浪就是对他们的报答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为学生，我们该怎样报答父母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5280" y="18900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班主任寄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7000"/>
            <a:ext cx="7772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341360"/>
            <a:ext cx="79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位家长写道：“孝心的表现是多方面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努力学习，合理用钱是其中之一。文明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礼将来想必也是有孝心的表现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的，一个人如果有孝顺父母之心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就会有仁爱之心，感恩之心和珍惜之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民族传统美德，在今天依然会有它的现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义。希望每一个同学都能心怀感激，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父母，并且用自己的刻苦努力、勤勉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来报答父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638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2952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心理测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公司有位靓女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靓仔不小心打烂会客室的花瓶，这时你刚好走进来见到，你有何高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跟秘书谈谈，她会替你解决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要紧，我替你想办法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坏了就坏了，管它的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董事长人很好，道个歉就行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只花瓶要好几万，真糟糕。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24360" y="907920"/>
            <a:ext cx="46483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人际关系的测试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测试结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51280" y="3068280"/>
            <a:ext cx="471312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人谨慎，凡事会三思而行。表现欲望有时因自我膨胀而弄巧成拙。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047760" cy="46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16000" y="3573360"/>
            <a:ext cx="2808360" cy="2743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4280" y="644040"/>
            <a:ext cx="399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测试结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活泼型，社交力强，很得人缘。考虑周到受人倚重。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37000" y="2446200"/>
            <a:ext cx="3540240" cy="3127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24000" y="764640"/>
            <a:ext cx="427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测试结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恃高，不愿受人指使。不适合团队合作，是独当一面的行动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1840" y="2373480"/>
            <a:ext cx="3816360" cy="33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1981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一、一个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5105520"/>
            <a:ext cx="31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五、班主任寄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4267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四、回报父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24360" y="35002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、孝道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2666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二、感激父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990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方正中倩简体"/>
              </a:rPr>
              <a:t>班会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7760" y="644040"/>
            <a:ext cx="419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测试结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非常浪漫，美的感觉特别强。思考直觉型，易情绪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1840" y="2373480"/>
            <a:ext cx="381636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72920" y="644040"/>
            <a:ext cx="3605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测试结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148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经常急躁，怨恨不满，重财轻义，人际关系不够圆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373480"/>
            <a:ext cx="3816360" cy="33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-0.00278 -0.0148 C 0.00417 -0.02822 0.01129 -0.04279 0.01823 -0.06152 C 0.03715 -0.11471 0.04219 -0.16674 0.0283 -0.17484 C 0.01424 -0.18409 -0.01285 -0.14686 -0.03177 -0.09343 C -0.04184 -0.06545 -0.04774 -0.03885 -0.04983 -0.01873 C -0.05278 -0.00278 -0.05382 0.01318 -0.05382 0.03191 C -0.05382 0.09181 -0.0408 0.1413 -0.02569 0.1413 C -0.01076 0.1413 0.00226 0.09181 0.00226 0.03191 C 0.00226 0.00393 -0.00069 -0.0229 -0.00573 -0.0414 C -0.00781 -0.05759 -0.01285 -0.0747 -0.01875 -0.09205 C -0.03871 -0.14686 -0.0658 -0.18409 -0.07986 -0.17484 C -0.09375 -0.16536 -0.08871 -0.11471 -0.06875 -0.06013 C -0.06076 -0.03469 -0.04983 -0.01341 -0.03871 0.00116 C -0.03073 0.01457 -0.0217 0.02659 -0.00972 0.03862 C 0.02622 0.07724 0.06215 0.09459 0.07222 0.07863 C 0.08125 0.06244 0.06129 0.0185 0.02517 -0.01873 C 0.01024 -0.03469 -0.00573 -0.04672 -0.01875 -0.05481 C -0.03073 -0.06291 -0.04583 -0.06961 -0.0618 -0.07378 C -0.10573 -0.08673 -0.14375 -0.08279 -0.1467 -0.06152 C -0.15069 -0.0414 -0.11771 -0.0148 -0.07378 -0.00139 C -0.05382 0.00393 -0.03472 0.00647 -0.01979 0.00509 C -0.00677 0.00509 0.00729 0.00254 0.02222 -0.00139 C 0.06615 -0.0148 0.09931 -0.04279 0.09514 -0.06291 C 0.09219 -0.08279 0.05417 -0.08811 0.01024 -0.0747 C -0.01076 -0.06823 -0.02986 -0.05874 -0.04271 -0.0481 C -0.05382 -0.04024 -0.06476 -0.03076 -0.07674 -0.01873 C -0.1118 0.01989 -0.13281 0.06244 -0.12274 0.07863 C -0.11371 0.09459 -0.07674 0.07724 -0.04184 0.03955 C -0.02483 0.02128 -0.01076 0.00254 -0.00278 -0.0148 Z">
                                      <p:cBhvr>
                                        <p:cTn id="149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7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contrast="24000"/>
          </a:blip>
          <a:srcRect l="0" t="0" r="5924" b="0"/>
          <a:stretch/>
        </p:blipFill>
        <p:spPr>
          <a:xfrm>
            <a:off x="6272280" y="0"/>
            <a:ext cx="2871720" cy="2008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6912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人与人之间的沟通的重要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77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人际关系对我们是十分重要的。我们之所以要同其他人建立关系，至少有三个原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cc"/>
                </a:solidFill>
                <a:latin typeface="新宋体"/>
                <a:ea typeface="新宋体"/>
              </a:rPr>
              <a:t>了解自己，增强良好的自我感觉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新宋体"/>
                <a:ea typeface="新宋体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新宋体"/>
                <a:ea typeface="新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新宋体"/>
                <a:ea typeface="新宋体"/>
              </a:rPr>
              <a:t>控制周围的环境，以对付环境的变化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新宋体"/>
                <a:ea typeface="新宋体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新宋体"/>
                <a:ea typeface="新宋体"/>
              </a:rPr>
              <a:t>3.</a:t>
            </a:r>
            <a:r>
              <a:rPr b="1" lang="zh-CN" sz="3600" spc="-1" strike="noStrike">
                <a:solidFill>
                  <a:srgbClr val="0000cc"/>
                </a:solidFill>
                <a:latin typeface="新宋体"/>
                <a:ea typeface="新宋体"/>
              </a:rPr>
              <a:t>增加愉快的积极的经验，减少痛苦的，消极的教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7058160" cy="5306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172404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 家 人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3640" y="4220640"/>
            <a:ext cx="784836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     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只有团结合作，搞好队友们之间的关系，才能获得成就，走向成功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696000" cy="39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295200" y="173160"/>
            <a:ext cx="9734400" cy="6510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生活中，最打动人心的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请吃一碗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天，佳芬跟妈妈吵架之后什么都没带，就只身往外跑。 可是，走了一段路，佳芬发现，她身上竟然一毛钱都没带！她走着走着肚子饿了，看到前面有个面摊，香喷喷的，好想吃！可是，她没钱。过一会儿，面摊老板看到佳芬还站在那边，久久没离去，就问：「小姐，请问你是不是要吃面？」 「可是……可是我忘了带钱。」佳芬不好意思地回答。 面摊老板热心地说：「没关系，我可以请你吃呀！来，我下碗馄饨面给你吃！」 不久，老板端来面和一些小菜。佳芬吃了几口，竟然掉下眼泪来。 「小姐，你怎么了？」老板问。 「没有啊，我只是很感激！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佳芬擦着泪水，对老板说道：「我们又不认识，只不过在路上看到我，你就对我这么好，愿意煮面给我吃！可是……我自己的妈妈，我跟她吵架，她竟然把我赶出来，还叫我不要再回去！……你是陌生人都能对我这么好，而我自己的妈妈，竟然对我这么绝情！……」 老板听了，委婉地说道：「小姐，你怎么会这样想呢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你想想看，我不过煮一碗面给你吃，你就这么感激我，那你自己的妈妈，煮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10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多年的面和饭给你吃，你怎么不感激她呢？你怎么还可以跟她吵架？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佳芬一听，整个人愣住了！是呀，陌生人请吃一碗面，我都那么感激，而我妈一个人辛苦地养育我，也煮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年的面和饭给我吃，我怎么没有感激她呢？而且，只为了小小的事，就和妈妈大吵一架。匆匆吃完面后，佳芬鼓起勇气，往家的方向走，她好想真心地对妈妈说：「妈妈，对不起，我错了！」 当佳芬走到家巷口时，看到疲惫、焦急的母亲，正在四处张望……看到佳芬时，妈妈就先开口说：「阿芬呀，赶快回家吧！我饭都已经煮好，你再不赶快回去吃，菜都凉了！」 此时，佳芬的眼泪夺眶而出……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有时候，我们很容易对别人给予的小惠「感激不尽」，却对父母、亲人，一辈子的似海恩情熟视无睹，未曾感念过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1915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、感激父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40464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Mother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词是可以这样解释的：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112536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M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man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妈妈给了我很多很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1773360"/>
            <a:ext cx="759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O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ol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妈妈为我操心，白发已爬上了您的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5720" y="2565360"/>
            <a:ext cx="39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T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tears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）您为我流过不少泪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87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328464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  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H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heart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）您有一颗慈祥温暖的心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75720" y="4005360"/>
            <a:ext cx="472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E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eyes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）您注视我的目光总是充满着爱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6320" y="4724280"/>
            <a:ext cx="484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R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right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）您从不欺骗我们，教导我们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做正确的事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00:29:58Z</dcterms:created>
  <dc:creator>主题班会课件(分28大类): http://shop62905894.taobao.com</dc:creator>
  <dc:description>书利华教育网 www.ShuLiHua.Net</dc:description>
  <cp:keywords>主题班会课件(分28大类): http://shop62905894.taobao.com</cp:keywords>
  <dc:language>en-US</dc:language>
  <cp:lastModifiedBy>User</cp:lastModifiedBy>
  <dcterms:modified xsi:type="dcterms:W3CDTF">2013-04-13T16:50:30Z</dcterms:modified>
  <cp:revision>84</cp:revision>
  <dc:subject>主题班会课件(分28大类): http://shop62905894.taobao.com</dc:subject>
  <dc:title>主题班会课件(分28大类): http://shop62905894.taobao.com</dc:title>
</cp:coreProperties>
</file>