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17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24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31.gif" ContentType="image/gif"/>
  <Override PartName="/ppt/media/image11.png" ContentType="image/png"/>
  <Override PartName="/ppt/media/image9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213-7D13-4527-8223-1A6AC7F1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CDE-5B05-43D8-849F-99EB3FFC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9C2-4C6C-4551-9969-6A1690E7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1B8-D224-4310-A125-7FE4CFAE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2E71-E27A-4045-8804-81DDE8A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562-3B64-479B-AB72-1F92347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4858-3135-40D3-A040-95F6519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812-9665-4478-83DA-9C369C33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719-741B-4782-85CF-15C1DAA7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A05-B72C-471A-8B73-87CCC60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270-1E52-4936-8250-79FE7EE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A27-4914-4C93-B5AD-8A9CA05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D2FB-85B4-4570-929A-B723A70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048-3EB6-4DAF-AC76-BEDE74C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FEA-766B-404A-92B5-79426E7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B94-3022-4AEE-9522-BBB2353D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17BF-68C0-46C7-949C-5EAD253D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006-CFC3-4267-8505-88D4A9B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355-8BBA-4798-B69A-82DB6EA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1D1-92AB-4BF1-98D1-FB02B0C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823-6AD6-4820-855C-EDF24D7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F74-CAA4-423A-AA21-70875C6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713-9F44-4003-8135-0E40B90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CDE-88C9-41C3-AB71-B00BF9A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40A-92E6-457E-97FB-44D5AC76CA13}" type="slidenum">
              <a:rPr b="0" lang="zh-CN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2642-7CFC-4F50-86FC-6D1191BC3071}" type="slidenum">
              <a:rPr b="0" lang="zh-CN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0" t="0" r="0" b="2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0"/>
            <a:ext cx="510552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你静静地离去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一步一步孤独的背影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多想伴着你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告诉我心里多么地爱你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花静静地绽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在我忽然想的夜里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我想告诉你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其实你一直都是我的奇迹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一年一年风霜遮盖了笑颜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你寂寞的心有谁还能够体会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是不是春花秋月无情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春来秋去你的爱已无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把爱全给了我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把世界给了我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从此不知你心中苦与乐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多想靠近你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告诉你我其实一直都懂你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多想告诉你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你的寂寞我的心痛在一起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 rot="5400000">
            <a:off x="-682200" y="2289960"/>
            <a:ext cx="292572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2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80"/>
                  </a:outerShdw>
                </a:effectLst>
                <a:latin typeface="华文新魏"/>
              </a:rPr>
              <a:t>懂你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53753" dir="2700000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848720" y="58672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57150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们也曾经感受过母亲的爱抚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5943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6095880"/>
            <a:ext cx="883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们也曾经感受过父亲的嬉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1752480" y="-380880"/>
            <a:ext cx="8305560" cy="7467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465240" y="228600"/>
            <a:ext cx="2373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母爱似水，举手之间滋润我们心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524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880520" y="533520"/>
            <a:ext cx="3837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父爱如山，宽阔的肩膀托起我们的身躯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5280" y="5805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母亲想让我们笑得更灿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6659640" cy="7921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713720" y="692280"/>
            <a:ext cx="458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8480" y="304920"/>
            <a:ext cx="292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父亲想让我们飞得更高远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5580000" cy="724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190560" y="620640"/>
            <a:ext cx="2191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父亲曾陪我们看书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5877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母亲曾背着我们劳作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7093080" cy="9753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770160" y="0"/>
            <a:ext cx="23738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我们熟睡时，母亲也舍不得把我们放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871240" y="228600"/>
            <a:ext cx="29235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我们痛哭时，父亲给我们拭去泪花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8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f1311"/>
                </a:solidFill>
                <a:latin typeface="Arial"/>
                <a:ea typeface="黑体"/>
              </a:rPr>
              <a:t>感悟母爱    学会感恩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5943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父亲也曾背着我们来上学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656680" y="609480"/>
            <a:ext cx="26492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母亲也曾陪着我们做作业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03280" y="476280"/>
            <a:ext cx="6408720" cy="1944720"/>
          </a:xfrm>
          <a:prstGeom prst="cloudCallout">
            <a:avLst>
              <a:gd name="adj1" fmla="val -45365"/>
              <a:gd name="adj2" fmla="val 16694"/>
            </a:avLst>
          </a:prstGeom>
          <a:solidFill>
            <a:srgbClr val="ffff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43280" y="76500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可现在怎么了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213000"/>
            <a:ext cx="5184720" cy="3168720"/>
          </a:xfrm>
          <a:prstGeom prst="wedgeEllipseCallout">
            <a:avLst>
              <a:gd name="adj1" fmla="val -63041"/>
              <a:gd name="adj2" fmla="val -68638"/>
            </a:avLst>
          </a:prstGeom>
          <a:solidFill>
            <a:srgbClr val="ff99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Arial"/>
                <a:ea typeface="黑体"/>
              </a:rPr>
              <a:t>跟父母的埋怨多了，跟父母的沟通也少了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64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"/>
          <p:cNvSpPr/>
          <p:nvPr/>
        </p:nvSpPr>
        <p:spPr>
          <a:xfrm>
            <a:off x="2843280" y="2205000"/>
            <a:ext cx="583236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我与父母的沟通有没有出现问题？怎样的情形？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4005360"/>
            <a:ext cx="7993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我在家里最经常对父母说的话是什么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父母经常对我说的话是什么？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63640" y="2060640"/>
            <a:ext cx="58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是什么使我们疏远了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68580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还能亲密如初吗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057400"/>
            <a:ext cx="5410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讨论：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有什么方法能让我们更好地沟通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我做什么爸爸妈妈最高兴？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438280" y="1295280"/>
            <a:ext cx="4191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回家端一杯茶水，向父母真挚地道一声“谢谢”，并为他们锤锤背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以实际的行动埋头苦学做到少让父母操心，多让父母高兴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133720" y="1197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给父母写一封信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每人给父母写一封信，在信中要写以下内容：一是表达对父母养育自己的感恩之情；二是总结自己开学以来的学习情况；三是明确自己的奋斗目标（高考目标）和短期的学习目标（期中考试）；四是制定实现目标的计划和具体措施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609480"/>
            <a:ext cx="7696080" cy="2837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亲情是在我饥肠辘辘时母亲端上的一碗蛋炒饭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亲情是在我犯错时父亲愤怒举起又轻轻落下的手掌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亲情是在父母疲惫时我双手送上的一盏清心的茶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562720"/>
            <a:ext cx="7543800" cy="642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亲情是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_______________________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时间，不知何时把幼年拉着母亲的手的触觉偷走了，那种细腻光滑的手还留存在记忆里，却只留存在记忆里了；母亲那曾经流转如珍珠的眼眸现在也如同摩擦久了的琉璃珠，黯淡了。因此我痛恨时光的流逝。而母亲却认为时光的流逝带给她的是无比的欣喜——看着我一点点地长大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我和爸爸都离不开妈妈，我们依赖她到了无可救药的地步。我们疼爱她的方式，便是将所有我们能做和她能做的事，都让她做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妈妈欣喜地看着我长大，如同我深切地看着她在衰老一样。</a:t>
            </a:r>
            <a:r>
              <a:rPr b="0" lang="zh-CN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如果把亲人的爱比作果汁粉，那生活就是一杯白开水。若两者比例恰当，便会调配出美味的果汁。只是有些人虽放了很多果汁粉，却没有给与相应的水，怎么搅拌，爱都不能溶化。还有的是，果汁粉和水都适量了，就是没有适时地搅拌，于是在品尝了太多的寡淡滋味之后，似乎习惯了这寡淡的味道，却不知，在杯底仍温存地在沉淀中等待着许多没有溶化的爱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这些亲情是浓缩于生活中的点点滴滴，她们在小事中发芽，在琐碎中成长。许多时候我们浑然不觉它的存在，而当我们有一天猛然回头寻找她们时，会意外地觅得一棵参天大树，她正在我们身旁，为我们遮风挡雨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方正超粗黑简体"/>
                <a:ea typeface="方正超粗黑简体"/>
              </a:rPr>
              <a:t>母亲的诠释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335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方正北魏楷书简体"/>
                <a:ea typeface="方正北魏楷书简体"/>
              </a:rPr>
              <a:t>仔细想想，原来</a:t>
            </a:r>
            <a:r>
              <a:rPr b="1" lang="zh-CN" sz="3200" spc="-1" strike="noStrike">
                <a:solidFill>
                  <a:srgbClr val="ff00ff"/>
                </a:solidFill>
                <a:latin typeface="方正北魏楷书简体"/>
                <a:ea typeface="方正北魏楷书简体"/>
              </a:rPr>
              <a:t>mother</a:t>
            </a:r>
            <a:r>
              <a:rPr b="1" lang="zh-CN" sz="3200" spc="-1" strike="noStrike">
                <a:solidFill>
                  <a:srgbClr val="ff00ff"/>
                </a:solidFill>
                <a:latin typeface="方正北魏楷书简体"/>
                <a:ea typeface="方正北魏楷书简体"/>
              </a:rPr>
              <a:t>一词是可以这样解释的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2f1311"/>
                </a:solidFill>
                <a:latin typeface="宋体"/>
              </a:rPr>
              <a:t>  </a:t>
            </a:r>
            <a:r>
              <a:rPr b="1" lang="zh-CN" sz="3200" spc="-1" strike="noStrike">
                <a:solidFill>
                  <a:srgbClr val="2f1311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any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妈妈给了我很多很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2f1311"/>
                </a:solidFill>
                <a:latin typeface="宋体"/>
              </a:rPr>
              <a:t>   </a:t>
            </a:r>
            <a:r>
              <a:rPr b="1" lang="zh-CN" sz="3200" spc="-1" strike="noStrike">
                <a:solidFill>
                  <a:srgbClr val="ff8000"/>
                </a:solidFill>
                <a:latin typeface="宋体"/>
              </a:rPr>
              <a:t>O </a:t>
            </a:r>
            <a:r>
              <a:rPr b="1" lang="zh-CN" sz="3200" spc="-1" strike="noStrike">
                <a:solidFill>
                  <a:srgbClr val="ff8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8000"/>
                </a:solidFill>
                <a:latin typeface="宋体"/>
              </a:rPr>
              <a:t>old</a:t>
            </a:r>
            <a:r>
              <a:rPr b="1" lang="zh-CN" sz="3200" spc="-1" strike="noStrike">
                <a:solidFill>
                  <a:srgbClr val="ff8000"/>
                </a:solidFill>
                <a:latin typeface="宋体"/>
              </a:rPr>
              <a:t>）妈妈为我操心，白发已爬上了您的头</a:t>
            </a:r>
            <a:br>
              <a:rPr sz="3200"/>
            </a:br>
            <a:r>
              <a:rPr b="0" lang="zh-CN" sz="3200" spc="-1" strike="noStrike">
                <a:solidFill>
                  <a:srgbClr val="2f1311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T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tears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）您为我流过不少泪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71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  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H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heart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您有一颗慈祥温暖的心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E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eyes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您注视我的目光总是充满着爱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   </a:t>
            </a:r>
            <a:r>
              <a:rPr b="1" lang="zh-CN" sz="3200" spc="-1" strike="noStrike">
                <a:solidFill>
                  <a:srgbClr val="ff0080"/>
                </a:solidFill>
                <a:latin typeface="黑体"/>
                <a:ea typeface="黑体"/>
              </a:rPr>
              <a:t>R </a:t>
            </a:r>
            <a:r>
              <a:rPr b="1" lang="zh-CN" sz="3200" spc="-1" strike="noStrike">
                <a:solidFill>
                  <a:srgbClr val="ff008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80"/>
                </a:solidFill>
                <a:latin typeface="黑体"/>
                <a:ea typeface="黑体"/>
              </a:rPr>
              <a:t>right</a:t>
            </a:r>
            <a:r>
              <a:rPr b="1" lang="zh-CN" sz="3200" spc="-1" strike="noStrike">
                <a:solidFill>
                  <a:srgbClr val="ff0080"/>
                </a:solidFill>
                <a:latin typeface="黑体"/>
                <a:ea typeface="黑体"/>
              </a:rPr>
              <a:t>）您从不欺骗我们，教导我们去做正确的事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8360" y="260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你是否了解你妈妈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907920"/>
            <a:ext cx="79246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的生日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的体重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的身高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穿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码鞋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喜欢颜色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喜欢水果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喜欢的花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喜欢的日常消遣活动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609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、你妈妈经常用来教育你的口头禅是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2f1311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81480" y="1371600"/>
            <a:ext cx="3733920" cy="2362320"/>
            <a:chOff x="5181480" y="1371600"/>
            <a:chExt cx="3733920" cy="2362320"/>
          </a:xfrm>
        </p:grpSpPr>
        <p:sp>
          <p:nvSpPr>
            <p:cNvPr id="270" name=""/>
            <p:cNvSpPr/>
            <p:nvPr/>
          </p:nvSpPr>
          <p:spPr>
            <a:xfrm>
              <a:off x="5181480" y="1371600"/>
              <a:ext cx="3733920" cy="2362320"/>
            </a:xfrm>
            <a:prstGeom prst="rect">
              <a:avLst/>
            </a:prstGeom>
            <a:gradFill rotWithShape="0">
              <a:gsLst>
                <a:gs pos="0">
                  <a:srgbClr val="d5b781"/>
                </a:gs>
                <a:gs pos="50000">
                  <a:srgbClr val="c16059"/>
                </a:gs>
                <a:gs pos="100000">
                  <a:srgbClr val="d5b781"/>
                </a:gs>
              </a:gsLst>
              <a:lin ang="5400000"/>
            </a:gra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1371600"/>
              <a:ext cx="3657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请你如实回答。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有心的同学可以把答案写在一张纸寄给你妈妈评分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答对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题以下的请你以后多与妈妈沟通。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5280" y="2421000"/>
            <a:ext cx="83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在我四十岁以后，在我几十年雄心勃勃所从事的事业，爱情遭受到挫折和失意时，我才觉悟到做儿子的不是，母亲的伟大不仅生下了血肉的儿子，还在于她并不指望儿子的回报，不管儿子离她多远，她永远使儿子有亲情、有力量、有根有本。在人生的旅途上，母亲是加油站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                         —— 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贾平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62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人穷则反本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故劳苦倦极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未尝不呼天地也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疾痛惨怛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未尝不呼父母也</a:t>
            </a:r>
            <a:r>
              <a:rPr b="1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黑体"/>
                <a:ea typeface="黑体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1999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月，在贵州麻岭风景区，正在运行的缆车突然坠毁，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36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名乘客中有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14</a:t>
            </a:r>
            <a:r>
              <a:rPr b="1" lang="zh-CN" sz="3600" spc="-1" strike="noStrike">
                <a:solidFill>
                  <a:srgbClr val="2f1311"/>
                </a:solidFill>
                <a:latin typeface="黑体"/>
                <a:ea typeface="黑体"/>
              </a:rPr>
              <a:t>位不幸遇难。而就在缆车下滑即将坠地的那一瞬间，一对年轻的夫妇，（爸爸潘天奇和妈妈贺燕雯）用双手托起了自己两岁半的儿子。结果，儿子（潘子灏）得救了，这一对年轻的父母却失去了生命。潘子灏的生还，是他父母的双手托起的一个奇迹。在生和死的瞬间，父母想到的并不是自己，他们用双手把生的希望留给了儿子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03280" y="1268280"/>
            <a:ext cx="6408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无尽的爱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79280" y="3429000"/>
            <a:ext cx="864072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母爱，是人类一个亘古不变的主题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我们赋予它太多的诠释，也赋予它太多的内涵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没有历史史诗的撼人心魄，没有风卷大海的惊波逆转，母爱就象一场春雨，一首清歌，润物无声，绵长悠远。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1280" y="549360"/>
            <a:ext cx="734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在笔触下升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8640720" cy="15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29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人以母爱为题，写出的文章便滋润蕴籍；乐师以母爱为题，弹奏的曲调便清柔幽美，余韵绵绵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让我们展开岁月的长卷，拂去历史的烟尘，去感触这人间的真情，去解读母爱的缠绵。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03280" y="5013360"/>
            <a:ext cx="8640720" cy="1535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84360" y="210960"/>
            <a:ext cx="172692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920" y="171360"/>
            <a:ext cx="87138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f1311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日，四川北川县。抢救人员在废墟里发现一位年轻女性，她已经死了，是被垮塌下来的房子压死的，透过那一堆废墟的的间隙可以看到她死亡的姿势，双膝跪着，整个上身向前匍匐着，双手扶着地支撑着身体，有些象古人行跪拜礼，只是身体被压得变了形，看上去有些诡异。经过一番努力，人们小心地把挡着她的废墟清理开，意外地发现，在她的身体下面躺着她的孩子，包在一个红色带黄花的小被子里，大概有三四个月大，因为有母亲身体的庇护，他毫发未伤，抱出来的时候，他还安静的睡着。随行的医生过来解开被子准备做些检查，发现有一部手机塞在被子里，医生下意识的看了下手机屏幕，发现屏幕上是一条已经写好的短信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——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亲爱的宝贝，如果你能活着，一定要记住我爱你。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 rot="5400000">
            <a:off x="-1538640" y="3186000"/>
            <a:ext cx="42670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1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幼圆"/>
              </a:rPr>
              <a:t>课外扩展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1905120"/>
            <a:ext cx="624852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每个人设计一张卡片，内容：最想对父亲（母亲）说的一句话。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孩子</a:t>
            </a: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快抓紧妈妈的手</a:t>
            </a:r>
            <a:br>
              <a:rPr sz="3600"/>
            </a:b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      ——献给在四川大地震中遇难的孩子们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孩子，快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抓紧妈妈的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去天堂的路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太黑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妈妈怕你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碰了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快  抓紧妈妈的手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让妈妈陪你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28840" y="25142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妈妈，怕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天堂的路太黑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我看不见你的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自从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倒塌的墙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把阳光夺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我再也看不见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你柔情的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5652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ahoma"/>
              </a:rPr>
              <a:t>甲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288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ahoma"/>
              </a:rPr>
              <a:t>乙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孩子 </a:t>
            </a:r>
            <a:br>
              <a:rPr sz="3600"/>
            </a:b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你走吧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前面的路再也没有忧愁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没有读不完的课本和交不完的答卷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你要记住 </a:t>
            </a:r>
            <a:br>
              <a:rPr sz="3600"/>
            </a:b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我和爸爸的模样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来生 还要一起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716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妈妈，别担忧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天堂的路有些挤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有很多同学和朋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我们说不哭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哪一个人的妈妈都是我们的妈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哪一个人的孩子都是妈妈的孩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没有我的日子 </a:t>
            </a:r>
            <a:br>
              <a:rPr sz="3200"/>
            </a:b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你把爱给活着的孩子吧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妈妈，你别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泪光照亮不了我们的路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让我们自己慢慢地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04240" y="304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ahoma"/>
              </a:rPr>
              <a:t>甲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18320" y="304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ahoma"/>
              </a:rPr>
              <a:t>乙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04760" y="2808360"/>
            <a:ext cx="641196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妈妈 </a:t>
            </a:r>
            <a:br>
              <a:rPr sz="4000"/>
            </a:b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我会记住你和爸爸的模样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记住我们的约定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Arial"/>
              </a:rPr>
              <a:t>来生  一起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9440" y="114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ahoma"/>
              </a:rPr>
              <a:t>合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752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2f1311"/>
                </a:solidFill>
                <a:latin typeface="黑体"/>
                <a:ea typeface="黑体"/>
              </a:rPr>
              <a:t>然而，亲情更多的是表现在生活中的细节，只要我们细细品味，爱就时时溢满我们的心房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Arial"/>
              </a:rPr>
              <a:t>我们曾经如此幸福快乐</a:t>
            </a:r>
            <a:r>
              <a:rPr b="1" lang="zh-CN" sz="5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852640"/>
            <a:ext cx="7704360" cy="30258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回忆以前跟父母一起的快乐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时光，并跟同学们分享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1:38:30Z</dcterms:created>
  <dc:creator>主题班会课件(分28大类): http://shop62905894.taobao.com</dc:creator>
  <dc:description> </dc:description>
  <cp:keywords>主题班会课件(分28大类): http://shop62905894.taobao.com</cp:keywords>
  <dc:language>en-US</dc:language>
  <cp:lastModifiedBy>User</cp:lastModifiedBy>
  <dcterms:modified xsi:type="dcterms:W3CDTF">2013-04-13T17:08:57Z</dcterms:modified>
  <cp:revision>35</cp:revision>
  <dc:subject>主题班会课件(分28大类): http://shop62905894.taobao.com</dc:subject>
  <dc:title>主题班会课件(分28大类): http://shop62905894.taobao.com</dc:title>
</cp:coreProperties>
</file>