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27C-F6CD-425F-9C23-44BABB237A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尊师，是中华民族一个有着悠久历史的优良传统。古人说“天地君亲师”，讲究“一日为师，终身为父”，并且在拜师入门之时要行极其隆重的大礼，由此可见古人对老师的重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高为师，身正为范”，每一个能够承担起“老师”这一称呼的人，都会用这八个大字来要求自己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我国古代社会，天地君亲师是人们尊 崇的对象，对于师生礼节有着极其严格细致的要求。之所以如此，是因为古人认识到了尊师的重要性，《荀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略》中说：“国将兴，心贵师而重傅。”想必是对这一重要性最恰当的概括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有学会了尊师，才能获得个人、民族、国家长久的发展空间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在课堂上如何尊师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2007-6-27 9:17:0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来源：互联网 浏览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次 </a:t>
            </a: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  　　作者：李柠 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课堂是知识的殿堂，也是师生培养感情的主要场所。古人云“不敬三师，是为忘恩，何能称道？”尊师重教是我们中华民族的传统美德，怀着一份感恩之情去尊重辛勤工作的教师，我们应从规范自己的课堂行为开始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语言。教师进入教室时，学生应主动问好；离开时，学生应主动致谢。当教师提问和开展讨论时，学生应积极配合。充耳不闻、事不关己，是没有礼貌的表现，同时也不利于营造良好的课堂气氛。如果教师出现口误或知识性错误，学生可以得当指出，但不应进行嘲笑、挖苦。对于教师的穿着，学生不宜讨论不休，如果觉得其穿着不合教师身份，可以在课后委婉提出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举止。所谓“坐有坐相，站有站相”。教师在授课时，学生的举止应规范。半躺在座位上、将腿放到桌椅上或是伸出过道、把玩其他物品、趴在课桌上睡觉甚至打呼噜等行为，都是跟课堂纪律相冲突的。要好的同性或异性同学最好不要在课堂上过分亲密，否则会影响教师讲课的心情，从而影响到课堂质量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着装。着装得体，这是对教师，也是对知识的尊重。课堂是传授知识、培养人才的地方，学生应衣冠整洁，不可穿着拖鞋、吊带装以及其他不符合学生身份的服装进入教室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时间观念。有时间观念是遵守课堂纪律的重要表现。首先要做到的是准时上课。好的开始对于创造一个良好的课堂环境来说非常关键，如果总有学生迟到就会破坏课堂纪律，打断老师思路，影响其他同学正常上课。迟到的学生，应尽快找到座位坐好，不要东张西望、慢慢吞吞，或是弄出声响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课堂互动。师生之间的互动是教学的核心内容之一，它实际上是一种情感互动。学生在回答问题，或是与教师交流的时候，一定要注意神态、表情、语言、动作的运用，把握分寸又显得有礼有节。不交流会显出学生的冷漠，但“锋芒毕露”也会让老师有被挑衅和刁难之感。尤其是不该对老师提出的观点、见解表现得不屑一顾。</a:t>
            </a:r>
            <a:br>
              <a:rPr sz="900"/>
            </a:br>
            <a:br>
              <a:rPr sz="900"/>
            </a:b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尊重是一种能力，不只是一种意识。尊师，首先应是尊重教师这个身份，其次才是尊重教师本人。这与个人审美观无关，不能因为自己的好恶来改变对教师的态度。即便他有缺点，也要学会求同存异、取长补短，这样才有利于自身进步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尊敬老师，就请用一颗平常心来看待老师。教师承担着“加工”我们人类下一代，担负着我们优秀的文明能否一代又一代传承下去的重大历史责任，因此，整个社会从精神层面赋予教师崇高的地位；从现实方面对教师给予近乎严厉的要求，比如，老师不能有丝毫的毛病、缺点，在学生面前必须是一副“高大全”的形象。但教师首先是一个人，教师也有常人的缺点毛病，教师也会犯错，因此，在教师犯错的时候，我们应用平常的心态来对待教师。时刻记着教师只是一个凡人，而不是一个圣人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个人自我尊重总不会只局限于一时一刻，因而我们希望，尊敬老师也不要只是在教师节当天，而要落实到课堂上、学习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F96-10C8-4484-8597-E56616BD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A48-A345-473C-BE7B-02240D20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D71-C59F-4E7A-A5CF-FCF9B3FB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C1A-9AAE-4417-9F7F-82DA785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081-CB46-4553-BA43-32AE672D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45F-30F5-4A3C-9309-005E6B48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01F-2186-439B-8D3B-0CBC700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775D-C699-4C4A-906E-2B82006D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6385-6ECE-4A2E-A1D1-6035529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19E6-42B1-4F56-8118-48A5CCA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FB9-EE4C-4323-97D3-B039702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752-7E99-406C-A663-F8E5CD3B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87CF-FA62-4A98-8BD6-DD63DE0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D194-8399-4633-A713-B2E6F35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0033-322D-4130-B1D0-C52642A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DCD7-A8B5-43BF-A93C-94F78806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E5A-367C-4192-AF71-12E1B4DD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298-D0CF-4825-A532-436C9C3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75C-271F-40C2-9624-CB69EEED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6B4-E0D2-44AB-A9BC-F4C1935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6C2-A8FC-4EB2-ACB3-BB1F9C6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972-71A1-44CC-A8B6-996742D4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5D3-2D5E-49F9-A12D-C01619E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B60-8194-4729-BFBC-1D8ED87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8A9F-3109-436C-A145-3181A602C59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2F1A-1FFF-41F0-B63C-7C4734FE728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image.baidu.com/i?ct=503316480&amp;z=386046150&amp;tn=baiduimagedetail&amp;word=&#34593;&#28891;&amp;in=67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天地君亲师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一日为师，终身为父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09480" y="1143000"/>
            <a:ext cx="7772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感恩在心 报恩在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71800" y="12193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尊师名言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08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2543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教师是人类灵魂的工程师——斯大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040" y="3305160"/>
            <a:ext cx="883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太阳底下再没有比这个职业更高尚的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夸美纽斯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58000" y="4844880"/>
            <a:ext cx="73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春蚕到死丝方尽，蜡炬成灰泪始干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5480" y="5607000"/>
            <a:ext cx="396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桃李不言，下自成蹊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049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上篇：感恩在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62120" y="2438280"/>
            <a:ext cx="73911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8cf3a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尊师是美德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8cf3a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76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天动地——殷雪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7812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慈师真爱感动天地，圣母情怀流芳千古。” 殷雪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出生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走上教师岗位，生前在金坛市城南小学任教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日，殷雪梅老师在一辆狂奔而至的车辆面前，奋不顾身地用身躯护住路过的学生，从“虎口”下夺回了六七位小朋友的生命，而她却被车辆撞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米远，最后光荣牺牲。她是江苏省金坛市城南小学有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教龄的先进教育工作者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c80"/>
                </a:solidFill>
                <a:latin typeface="黑体"/>
                <a:ea typeface="黑体"/>
              </a:rPr>
              <a:t>生，人之所欲；死，人之所畏。但在突然来到的生死抉择中，人的精神境界却高下有别。在这迅速作出的选择背后，是义无反顾的爱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rcRect l="0" t="7451" r="34362" b="407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619280" cy="184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95280" y="5157720"/>
            <a:ext cx="6769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身边的老师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609480"/>
            <a:ext cx="86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狮山校区的老师都是这样做的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床，来到教室看大家早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精心的备课、上课、听课、反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大家一起晚读、晚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后去宿舍看大家晚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7451" r="34362" b="407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140360" y="5035680"/>
            <a:ext cx="1218960" cy="144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067280" y="283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014.gif (5950 bytes)"/>
          <p:cNvPicPr/>
          <p:nvPr/>
        </p:nvPicPr>
        <p:blipFill>
          <a:blip r:embed="rId5"/>
          <a:stretch/>
        </p:blipFill>
        <p:spPr>
          <a:xfrm>
            <a:off x="468360" y="2908440"/>
            <a:ext cx="57636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013.gif (6388 bytes)"/>
          <p:cNvPicPr/>
          <p:nvPr/>
        </p:nvPicPr>
        <p:blipFill>
          <a:blip r:embed="rId6"/>
          <a:stretch/>
        </p:blipFill>
        <p:spPr>
          <a:xfrm>
            <a:off x="395280" y="5035680"/>
            <a:ext cx="719280" cy="144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7280" y="2943360"/>
            <a:ext cx="30974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见到老师不打招呼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216400"/>
            <a:ext cx="25192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给老师起绰号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2943360"/>
            <a:ext cx="3456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不配合值日教师检查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784760"/>
            <a:ext cx="345744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不能正确面对生活老师的管理和批评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-76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下篇：报恩在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8985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尊敬老师，要对老师有礼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97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有过这些不尊敬老师的行为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6504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尊重老师要听从老师的教诲，与老师配合，把成绩提高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73664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老师对学生的要求并不高，最大的要求是在培养学生健全人格的前提下，不断提高学生的学习成绩，让大家能考上一间理想的大学，为以后的发展奠定坚实的基础。当老师对我们严要求时，我们应该……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7451" r="34362" b="407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40360" y="4959360"/>
            <a:ext cx="121896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067280" y="29113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014.gif (5950 bytes)"/>
          <p:cNvPicPr/>
          <p:nvPr/>
        </p:nvPicPr>
        <p:blipFill>
          <a:blip r:embed="rId5"/>
          <a:stretch/>
        </p:blipFill>
        <p:spPr>
          <a:xfrm>
            <a:off x="468360" y="2984400"/>
            <a:ext cx="57636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013.gif (6388 bytes)"/>
          <p:cNvPicPr/>
          <p:nvPr/>
        </p:nvPicPr>
        <p:blipFill>
          <a:blip r:embed="rId6"/>
          <a:stretch/>
        </p:blipFill>
        <p:spPr>
          <a:xfrm>
            <a:off x="395280" y="4886280"/>
            <a:ext cx="719280" cy="144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2911320"/>
            <a:ext cx="3097440" cy="1312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不交或不按时交作业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5030640"/>
            <a:ext cx="2735280" cy="1312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抄袭作业或考试作弊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5030640"/>
            <a:ext cx="345600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上课不认真听课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2984400"/>
            <a:ext cx="345780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早晚读不大声读书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7632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、尊重老师最重要的是尊重老师的劳动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你有过这些不尊重老师劳动的行为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42354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们应该如何对待老师花大量时间精心批阅的作业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42244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在老师精心准备课堂上，我们应该怎么学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95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应该怎样尊重老师的劳动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20348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如何面对老师牺牲休息时间督促我们晚睡按时就寝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200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如何对待老师督促我们加强身体锻炼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4197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如何对待老师要求我们注意仪容仪表，树立自身良好、健康的形象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什么是教育？</a:t>
            </a:r>
            <a:br>
              <a:rPr sz="5400"/>
            </a:b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今天，我们怎样尊师？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3360" y="1828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教”：告诉你，   “育”：改变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孝”字的组成，上面是个“老”，下面是个“子”，是子对老的行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为学莫重于尊师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——谭嗣同《浏阳算学馆增订章程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事师之犹事父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——《吕氏春秋劝学》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43000" y="1828800"/>
            <a:ext cx="1981080" cy="2057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团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600200"/>
            <a:ext cx="17524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1676520"/>
            <a:ext cx="1676520" cy="2286000"/>
          </a:xfrm>
          <a:prstGeom prst="upArrow">
            <a:avLst>
              <a:gd name="adj1" fmla="val 50000"/>
              <a:gd name="adj2" fmla="val 340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2840" y="271224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宋体"/>
                <a:ea typeface="Times New Roman"/>
              </a:rPr>
              <a:t>）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68240" y="4084560"/>
            <a:ext cx="626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团结：只有大家齐心协力才能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造良好的学习氛围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稳定：只有脚踏实地才能更上一层楼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向上：要时时刻刻保持一颗进取心。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808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老师的要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1063800"/>
            <a:ext cx="891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见到老师主动问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认真听讲，不扰乱纪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尽自己最大的努力完成作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认真做好清洁，创造一个干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好的环境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虚心接受老师的意见，多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沟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黑体"/>
              </a:rPr>
              <a:t>倡议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522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5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个教师节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我们一起来分享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-152280" y="1752480"/>
            <a:ext cx="9372600" cy="23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老师，您是世界上最值得尊敬的人，是您教会我们做人的道理、传授我们知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您在我们心中是永远燃不尽的烛光。担负神圣职责的您在我们心中有着举足重轻的地位，我们感激您！祝您身体健康，事业有成，万事如意，天天都有好心情！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让我们大家真诚地说一句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</a:rPr>
              <a:t>教师节快乐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在课堂内外如何尊师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3360" y="15235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敬三师，是为忘恩，何能称道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尊重辛勤工作的教师，规范自己的课堂行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语言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举止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时间观念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课堂互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课后作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3360" y="685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尊重是一种能力，不只是一种意识。尊师，首先应是尊重教师这个身份，其次才是尊重教师本人。这与个人审美观无关，不能因为自己的好恶来改变对教师的态度。即便他有缺点，也要学会求同存异、取长补短，这样才有利于自身进步。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尊敬老师，就请用一颗平常心来看待老师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教师只是一个凡人，而不是一个圣人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336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尊敬老师，也是尊重自己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加减乘除，算不尽老师的奉献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诗词歌赋，颂不完老师的恩情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只有把求学过程中对老师的点滴尊敬汇集起来，才是真正的、富有诚意的尊敬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感恩在心 </a:t>
            </a:r>
            <a:br>
              <a:rPr sz="8000"/>
            </a:b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报恩在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317720" y="0"/>
            <a:ext cx="1826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每当我走过老师的窗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的学习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，学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、学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学法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 </dc:description>
  <cp:keywords>主题班会课件(分28大类): http://shop62905894.taobao.com</cp:keywords>
  <dc:language>en-US</dc:language>
  <cp:lastModifiedBy>User</cp:lastModifiedBy>
  <dcterms:modified xsi:type="dcterms:W3CDTF">2013-04-13T17:07:22Z</dcterms:modified>
  <cp:revision>49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