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jpeg" ContentType="image/jpeg"/>
  <Override PartName="/ppt/media/image22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18.jpeg" ContentType="image/jpeg"/>
  <Override PartName="/ppt/media/image16.jpeg" ContentType="image/jpeg"/>
  <Override PartName="/ppt/media/image5.wmf" ContentType="image/x-wmf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6.wmf" ContentType="image/x-wmf"/>
  <Override PartName="/ppt/media/image46.jpeg" ContentType="image/jpeg"/>
  <Override PartName="/ppt/media/image15.jpeg" ContentType="image/jpeg"/>
  <Override PartName="/ppt/media/image3.wmf" ContentType="image/x-wmf"/>
  <Override PartName="/ppt/media/image29.jpeg" ContentType="image/jpeg"/>
  <Override PartName="/ppt/media/image30.jpeg" ContentType="image/jpeg"/>
  <Override PartName="/ppt/media/image33.png" ContentType="image/png"/>
  <Override PartName="/ppt/media/image34.jpeg" ContentType="image/jpeg"/>
  <Override PartName="/ppt/media/image35.jpeg" ContentType="image/jpeg"/>
  <Override PartName="/ppt/media/image40.png" ContentType="image/png"/>
  <Override PartName="/ppt/media/image14.png" ContentType="image/png"/>
  <Override PartName="/ppt/media/image43.jpeg" ContentType="image/jpeg"/>
  <Override PartName="/ppt/media/image13.png" ContentType="image/pn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9.wmf" ContentType="image/x-wmf"/>
  <Override PartName="/ppt/media/image41.png" ContentType="image/png"/>
  <Override PartName="/ppt/media/image48.jpeg" ContentType="image/jpeg"/>
  <Override PartName="/ppt/media/image49.jpeg" ContentType="image/jpeg"/>
  <Override PartName="/ppt/media/image11.wmf" ContentType="image/x-wmf"/>
  <Override PartName="/ppt/media/image17.jpeg" ContentType="image/jpeg"/>
  <Override PartName="/ppt/media/image12.jpeg" ContentType="image/jpeg"/>
  <Override PartName="/ppt/media/image4.png" ContentType="image/png"/>
  <Override PartName="/ppt/media/image47.jpeg" ContentType="image/jpeg"/>
  <Override PartName="/ppt/media/image6.wmf" ContentType="image/x-wmf"/>
  <Override PartName="/ppt/media/image42.jpeg" ContentType="image/jpeg"/>
  <Override PartName="/ppt/media/image19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37.jpeg" ContentType="image/jpeg"/>
  <Override PartName="/ppt/media/image2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AEEA-A907-475C-8F58-EB2113D1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935-8D76-431A-8988-E39C47C0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B189-DE89-4B83-AC66-581C58CA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3BD7-5AD5-4950-96BA-E3E3E421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8EF8-47FC-4A03-A2FB-F6DC26B9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3E3-413B-47AB-94D7-24A4A68D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1962-8A09-49DC-AB4B-957D8848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340D-2ED2-42A1-B96C-7741EB7E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431-7E58-4BCF-A277-8617DD04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A7B-911A-4894-8D98-1B4C186D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B2C-452F-4709-B24E-8F01E0F9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DAE4-0DC5-4F50-8EE2-37DF36CC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60A1-2CF2-4C46-A88E-611D1C5ED3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wmf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感动中国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723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高一（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）班主题班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19480" cy="2349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-387720"/>
            <a:ext cx="7812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沧海横流，方显英雄本色！为了一个陌生人，他在滔天巨浪中三进三出，危险面前，他根本不需要选择，因为这瞬间动作源自内心品质。从人群中一跃而出，又悄然回到人群中去，他，是侠之大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356000" y="3997440"/>
            <a:ext cx="4788000" cy="286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魏青刚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4067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——有这样一个歌手，有这样一个志愿者，当他自己还没有当父亲的时候，他就用父亲那样的眼神看着那么多的孩子，孩子的眼神让他心动让他行动，他的名字很让人产生这样的联想，他叫“从飞”（音），从让我们看到了两个人站在大地上需要互相支撑，互相温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42920" y="4292640"/>
            <a:ext cx="64818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丛飞</a:t>
            </a: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!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阳光从窗外斜射进来，照在病房内的白墙上，留下斑驳的树影。一位穿绿色条格病服的人静静地坐在床上，静静地看着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这是深圳市人民医院肿瘤科的一间病房，两个月前他被诊断为胃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在动手术的时候，医生发现他胃部的肿瘤已经与胰腺粘连。“胃癌已经扩散……”紧急会诊后，医生们决定将伤口立即缝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刚刚做完第三个化疗疗程，他的头发掉光了，疾病已经压迫到他的声带，他的嗓子嘶哑，疼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他曾是深圳一位小有名气的演员。而现在，他的名字在更大范围内传播———按媒体报道，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起，他开始资助贫困山区的贫困孩子，受他资助的孩子达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7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，累计捐助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丛飞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出生在辽宁省盘锦市大洼县庄台镇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前，他从沈阳音乐学院毕业后来到南方闯荡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后，躺在深圳的病床上的他最希望能回东北农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组图：感动中国获奖者从飞"/>
          <p:cNvPicPr/>
          <p:nvPr/>
        </p:nvPicPr>
        <p:blipFill>
          <a:blip r:embed="rId1"/>
          <a:stretch/>
        </p:blipFill>
        <p:spPr>
          <a:xfrm>
            <a:off x="0" y="549360"/>
            <a:ext cx="3564000" cy="5702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组图：感动中国获奖者从飞"/>
          <p:cNvPicPr/>
          <p:nvPr/>
        </p:nvPicPr>
        <p:blipFill>
          <a:blip r:embed="rId2"/>
          <a:stretch/>
        </p:blipFill>
        <p:spPr>
          <a:xfrm>
            <a:off x="5327640" y="549360"/>
            <a:ext cx="3816360" cy="5734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698640" y="692280"/>
            <a:ext cx="152100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他就是丛飞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位癌症病人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435640" y="-360"/>
            <a:ext cx="34034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看到失学儿童的第一眼，到被死神眷顾之前，他把所有时间都给了那些需要帮助的孩子，没有丝毫保留，甚至不惜向生命借贷。他曾经用舞台构筑课堂，用歌声点亮希望。如今，他的歌喉不如往昔嘹亮，却赢得了最饱含敬意的喝彩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311640" cy="291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124000" y="3068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是病床上的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720" y="283680"/>
            <a:ext cx="770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“我的根在中国！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6756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飞机的起降和滑行离不开刹车副。目前，国际上使用的航空刹车副有金属盘和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炭盘两种，用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炭复合材料制造的炭盘，具有重量轻、性能好、耐高温、寿命长等特点，使用寿命是金属传统材料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，重量是金属传统材料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/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被西方国家称为“黑色的金子”。八十年代中期，美、英、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已生产出该材料，垄断着生产制备技术。多年来，我国大量的飞机依靠进口。这些飞机所采用的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炭复合刹车装置是消耗性器材，全部依赖进口，每年国家要花费大量外汇，而且还得受制于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尽快掌握高性能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炭航空制动材料的制备技术，成为国家急需解决的重大技术课题，也牵动着中南工业大学一批教授、专家的心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当时的中南工业大学粉末研究所就着手这一重大技术的准备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黄伯云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从中南工业大学的前身中南矿冶学院毕业后，留校从事材料科学的教学和研究工作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赴美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U1571P1T1D8503149F21DT20051223162439" descr="CCTV感动中国2005年度人物候选：黄伯云"/>
          <p:cNvPicPr/>
          <p:nvPr/>
        </p:nvPicPr>
        <p:blipFill>
          <a:blip r:embed="rId1"/>
          <a:stretch/>
        </p:blipFill>
        <p:spPr>
          <a:xfrm>
            <a:off x="4427640" y="260280"/>
            <a:ext cx="4716360" cy="3071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9640" y="260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和世界上最硬材料打交道的人，有着温润如玉的性格，渊博宽厚，抱定赤子之心；静能寒窗苦守，动能点石成金。他是个值得尊敬的长者，艰难困苦，玉汝以成，三万里回国路，二十年砺剑心，大哉黄伯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图文：感动中国获奖者黄伯云"/>
          <p:cNvPicPr/>
          <p:nvPr/>
        </p:nvPicPr>
        <p:blipFill>
          <a:blip r:embed="rId2"/>
          <a:stretch/>
        </p:blipFill>
        <p:spPr>
          <a:xfrm>
            <a:off x="4427640" y="3357720"/>
            <a:ext cx="471636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280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这一年，一个叫金训华的知识青年和一个叫陈健的知识青年，一同为了抢救公共的财物跳入了江水之中，然而后来陈健上来了，金巡华就再也没上来过，之后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陈健是怎么度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颁奖词：一个生者对死者的承诺，只是良心的自我约束，但是他却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坚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放弃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梦想、幸福和骨肉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情，淡去火红的时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背景，他身上有古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识的风范，无论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个年代，坚守承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始终是支撑人性的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石，对人如此，对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民族更是如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组图：感动中国获奖者陈健"/>
          <p:cNvPicPr/>
          <p:nvPr/>
        </p:nvPicPr>
        <p:blipFill>
          <a:blip r:embed="rId1"/>
          <a:stretch/>
        </p:blipFill>
        <p:spPr>
          <a:xfrm>
            <a:off x="4011480" y="2565360"/>
            <a:ext cx="513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组图：感动中国获奖者陈健"/>
          <p:cNvPicPr/>
          <p:nvPr/>
        </p:nvPicPr>
        <p:blipFill>
          <a:blip r:embed="rId1"/>
          <a:stretch/>
        </p:blipFill>
        <p:spPr>
          <a:xfrm>
            <a:off x="395280" y="1484280"/>
            <a:ext cx="3027240" cy="4530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组图：感动中国获奖者陈健"/>
          <p:cNvPicPr/>
          <p:nvPr/>
        </p:nvPicPr>
        <p:blipFill>
          <a:blip r:embed="rId2"/>
          <a:stretch/>
        </p:blipFill>
        <p:spPr>
          <a:xfrm>
            <a:off x="5715000" y="981000"/>
            <a:ext cx="3429000" cy="5132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692360" y="333360"/>
            <a:ext cx="2879640" cy="1028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陈健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的岁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陈健放弃了很多的东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的岁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陈健放弃了年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机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亲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轮到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会放弃那么多的东西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是你的好朋友掉入了江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会奋不顾身的救他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你的好朋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好战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也没有上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会放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切守护他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觉得陈健值得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32360" y="4076640"/>
            <a:ext cx="4211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Arial"/>
              </a:rPr>
              <a:t>Let’s play a game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看看谁能答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回答正确的有奖励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260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王顺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目前在很多地方，邮递员依然非常重要，对于现在的很多年轻人来说，可能孤独是可怕的，甚至会认为孤独是可耻的，但孤独却是他生活的一种常态，甚至在十四、十五天的时间里他只能跟自己的歌声打交道，跟身边陪伴他的马来打交道，这个时候你就知道，孤独是让人尊敬的，孤独是伟大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4400640"/>
            <a:ext cx="3780000" cy="2457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284720" y="4319640"/>
            <a:ext cx="4174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73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邮政史上的传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过滩涉水，越岭翻山，用一个人的长征传邮万里，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的跋涉飞雪传薪，路的尽头还有路，山的那边还是山，近邻尚得百里远，世上最亲邮递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349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木里藏族自治县位于四川省西南部，紧连青藏高原。这里群山环抱，地广人稀，平均每平方公里的地面上只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人。全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乡镇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乡镇不通公路，不通电话，以马驮人送为手段的邮路，是当地乡政府和百姓与外界保持联系的唯一途径。全县除县城外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邮路全部是马班邮路，而且绝大部分在海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以上的高山。以共产党员王顺友为代表的马班邮递员几十年如一日，冒着生命危险跋涉在人迹罕至的高寒深山，为各族群众送信送报，确保全县所有乡镇通邮，受到当地各族群众高度赞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没有哪一年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那样让那么多的中国人那么久地凝望天空，在漫天的繁星中，我们好像看到了两双黑眼睛，那黑眼睛里带着自豪、带着笑意在和我们对视，我们所有的中国人都知道牵连着我们的是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     ——谁能让全世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/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心灵随着他们的节奏跳动五天五夜，谁能从前所未有的高度见证中国实力的飞跃，他们出征苍穹，画出龙的轨迹，升空日行八万里，巡天遥看一千河，他们是中国航天的黄金一代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824360"/>
            <a:ext cx="2411280" cy="2033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771640" y="4824360"/>
            <a:ext cx="2411640" cy="2033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508720" y="4824360"/>
            <a:ext cx="241128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神舟六号载人航天飞行成功感动中国"/>
          <p:cNvPicPr/>
          <p:nvPr/>
        </p:nvPicPr>
        <p:blipFill>
          <a:blip r:embed="rId1"/>
          <a:stretch/>
        </p:blipFill>
        <p:spPr>
          <a:xfrm>
            <a:off x="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U660P1T1D8794355F23DT20060106223450" descr="神舟六号载人航天飞行成功感动中国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427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2762280" cy="3429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2700360" y="3357720"/>
            <a:ext cx="1728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组图：感动中国获奖者费俊龙聂海胜"/>
          <p:cNvPicPr/>
          <p:nvPr/>
        </p:nvPicPr>
        <p:blipFill>
          <a:blip r:embed="rId1"/>
          <a:stretch/>
        </p:blipFill>
        <p:spPr>
          <a:xfrm>
            <a:off x="0" y="0"/>
            <a:ext cx="5435640" cy="3632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组图：感动中国获奖者费俊龙聂海胜"/>
          <p:cNvPicPr/>
          <p:nvPr/>
        </p:nvPicPr>
        <p:blipFill>
          <a:blip r:embed="rId2"/>
          <a:stretch/>
        </p:blipFill>
        <p:spPr>
          <a:xfrm>
            <a:off x="0" y="3611520"/>
            <a:ext cx="5435640" cy="3246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580000" y="0"/>
            <a:ext cx="3240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这二位大家最熟悉不过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中国八方爆发了一个叫“航天精神”的活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同学们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你们觉得什么叫“航天精神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杨业功，第二炮兵某基地原令员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6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从湖北省应城市入伍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6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加入中国共产党，历任战士、班长、排长、参谋、作训处长、旅长，基地副参谋长，副司令员，司令员等职。入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年来，他牢记军人的神圣职责和历史使命，奋发向上，争先创优，特别是走上基地领导工作岗位后，殚精竭虑，忘我工作，为部队现代化建设跨越式发展和军事斗争准备呕心沥血，拼搏进取，做出了突出成绩。先后荣立二等功一次，三等功两次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当选当选为十界全国人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代表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因积劳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疾病病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CCTV感动中国2005年度人物候选：杨业功"/>
          <p:cNvPicPr/>
          <p:nvPr/>
        </p:nvPicPr>
        <p:blipFill>
          <a:blip r:embed="rId1"/>
          <a:stretch/>
        </p:blipFill>
        <p:spPr>
          <a:xfrm>
            <a:off x="5619600" y="4257720"/>
            <a:ext cx="35244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4643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铸就长缨锐旅，锻造导弹雄师。他用尺子丈量自己的工作，用读秒计算自己的生命。未曾请缨提旅，已是鞠躬尽瘁。天下虽安，忘战必危，他是中国军人一面不倒的旗帜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组图：感动中国获奖者杨业功遗孀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2808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667640" cy="71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她是一位医生，虽然她从来没有机会穿上白大褂，甚至被人在医生的前面还要加上赤脚这两个字；她是一名医生，但是不像很多医生那样，不愁自己的衣食，她一个月也许能收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块钱，但是买药以及买相关的一些东西却要花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块钱，亏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欠债也就越来越多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是一名医生，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被患者所需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是跟其他的医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她的患者似乎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更加需要，这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一名怎样的医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图文：感动中国获奖者李春燕"/>
          <p:cNvPicPr/>
          <p:nvPr/>
        </p:nvPicPr>
        <p:blipFill>
          <a:blip r:embed="rId1"/>
          <a:stretch/>
        </p:blipFill>
        <p:spPr>
          <a:xfrm>
            <a:off x="4011480" y="3645000"/>
            <a:ext cx="51325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塘村是一个苗族村寨，只有她一个乡村卫生员，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名苗族村民。生活极其贫穷。人们向来缺医少药。过去，村里没有医生。得病了，除了苦熬，就是请鬼师驱鬼辟邪，或是用‘土办法’自己治疗。死了，谁也不知到是啥原因。现在，大家已经逐渐习惯了生病去李春燕那儿打针吃药。有了初步医疗的保障。李春燕 严格地讲，不能称作医生，只能叫做‘卫生员’。因为他们没有编制，不享受国家的工资和其他待遇。由于工作环境差、入不敷出，我国的大部分乡村卫生员已改行或外出打工去了。而李春燕也遇到相同的问题，乡亲们来看病，没有钱付药费，只能记账赊欠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初，一直赔本经营卫生室的李春燕决定关掉卫生室，和丈夫一道去广东打工。当他们正准备出门的时候，闻讯而来的乡亲们正好赶到。村民们掏出皱巴巴的一元、两元钱递给李春燕：“李医生你走了，我们可怎么办”“这是我们还你的账，不够的我们明天把家里的米卖了，给补上。”李春燕于是没有离开。这是李春燕留在这艰苦的地方做乡村医生以来唯一想放弃的一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148360" y="0"/>
            <a:ext cx="330984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她是大山里最后的赤脚医生，提着篮子在田垄里行医，一间四壁透风的竹楼，成了天下最温暖的医院，一副瘦弱的肩膀，担负起十里八乡的健康，她是迁徙的候鸟，她是照亮苗乡的月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430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5950080"/>
            <a:ext cx="5508720" cy="907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5084640"/>
            <a:ext cx="53640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顺友，一名“马班”邮递员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一名邮递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为投递信件走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公里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走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喜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川省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6   20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抽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河南省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6   24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喝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河南省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4    26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收集邮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川省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6   20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喝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组图：感动中国获奖者王顺友"/>
          <p:cNvPicPr/>
          <p:nvPr/>
        </p:nvPicPr>
        <p:blipFill>
          <a:blip r:embed="rId1"/>
          <a:stretch/>
        </p:blipFill>
        <p:spPr>
          <a:xfrm>
            <a:off x="5830920" y="1628640"/>
            <a:ext cx="3313080" cy="522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1944720" cy="2160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059280" y="4365720"/>
            <a:ext cx="1944360" cy="216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7956720" y="260280"/>
            <a:ext cx="118728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D</a:t>
            </a:r>
            <a:endParaRPr b="1" lang="en-US" sz="9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洪占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——哥哥这个称呼在他心里有着独特的分量，因为是哥哥他生活中多了很多的操劳，因为是哥哥他生命中多了很多的体验，哥哥使他成为今天的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组图：感动中国获奖者洪占辉"/>
          <p:cNvPicPr/>
          <p:nvPr/>
        </p:nvPicPr>
        <p:blipFill>
          <a:blip r:embed="rId1"/>
          <a:stretch/>
        </p:blipFill>
        <p:spPr>
          <a:xfrm>
            <a:off x="5364000" y="1484280"/>
            <a:ext cx="3529080" cy="5373720"/>
          </a:xfrm>
          <a:prstGeom prst="rect">
            <a:avLst/>
          </a:prstGeom>
          <a:ln w="0">
            <a:noFill/>
          </a:ln>
        </p:spPr>
      </p:pic>
      <p:pic>
        <p:nvPicPr>
          <p:cNvPr id="132" name="U660P1T1D9058615F23DT20060209192614" descr="东方时空：用感动为春天开幕"/>
          <p:cNvPicPr/>
          <p:nvPr/>
        </p:nvPicPr>
        <p:blipFill>
          <a:blip r:embed="rId2"/>
          <a:stretch/>
        </p:blipFill>
        <p:spPr>
          <a:xfrm>
            <a:off x="0" y="2349360"/>
            <a:ext cx="46432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995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感动中国的官方网站上，有一个人当选感动中国年度人物的呼声很高，他就是带着上学的湖南怀化的大学生洪战辉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前洪战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，他的妹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，那一年父亲患上了间歇性精神病，痛苦不堪的母亲离家出走，家庭重担一下落在了洪战辉的肩上，洪战辉提前告别了童年，一步踏入了成人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组图：感动中国获奖者洪占辉"/>
          <p:cNvPicPr/>
          <p:nvPr/>
        </p:nvPicPr>
        <p:blipFill>
          <a:blip r:embed="rId1"/>
          <a:stretch/>
        </p:blipFill>
        <p:spPr>
          <a:xfrm>
            <a:off x="4011480" y="3429000"/>
            <a:ext cx="513252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832360" y="342900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白岩松逗笑了兄妹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3429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995640" y="0"/>
            <a:ext cx="2521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不幸谷底到艺术颠峰 残疾演员感动中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邰丽华：妈妈说在我婴儿的时候，是一个非常会说话的小孩子，在幼儿园的时候比别小朋友说得都流利，叫每一个小朋友的家长的名字都叫得特别清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邰丽华曾经告诉我，她知道杨丽萍老师不喜欢别人模仿她的《雀之灵》，因为她已经将整个生命融入其中，模仿者只得其形，却体味不到内中神韵。但是，当著名编剧张继钢看到邰丽华的舞蹈，并坚持将杨丽萍请到现场指导时，连这位原创者也不得不深深地感动，因为这位年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的聋哑姑娘是在没有任何音乐和节拍的情况下赋予了《雀之灵》另一种动人的神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3378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组图：感动中国获奖者邰丽华"/>
          <p:cNvPicPr/>
          <p:nvPr/>
        </p:nvPicPr>
        <p:blipFill>
          <a:blip r:embed="rId2"/>
          <a:stretch/>
        </p:blipFill>
        <p:spPr>
          <a:xfrm>
            <a:off x="5121360" y="0"/>
            <a:ext cx="4022640" cy="6021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组图：感动中国获奖者邰丽华"/>
          <p:cNvPicPr/>
          <p:nvPr/>
        </p:nvPicPr>
        <p:blipFill>
          <a:blip r:embed="rId3"/>
          <a:stretch/>
        </p:blipFill>
        <p:spPr>
          <a:xfrm>
            <a:off x="0" y="3429000"/>
            <a:ext cx="5132520" cy="3429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19640" y="609300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雀之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这样一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轻人，他们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共同的心愿，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立了一个社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社团的名字叫“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社”。花开是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声音的，却很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丽，他们就是要通过学习手语来促进健全人与残疾人之间的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从不幸的谷底到艺术的巅峰，也许你的生命本身就是一次绝美的舞蹈，于无声处，展现生命的蓬勃，在手臂间勾勒人性的高洁，一个朴素女子为我们呈现华丽的奇迹，心灵的震撼不需要语言，你在我们眼中是最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组图：感动中国获奖者邰丽华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7772400" cy="5545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动中国’的答卷并不是我们执笔的，这些优美的答案是整个中国用一年的时间书写的。优秀的人民公仆、杰出的知识分子、出生入死的人民卫士，还有那些并不具备丰功伟绩，却体现了中国传统美德和美好风尚的人。每个人都像金块，沉甸甸的，让人有一种欣喜和收获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是的，中华大地上每天都在发生令人感动的事，涌现令人感动的人。于是，我们发现感动，期待感动，感激感动，更应当善待感动，传播感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484360" y="2133720"/>
            <a:ext cx="3770280" cy="26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842472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感动中国的官方网站上，有一个人当选感动中国年度人物的呼声很高，他就是带着上学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怀化的大学生洪战辉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前洪战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，他的妹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，那一年父亲患上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痛苦不堪的母亲离家出走，家庭重担一下落在了洪战辉的肩上，洪战辉提前告别了童年，一步踏入了成人世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湖南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     13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间歇性精神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湖南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     13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恶性肿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西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     14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恶性肿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陕西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     14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间歇性精神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716960" y="4797360"/>
            <a:ext cx="1427040" cy="2060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059280" y="5229360"/>
            <a:ext cx="1296720" cy="1401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A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举出费俊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聂海胜第一次在太空所做的四件事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好容易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次吃太空热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复水食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次进入轨道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次在太空脱压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次有人参与的空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科学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次拍到祖国大地的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次在太空刮胡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次在太空翻“筋斗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407280" y="5130720"/>
            <a:ext cx="2736720" cy="1727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组图：感动中国获奖者费俊龙聂海胜"/>
          <p:cNvPicPr/>
          <p:nvPr/>
        </p:nvPicPr>
        <p:blipFill>
          <a:blip r:embed="rId2"/>
          <a:stretch/>
        </p:blipFill>
        <p:spPr>
          <a:xfrm>
            <a:off x="4140360" y="476280"/>
            <a:ext cx="5003640" cy="3343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用感动为春天开幕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071720"/>
            <a:ext cx="7812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3213000"/>
            <a:ext cx="8686800" cy="27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，台风麦沙肆虐青岛的第二天，家住海边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V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爱好者段大爷拍下了一段这样的画面…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189000"/>
            <a:ext cx="46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87280" y="549360"/>
            <a:ext cx="694404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一位</a:t>
            </a: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"</a:t>
            </a:r>
            <a:r>
              <a:rPr b="1" lang="zh-CN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平民</a:t>
            </a: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"</a:t>
            </a:r>
            <a:r>
              <a:rPr b="1" lang="zh-CN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英雄</a:t>
            </a: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!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0" y="4842000"/>
            <a:ext cx="1346040" cy="201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948360" y="5013360"/>
            <a:ext cx="1800360" cy="145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174456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8200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当时一位民警抓拍到的画面，魏青钢已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没有力气站起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但他的左手却仍紧紧得抓着女青年。之后人们才知道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魏青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从河南农村来青岛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修工的，在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之前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他从来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有见过海，也从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来没有在海中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过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4950000" cy="4068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5300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619280" y="530064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你们想一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什么样的东西促使他这样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你从没有在海中游过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没有见到过惊涛骇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见到一个素不相识的人掉如海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会怎么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00536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这么一想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不禁他是个英雄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勇者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41:24Z</dcterms:modified>
  <cp:revision>8</cp:revision>
  <dc:subject>主题班会课件(分28大类): http://shop62905894.taobao.com</dc:subject>
  <dc:title>主题班会课件(分28大类): http://shop62905894.taobao.com</dc:title>
</cp:coreProperties>
</file>