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whoosh.wav" ContentType="audio/x-wav"/>
  <Override PartName="/ppt/media/image28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1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A982-5ABC-48F4-B66E-751A8E0CE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200C-8F41-458E-9EA4-541076AFA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EACA-6BAB-4E80-A2F8-114AC8A2D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5F03-0A85-40D8-A180-51346AF13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D3CF-609D-45BE-862D-FD04F98E3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5A6D-5624-4259-829D-04FDF11C5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2D4A-0B23-475F-BD88-70E2E409D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489A-1A0D-4441-A372-49CE7D5B3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2B4C-EACC-4272-822A-990827590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6AB3-72BE-442A-9313-F64B1688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91D6-085D-4A2D-B67E-1682C469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1DC4-CA08-452B-A6A2-F1BD67B6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712BE-A808-4273-AA1E-31A159D57C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file:///mmxj.rm" TargetMode="Externa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file:///../116857160.wma" TargetMode="External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" Target="slide34.xml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844640"/>
            <a:ext cx="7434000" cy="20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隶书"/>
                <a:ea typeface="隶书"/>
              </a:rPr>
              <a:t>主题班会：</a:t>
            </a:r>
            <a:br>
              <a:rPr sz="9600"/>
            </a:br>
            <a:r>
              <a:rPr b="1" lang="zh-CN" sz="9600" spc="-1" strike="noStrike">
                <a:solidFill>
                  <a:srgbClr val="ff0000"/>
                </a:solidFill>
                <a:latin typeface="隶书"/>
                <a:ea typeface="隶书"/>
              </a:rPr>
              <a:t>   常怀感恩之心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7620120" cy="3429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447920" y="571500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李军 制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630480" y="274680"/>
            <a:ext cx="205596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隶书"/>
              <a:ea typeface="隶书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274680"/>
            <a:ext cx="599292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隶书"/>
              <a:ea typeface="隶书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23760"/>
            <a:ext cx="9144000" cy="68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630480" y="274680"/>
            <a:ext cx="205596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隶书"/>
              <a:ea typeface="隶书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274680"/>
            <a:ext cx="599292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隶书"/>
              <a:ea typeface="隶书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63360"/>
            <a:ext cx="9144000" cy="673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630480" y="274680"/>
            <a:ext cx="205596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隶书"/>
              <a:ea typeface="隶书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274680"/>
            <a:ext cx="599292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隶书"/>
              <a:ea typeface="隶书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630480" y="274680"/>
            <a:ext cx="205596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隶书"/>
              <a:ea typeface="隶书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274680"/>
            <a:ext cx="599292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隶书"/>
              <a:ea typeface="隶书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42840"/>
            <a:ext cx="9144000" cy="67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630480" y="274680"/>
            <a:ext cx="205596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隶书"/>
              <a:ea typeface="隶书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274680"/>
            <a:ext cx="599292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隶书"/>
              <a:ea typeface="隶书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82440"/>
            <a:ext cx="9144000" cy="669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630480" y="274680"/>
            <a:ext cx="205596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隶书"/>
              <a:ea typeface="隶书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274680"/>
            <a:ext cx="599292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隶书"/>
              <a:ea typeface="隶书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181080"/>
            <a:ext cx="9296280" cy="66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630480" y="274680"/>
            <a:ext cx="205596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隶书"/>
              <a:ea typeface="隶书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274680"/>
            <a:ext cx="599292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隶书"/>
              <a:ea typeface="隶书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42840"/>
            <a:ext cx="9144000" cy="67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630480" y="274680"/>
            <a:ext cx="205596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隶书"/>
              <a:ea typeface="隶书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274680"/>
            <a:ext cx="599292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隶书"/>
              <a:ea typeface="隶书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42840"/>
            <a:ext cx="9144000" cy="67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630480" y="274680"/>
            <a:ext cx="205596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隶书"/>
              <a:ea typeface="隶书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274680"/>
            <a:ext cx="599292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隶书"/>
              <a:ea typeface="隶书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630480" y="274680"/>
            <a:ext cx="205596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隶书"/>
              <a:ea typeface="隶书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274680"/>
            <a:ext cx="599292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隶书"/>
              <a:ea typeface="隶书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149400"/>
            <a:ext cx="9144000" cy="65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13480" y="228600"/>
            <a:ext cx="1944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隶书"/>
              <a:ea typeface="隶书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274680"/>
            <a:ext cx="599292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隶书"/>
              <a:ea typeface="隶书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630480" y="274680"/>
            <a:ext cx="205596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隶书"/>
              <a:ea typeface="隶书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274680"/>
            <a:ext cx="599292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隶书"/>
              <a:ea typeface="隶书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9524880" cy="67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630480" y="274680"/>
            <a:ext cx="205596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隶书"/>
              <a:ea typeface="隶书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274680"/>
            <a:ext cx="599292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隶书"/>
              <a:ea typeface="隶书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149400"/>
            <a:ext cx="92962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630480" y="274680"/>
            <a:ext cx="205596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隶书"/>
              <a:ea typeface="隶书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274680"/>
            <a:ext cx="599292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隶书"/>
              <a:ea typeface="隶书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79200"/>
            <a:ext cx="9144000" cy="669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630480" y="274680"/>
            <a:ext cx="205596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隶书"/>
              <a:ea typeface="隶书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274680"/>
            <a:ext cx="599292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隶书"/>
              <a:ea typeface="隶书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88920"/>
            <a:ext cx="9144000" cy="66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630480" y="274680"/>
            <a:ext cx="205596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隶书"/>
              <a:ea typeface="隶书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274680"/>
            <a:ext cx="599292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隶书"/>
              <a:ea typeface="隶书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630480" y="274680"/>
            <a:ext cx="205596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隶书"/>
              <a:ea typeface="隶书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274680"/>
            <a:ext cx="599292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隶书"/>
              <a:ea typeface="隶书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630480" y="274680"/>
            <a:ext cx="205596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隶书"/>
              <a:ea typeface="隶书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274680"/>
            <a:ext cx="599292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隶书"/>
              <a:ea typeface="隶书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630480" y="274680"/>
            <a:ext cx="205596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隶书"/>
              <a:ea typeface="隶书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274680"/>
            <a:ext cx="599292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隶书"/>
              <a:ea typeface="隶书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630480" y="274680"/>
            <a:ext cx="205596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隶书"/>
              <a:ea typeface="隶书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274680"/>
            <a:ext cx="599292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隶书"/>
              <a:ea typeface="隶书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630480" y="274680"/>
            <a:ext cx="205596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隶书"/>
              <a:ea typeface="隶书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274680"/>
            <a:ext cx="599292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隶书"/>
              <a:ea typeface="隶书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630480" y="274680"/>
            <a:ext cx="205596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隶书"/>
              <a:ea typeface="隶书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274680"/>
            <a:ext cx="599292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隶书"/>
              <a:ea typeface="隶书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隶书"/>
              <a:ea typeface="隶书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8600" y="304920"/>
            <a:ext cx="26182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Times New Roman"/>
                <a:ea typeface="隶书"/>
              </a:rPr>
              <a:t>母爱如水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630480" y="274680"/>
            <a:ext cx="205596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6600" spc="-1" strike="noStrike">
                <a:solidFill>
                  <a:srgbClr val="ff0000"/>
                </a:solidFill>
                <a:latin typeface="隶书"/>
                <a:ea typeface="隶书"/>
              </a:rPr>
              <a:t>母爱如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457200"/>
            <a:ext cx="56390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独唱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黄叶明    《妈妈的吻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219320" y="1782720"/>
            <a:ext cx="533376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630480" y="274680"/>
            <a:ext cx="205596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009999"/>
                </a:solidFill>
                <a:uFillTx/>
                <a:latin typeface="隶书"/>
                <a:ea typeface="隶书"/>
                <a:hlinkClick r:id="rId1"/>
              </a:rPr>
              <a:t>视频欣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274680"/>
            <a:ext cx="599292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隶书"/>
              <a:ea typeface="隶书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0948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629040" y="274680"/>
            <a:ext cx="20574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74680"/>
            <a:ext cx="601992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93720" y="762120"/>
            <a:ext cx="6810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黑体"/>
              </a:rPr>
              <a:t>请列出读书十年妈妈说了十年的十句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8440" y="1828800"/>
            <a:ext cx="655776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有位高中生总结了妈妈在自己上学后说了十年的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句话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作业做完了吗？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别看电视了，赶紧写作业去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上课要注意听讲。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(4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听老师的话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(5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你就是不刻苦，老惦记着玩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(6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这回考了多少分？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(7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现在是竞争的社会，没学历行吗？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(8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早晚你得去扫大街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(9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我们辛辛苦苦，还不都是为了你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(10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这么好的条件，你还不好好念，我们那时候…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7080" y="5791320"/>
            <a:ext cx="6621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ahoma"/>
                <a:ea typeface="楷体_GB2312"/>
              </a:rPr>
              <a:t>你能正确对待妈妈说了十年的这十句话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630480" y="274680"/>
            <a:ext cx="205596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隶书"/>
              <a:ea typeface="隶书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560" y="228600"/>
            <a:ext cx="88390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隶书"/>
                <a:ea typeface="隶书"/>
              </a:rPr>
              <a:t>   </a:t>
            </a:r>
            <a:r>
              <a:rPr b="1" lang="zh-CN" sz="6600" spc="-1" strike="noStrike">
                <a:solidFill>
                  <a:srgbClr val="ff0000"/>
                </a:solidFill>
                <a:latin typeface="隶书"/>
                <a:ea typeface="隶书"/>
              </a:rPr>
              <a:t>父爱如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705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630480" y="274680"/>
            <a:ext cx="205596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隶书"/>
                <a:ea typeface="隶书"/>
              </a:rPr>
              <a:t>父爱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274680"/>
            <a:ext cx="599292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5943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630480" y="274680"/>
            <a:ext cx="205596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朗诵者：邝小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配乐诗歌朗诵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009999"/>
                </a:solidFill>
                <a:uFillTx/>
                <a:latin typeface="隶书"/>
                <a:ea typeface="隶书"/>
                <a:hlinkClick r:id="rId1"/>
              </a:rPr>
              <a:t>爸爸的眼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630480" y="274680"/>
            <a:ext cx="205596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隶书"/>
              <a:ea typeface="隶书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6094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隶书"/>
                <a:ea typeface="隶书"/>
              </a:rPr>
              <a:t>师恩如明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86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363200" y="609480"/>
            <a:ext cx="895428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隶书"/>
              <a:ea typeface="隶书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335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小品欣赏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2209680"/>
            <a:ext cx="800100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表演者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老师——黄叶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学生——李伟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警察——邝卓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629040" y="274680"/>
            <a:ext cx="20574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隶书"/>
              <a:ea typeface="隶书"/>
            </a:endParaRPr>
          </a:p>
        </p:txBody>
      </p:sp>
      <p:sp>
        <p:nvSpPr>
          <p:cNvPr id="160" name=""/>
          <p:cNvSpPr/>
          <p:nvPr/>
        </p:nvSpPr>
        <p:spPr>
          <a:xfrm>
            <a:off x="316080" y="1647720"/>
            <a:ext cx="769284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每当人们提起“教师”这个字眼，我总是抑制不住自己的激动心情。是谁带领我们在知识的海洋里遨游，为我们鼓起风帆，让理想的航船驶向胜利的彼岸？是老师！又是谁，用人间真情，优良传统陶冶我们的情操，让我们树立信心，使身心得到健康发展？还是老师！我们这些原来什么都不懂的毛孩子在老师的热情教育下学到了知识，净化了灵魂，成长为英姿飒爽的时代骄子，这全是老师辛勤教育的结果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57080" y="762120"/>
            <a:ext cx="592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感谢师恩之声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630480" y="274680"/>
            <a:ext cx="205596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隶书"/>
              <a:ea typeface="隶书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274680"/>
            <a:ext cx="599292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隶书"/>
              <a:ea typeface="隶书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如何感谢师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93720" y="2209680"/>
            <a:ext cx="8197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谢师恩，对师恩最好的报答，就是努力学习、天天向上，把自己培养成德、智、体全面发展的高素质接班人，为了祖国，为了父母，为了老师，我们要成为一个理想远大道德高尚的新时代中学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458200" cy="63244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57200" y="579132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隶书"/>
                <a:ea typeface="隶书"/>
              </a:rPr>
              <a:t>祖国在我心中</a:t>
            </a:r>
            <a:r>
              <a:rPr b="1" lang="zh-CN" sz="5400" spc="-1" strike="noStrike">
                <a:solidFill>
                  <a:srgbClr val="ff0066"/>
                </a:solidFill>
                <a:latin typeface="隶书"/>
                <a:ea typeface="隶书"/>
              </a:rPr>
              <a:t>-</a:t>
            </a:r>
            <a:r>
              <a:rPr b="1" lang="zh-CN" sz="5400" spc="-1" strike="noStrike">
                <a:solidFill>
                  <a:srgbClr val="ff0066"/>
                </a:solidFill>
                <a:latin typeface="隶书"/>
                <a:ea typeface="隶书"/>
              </a:rPr>
              <a:t>感恩社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女生小组唱：</a:t>
            </a:r>
            <a:br>
              <a:rPr sz="36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60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宿舍 《明天会更好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学生忙忙碌碌的学习，老师家长忙忙碌碌的工作，不经意间我们已经把身边的一切当作自然；物质上的富足正使我们变得越来越麻木，忘了在得到恩惠时拨动那根原本会颤抖的心弦。现在，让我们腾出一点点空，在忙碌中暂做小憩，用心去回忆体会周围人对我们的关爱，大胆地说一声：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楷体_GB2312"/>
              </a:rPr>
              <a:t>谢谢你！有你，真好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隶书"/>
              </a:rPr>
              <a:t>感恩行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做老师的好学生、做父母的好儿女、做国家的好公民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从营销角度：比如中石油——不仅着眼于企业利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68360" y="26028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你是否了解你妈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>
            <a:hlinkClick r:id="rId2" action="ppaction://hlinksldjump"/>
          </p:cNvPr>
          <p:cNvSpPr/>
          <p:nvPr/>
        </p:nvSpPr>
        <p:spPr>
          <a:xfrm>
            <a:off x="457200" y="1219320"/>
            <a:ext cx="792468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你妈妈的生日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你妈妈的体重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你妈妈的身高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你妈妈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码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你妈妈喜欢颜色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你妈妈喜欢水果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你妈妈喜欢的花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你妈妈喜欢的日常消遣活动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____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" y="55483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你妈妈经常用来教育你的口头禅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_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5181480" y="1371600"/>
            <a:ext cx="3733920" cy="2362320"/>
            <a:chOff x="5181480" y="1371600"/>
            <a:chExt cx="3733920" cy="2362320"/>
          </a:xfrm>
        </p:grpSpPr>
        <p:sp>
          <p:nvSpPr>
            <p:cNvPr id="185" name=""/>
            <p:cNvSpPr/>
            <p:nvPr/>
          </p:nvSpPr>
          <p:spPr>
            <a:xfrm>
              <a:off x="5181480" y="1371600"/>
              <a:ext cx="3733920" cy="23623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57800" y="1371600"/>
              <a:ext cx="365760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a50021"/>
                  </a:solidFill>
                  <a:latin typeface="Times New Roman"/>
                </a:rPr>
                <a:t>请你如实回答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a50021"/>
                  </a:solidFill>
                  <a:latin typeface="Times New Roman"/>
                </a:rPr>
                <a:t>有心的同学可以把答案写在一张纸寄给你妈妈评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a50021"/>
                  </a:solidFill>
                  <a:latin typeface="Times New Roman"/>
                </a:rPr>
                <a:t>答对</a:t>
              </a:r>
              <a:r>
                <a:rPr b="1" lang="zh-CN" sz="2400" spc="-1" strike="noStrike">
                  <a:solidFill>
                    <a:srgbClr val="a50021"/>
                  </a:solidFill>
                  <a:latin typeface="Times New Roman"/>
                </a:rPr>
                <a:t>6</a:t>
              </a:r>
              <a:r>
                <a:rPr b="1" lang="zh-CN" sz="2400" spc="-1" strike="noStrike">
                  <a:solidFill>
                    <a:srgbClr val="a50021"/>
                  </a:solidFill>
                  <a:latin typeface="Times New Roman"/>
                </a:rPr>
                <a:t>题以下的请你以后多与妈妈沟通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后记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滴水之恩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涌泉相报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不但要</a:t>
            </a:r>
            <a:r>
              <a:rPr b="0" lang="zh-CN" sz="3200" spc="-1" strike="noStrike">
                <a:solidFill>
                  <a:srgbClr val="c60a00"/>
                </a:solidFill>
                <a:latin typeface="Arial"/>
                <a:ea typeface="Arial"/>
              </a:rPr>
              <a:t>感恩社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感恩父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感恩他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而且要感恩自然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感恩物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感恩环境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感恩于一切施恩于人类的要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黑体"/>
              </a:rPr>
              <a:t>周记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想感谢的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周末的时候做一件令父母开心的事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630480" y="274680"/>
            <a:ext cx="205596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隶书"/>
              <a:ea typeface="隶书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274680"/>
            <a:ext cx="599292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隶书"/>
              <a:ea typeface="隶书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152280" y="30240"/>
            <a:ext cx="9448560" cy="67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990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华文彩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彩云"/>
                <a:ea typeface="华文彩云"/>
              </a:rPr>
              <a:t>祝同学们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彩云"/>
                <a:ea typeface="华文彩云"/>
              </a:rPr>
              <a:t>                 </a:t>
            </a:r>
            <a:r>
              <a:rPr b="1" lang="zh-CN" sz="5400" spc="-1" strike="noStrike">
                <a:solidFill>
                  <a:srgbClr val="ff0000"/>
                </a:solidFill>
                <a:latin typeface="华文彩云"/>
                <a:ea typeface="华文彩云"/>
              </a:rPr>
              <a:t>家庭幸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彩云"/>
                <a:ea typeface="华文彩云"/>
              </a:rPr>
              <a:t>                             </a:t>
            </a:r>
            <a:r>
              <a:rPr b="1" lang="zh-CN" sz="5400" spc="-1" strike="noStrike">
                <a:solidFill>
                  <a:srgbClr val="ff0000"/>
                </a:solidFill>
                <a:latin typeface="华文彩云"/>
                <a:ea typeface="华文彩云"/>
              </a:rPr>
              <a:t>学习进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630480" y="274680"/>
            <a:ext cx="205596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隶书"/>
              <a:ea typeface="隶书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274680"/>
            <a:ext cx="599292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隶书"/>
              <a:ea typeface="隶书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68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630480" y="274680"/>
            <a:ext cx="205596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隶书"/>
              <a:ea typeface="隶书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274680"/>
            <a:ext cx="599292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隶书"/>
              <a:ea typeface="隶书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23760"/>
            <a:ext cx="9144000" cy="68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630480" y="274680"/>
            <a:ext cx="205596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隶书"/>
              <a:ea typeface="隶书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274680"/>
            <a:ext cx="599292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隶书"/>
              <a:ea typeface="隶书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63360"/>
            <a:ext cx="9144000" cy="673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630480" y="274680"/>
            <a:ext cx="205596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隶书"/>
              <a:ea typeface="隶书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274680"/>
            <a:ext cx="599292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隶书"/>
              <a:ea typeface="隶书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103320"/>
            <a:ext cx="9144000" cy="66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12:22:21Z</dcterms:created>
  <dc:creator>主题班会课件(分28大类): http://shop62905894.taobao.com</dc:creator>
  <dc:description/>
  <cp:keywords>主题班会课件(分28大类): http://shop62905894.taobao.com</cp:keywords>
  <dc:language>en-US</dc:language>
  <cp:lastModifiedBy>User</cp:lastModifiedBy>
  <dcterms:modified xsi:type="dcterms:W3CDTF">2013-04-13T17:00:48Z</dcterms:modified>
  <cp:revision>1</cp:revision>
  <dc:subject>主题班会课件(分28大类): http://shop62905894.taobao.com</dc:subject>
  <dc:title>主题班会课件(分28大类): http://shop62905894.taobao.com</dc:title>
</cp:coreProperties>
</file>