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7.jpeg" ContentType="image/jpeg"/>
  <Override PartName="/ppt/media/image60.gif" ContentType="image/gif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13.jpeg" ContentType="image/jpeg"/>
  <Override PartName="/ppt/media/image23.png" ContentType="image/png"/>
  <Override PartName="/ppt/media/image55.jpeg" ContentType="image/jpeg"/>
  <Override PartName="/ppt/media/image33.jpeg" ContentType="image/jpeg"/>
  <Override PartName="/ppt/media/image27.png" ContentType="image/png"/>
  <Override PartName="/ppt/media/image3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62.gif" ContentType="image/gif"/>
  <Override PartName="/ppt/media/image61.jpeg" ContentType="image/jpeg"/>
  <Override PartName="/ppt/media/image4.png" ContentType="image/png"/>
  <Override PartName="/ppt/media/image64.png" ContentType="image/png"/>
  <Override PartName="/ppt/media/image59.gif" ContentType="image/gif"/>
  <Override PartName="/ppt/media/image18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31.jpeg" ContentType="image/jpeg"/>
  <Override PartName="/ppt/media/image25.png" ContentType="image/png"/>
  <Override PartName="/ppt/media/image15.gif" ContentType="image/gif"/>
  <Override PartName="/ppt/media/image42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22.png" ContentType="image/png"/>
  <Override PartName="/ppt/media/image17.gif" ContentType="image/gif"/>
  <Override PartName="/ppt/media/image51.png" ContentType="image/png"/>
  <Override PartName="/ppt/media/image6.gif" ContentType="image/gif"/>
  <Override PartName="/ppt/media/chimes.wav" ContentType="audio/x-wav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14.gif" ContentType="image/gif"/>
  <Override PartName="/ppt/media/image39.jpeg" ContentType="image/jpeg"/>
  <Override PartName="/ppt/media/image10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54.gif" ContentType="image/gif"/>
  <Override PartName="/ppt/media/image16.gif" ContentType="image/gif"/>
  <Override PartName="/ppt/media/image19.png" ContentType="image/png"/>
  <Override PartName="/ppt/media/image7.png" ContentType="image/png"/>
  <Override PartName="/ppt/media/image34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38.jpeg" ContentType="image/jpeg"/>
  <Override PartName="/ppt/media/image63.gif" ContentType="image/gif"/>
  <Override PartName="/ppt/media/image41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gif" ContentType="image/gif"/>
  <Override PartName="/ppt/media/image4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5FA-F9CB-4B34-8D3D-4E413AF9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B8A-145A-470B-A349-DAC9EC7E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C14-67D8-430D-99D6-365F598E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89A-B164-4E1E-B6AA-F29B11D7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8B20-26B0-4BC3-8109-B626F88D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F6DD-9C66-451B-BD76-5D54CF83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EF07-4064-4862-8BBC-B38A99D6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819A-E359-4A04-883D-D77E85D5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BA81-A666-4373-9F2B-DBF08D58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DB09-F541-4CDC-A727-1E5EFA87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A0F5-0274-45B1-B204-CDD356DB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41E-DE4F-4A04-B9E5-3141C3E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6460-2D4D-4D88-B604-4E976D2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93B2-87F2-4153-BC89-C468089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50C0-AF65-4870-A993-4A2BDB71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9101-4BDD-42E9-BE52-137F951B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6AEC-6C27-47D0-8006-879DB1B7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824A-59F7-4FF4-98C2-6CE3F087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3848-240F-4DAC-8B1C-3F1E5B2C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BD56-5DDC-4F5E-86D3-2E3D2ECC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5AB0-CCC8-4A85-8A86-B164CBB2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79DB-5D90-4E02-912C-AC585E34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611-1D6E-4E38-8D80-2A9E0E79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7B06-7A72-4081-BCC5-D76A2F66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3320-C2A6-4E53-B90E-A6C4E954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C042-5B54-4D21-92BF-ECA275E7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4684-0E5E-4631-842B-23657C1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F4687-5929-467B-91CF-272DD210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1642-AC59-4969-9FA6-EA772DB7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36D6-A1D6-4D8C-A00B-36F3502C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2A9B-E3F8-4F2C-A219-1ED3B883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1014-CC83-4FD9-AC2F-C3BEBC3C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24FF-AF12-4E1C-BA48-98B4CCBB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A94-BCB2-440F-B652-05B3E157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C8A6-FF36-4BC2-BDDE-C161736C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63AF-7992-4C7A-8222-2BE99CEF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5517-07A9-4ED4-B2E8-4C371A1A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7CACA-A075-4466-8374-DF6713E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EF905-F3B6-43A4-A539-FF22A55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ED61-22B1-4C05-87A5-5F2A22D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75381-B080-421C-8FE2-CE60860D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92C80-4320-4920-97F3-3D2EFB98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5E4C5-70B8-43E1-A93E-C95EFB3D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80BDD-80CA-4B74-8AAB-573E0FDA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CBB-A591-4BFB-885E-5CF1371D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82C9-98DE-415C-98AD-817ACB59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3115-973B-474D-B342-2FDBF81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D738-6F61-4C8C-804D-B4680EC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AA38-D2FA-45B4-9FBB-98F1C28B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2F67D-31E8-4D08-AE31-8597561F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B7532-4E2B-430A-BBEF-500E6FE9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4103-B1F6-42F0-8243-7F3BEAD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A570F-D1F4-4000-9E88-6C24E54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31FC-6B68-4ADB-9192-88E3CE9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08B3-2140-4D9A-9B3E-E267DBE4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C0C-5EA6-4278-80F3-FCED425F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38E26-2F08-4149-A3B9-082FEDAA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DD4-A4EE-455C-940C-A1B0A32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F58-D79C-4F92-A3CC-4EF76AB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E88-1960-4558-8066-ACEF3F7B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838B-326D-4D73-AA61-6AD8EC1C6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751B-E2EE-447C-BCFE-83190BCBA4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214-C452-4AFB-9F0D-878AE887C5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6E07-9FE5-49F0-8DEE-892948CA3AC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0AFA-6472-4A47-AE1D-ACF9BD69945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image" Target="../media/image15.gif"/><Relationship Id="rId20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30.jpeg"/><Relationship Id="rId1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31.jpeg"/><Relationship Id="rId1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32.jpeg"/><Relationship Id="rId1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4.gif"/><Relationship Id="rId19" Type="http://schemas.openxmlformats.org/officeDocument/2006/relationships/image" Target="../media/image33.jpeg"/><Relationship Id="rId20" Type="http://schemas.openxmlformats.org/officeDocument/2006/relationships/slideLayout" Target="../slideLayouts/slideLayout3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4.gif"/><Relationship Id="rId19" Type="http://schemas.openxmlformats.org/officeDocument/2006/relationships/image" Target="../media/image34.jpeg"/><Relationship Id="rId20" Type="http://schemas.openxmlformats.org/officeDocument/2006/relationships/slideLayout" Target="../slideLayouts/slideLayout3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4.gif"/><Relationship Id="rId19" Type="http://schemas.openxmlformats.org/officeDocument/2006/relationships/image" Target="../media/image35.jpeg"/><Relationship Id="rId20" Type="http://schemas.openxmlformats.org/officeDocument/2006/relationships/slideLayout" Target="../slideLayouts/slideLayout3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0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0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0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4.gif"/><Relationship Id="rId19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59.gif"/><Relationship Id="rId4" Type="http://schemas.openxmlformats.org/officeDocument/2006/relationships/image" Target="../media/image59.gif"/><Relationship Id="rId5" Type="http://schemas.openxmlformats.org/officeDocument/2006/relationships/image" Target="../media/image59.gif"/><Relationship Id="rId6" Type="http://schemas.openxmlformats.org/officeDocument/2006/relationships/image" Target="../media/image59.gif"/><Relationship Id="rId7" Type="http://schemas.openxmlformats.org/officeDocument/2006/relationships/image" Target="../media/image59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image" Target="../media/image59.gif"/><Relationship Id="rId11" Type="http://schemas.openxmlformats.org/officeDocument/2006/relationships/image" Target="../media/image59.gif"/><Relationship Id="rId12" Type="http://schemas.openxmlformats.org/officeDocument/2006/relationships/image" Target="../media/image59.gif"/><Relationship Id="rId13" Type="http://schemas.openxmlformats.org/officeDocument/2006/relationships/image" Target="../media/image60.gif"/><Relationship Id="rId14" Type="http://schemas.openxmlformats.org/officeDocument/2006/relationships/slideLayout" Target="../slideLayouts/slideLayout2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gif"/><Relationship Id="rId3" Type="http://schemas.openxmlformats.org/officeDocument/2006/relationships/image" Target="../media/image63.gif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50920" y="33336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亲情教育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205000"/>
            <a:ext cx="8424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华文新魏"/>
              </a:rPr>
              <a:t>尊重母亲   感悟母恩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华文新魏"/>
              <a:ea typeface="华文新魏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164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788000" y="1998720"/>
            <a:ext cx="904680" cy="1046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896160" y="1998720"/>
            <a:ext cx="904680" cy="1046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16000" y="9795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835280" y="2133720"/>
            <a:ext cx="900000" cy="1039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340000" y="549360"/>
            <a:ext cx="900000" cy="1039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796000" y="765000"/>
            <a:ext cx="900000" cy="1038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7885080" y="54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7524720" y="4005360"/>
            <a:ext cx="905040" cy="1046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684360" y="364644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2987640" y="4149720"/>
            <a:ext cx="900000" cy="1039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5456160" y="3971880"/>
            <a:ext cx="900360" cy="1038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7451640" y="54291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0" y="54291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4"/>
          <a:stretch/>
        </p:blipFill>
        <p:spPr>
          <a:xfrm>
            <a:off x="5508720" y="5429160"/>
            <a:ext cx="1082520" cy="1428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5"/>
          <a:stretch/>
        </p:blipFill>
        <p:spPr>
          <a:xfrm>
            <a:off x="4356000" y="530208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6"/>
          <a:stretch/>
        </p:blipFill>
        <p:spPr>
          <a:xfrm>
            <a:off x="6588000" y="54291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7"/>
          <a:stretch/>
        </p:blipFill>
        <p:spPr>
          <a:xfrm>
            <a:off x="3203640" y="52401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8"/>
          <a:stretch/>
        </p:blipFill>
        <p:spPr>
          <a:xfrm>
            <a:off x="2050920" y="5302080"/>
            <a:ext cx="1082880" cy="1428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9"/>
          <a:stretch/>
        </p:blipFill>
        <p:spPr>
          <a:xfrm>
            <a:off x="971640" y="5229360"/>
            <a:ext cx="1081080" cy="1428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39640" y="907920"/>
            <a:ext cx="799308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3333cc"/>
                </a:solidFill>
                <a:latin typeface="Arial"/>
              </a:rPr>
              <a:t>我们的名字是父母理想的编制，同学们，你们知道自己名字的含义吗？</a:t>
            </a:r>
            <a:br>
              <a:rPr sz="3000"/>
            </a:br>
            <a:r>
              <a:rPr b="1" lang="zh-CN" sz="3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3333cc"/>
                </a:solidFill>
                <a:latin typeface="Arial"/>
              </a:rPr>
              <a:t>我们的名字融入了父母多少的期望！我们向父母了解到给自己取名字花的心思和名字中蕴涵的期望，就能感受到父母深深的爱。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700" spc="-1" strike="noStrike">
                <a:solidFill>
                  <a:srgbClr val="3333cc"/>
                </a:solidFill>
                <a:latin typeface="Arial"/>
              </a:rPr>
              <a:t>★★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2—3</a:t>
            </a:r>
            <a:r>
              <a:rPr b="1" lang="zh-CN" sz="2700" spc="-1" strike="noStrike">
                <a:solidFill>
                  <a:srgbClr val="3333cc"/>
                </a:solidFill>
                <a:latin typeface="Arial"/>
              </a:rPr>
              <a:t>个学生交流自己名字中蕴涵的意义★★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940360" y="476280"/>
            <a:ext cx="2843280" cy="3357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-7920" y="3801960"/>
            <a:ext cx="3384360" cy="3068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 rot="5400000">
            <a:off x="286200" y="1160640"/>
            <a:ext cx="2952720" cy="187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cc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算一算</a:t>
            </a:r>
            <a:endParaRPr b="0" lang="en-US" sz="40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00cc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 rot="5400000">
            <a:off x="2446200" y="1808640"/>
            <a:ext cx="5185080" cy="23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亲情账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324000" y="1100160"/>
            <a:ext cx="87138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母亲（</a:t>
            </a:r>
            <a:r>
              <a:rPr b="0" lang="en-US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mother</a:t>
            </a: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）的诠释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63" name=""/>
          <p:cNvSpPr/>
          <p:nvPr/>
        </p:nvSpPr>
        <p:spPr>
          <a:xfrm>
            <a:off x="2710080" y="5300640"/>
            <a:ext cx="38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仔细想想，原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the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词是可以这样解释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06280" y="76320"/>
            <a:ext cx="8937720" cy="2057400"/>
            <a:chOff x="206280" y="76320"/>
            <a:chExt cx="8937720" cy="205740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206280" y="76320"/>
              <a:ext cx="18511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209680" y="427320"/>
              <a:ext cx="69343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M”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million)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：</a:t>
              </a:r>
              <a:r>
                <a:rPr b="0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您给了我整个世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M-is for the million things she gave me</a:t>
              </a:r>
              <a:r>
                <a:rPr b="0" lang="zh-CN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3333cc"/>
                  </a:solidFill>
                  <a:latin typeface="Arial"/>
                </a:rPr>
                <a:t>much</a:t>
              </a:r>
              <a:r>
                <a:rPr b="1" lang="en-US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):</a:t>
              </a:r>
              <a:r>
                <a:rPr b="0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妈妈为我们付出很多很多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04920" y="2133720"/>
            <a:ext cx="8839080" cy="2047680"/>
            <a:chOff x="304920" y="2133720"/>
            <a:chExt cx="8839080" cy="2047680"/>
          </a:xfrm>
        </p:grpSpPr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304920" y="2133720"/>
              <a:ext cx="176832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286000" y="2408040"/>
              <a:ext cx="685800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“</a:t>
              </a:r>
              <a:r>
                <a:rPr b="1" lang="en-US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O”(old)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：妈妈为我们日渐衰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您的头上已经出现了白发                     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O-means only that she's growing ol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31640" y="4114800"/>
            <a:ext cx="8636040" cy="2219400"/>
            <a:chOff x="431640" y="4114800"/>
            <a:chExt cx="8636040" cy="2219400"/>
          </a:xfrm>
        </p:grpSpPr>
        <p:pic>
          <p:nvPicPr>
            <p:cNvPr id="271" name="" descr=""/>
            <p:cNvPicPr/>
            <p:nvPr/>
          </p:nvPicPr>
          <p:blipFill>
            <a:blip r:embed="rId4"/>
            <a:stretch/>
          </p:blipFill>
          <p:spPr>
            <a:xfrm>
              <a:off x="431640" y="4114800"/>
              <a:ext cx="169236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61960" y="4648320"/>
              <a:ext cx="6705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“</a:t>
              </a:r>
              <a:r>
                <a:rPr b="1" lang="en-US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T”(tears)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：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您为了我流了无数的泪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T-is for the tears she shed to save me,</a:t>
              </a:r>
              <a:r>
                <a:rPr b="0" lang="en-US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228600" y="228600"/>
            <a:ext cx="8839080" cy="2133720"/>
            <a:chOff x="228600" y="228600"/>
            <a:chExt cx="8839080" cy="213372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228600" y="228600"/>
              <a:ext cx="1700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133720" y="533520"/>
              <a:ext cx="693396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H”(heart)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：</a:t>
              </a:r>
              <a:r>
                <a:rPr b="0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妈妈有一颗慈爱温暖的心．您有金子般高贵的心灵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　　 </a:t>
              </a:r>
              <a:r>
                <a:rPr b="1" lang="zh-CN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H-is for her heart of purest gol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28600" y="2209680"/>
            <a:ext cx="8991360" cy="2295360"/>
            <a:chOff x="228600" y="2209680"/>
            <a:chExt cx="8991360" cy="2295360"/>
          </a:xfrm>
        </p:grpSpPr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228600" y="2209680"/>
              <a:ext cx="18327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929600" y="2483640"/>
              <a:ext cx="729036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“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E”(eyes)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：</a:t>
              </a:r>
              <a:r>
                <a:rPr b="0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妈妈注视我们的目光总是充满爱．您的眼睛闪着慈爱的光芒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 </a:t>
              </a:r>
              <a:r>
                <a:rPr b="1" lang="zh-CN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　　　　</a:t>
              </a:r>
              <a:r>
                <a:rPr b="1" lang="zh-CN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E-is for her eyes, with love-light shi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80880" y="4343400"/>
            <a:ext cx="8839080" cy="2171520"/>
            <a:chOff x="380880" y="4343400"/>
            <a:chExt cx="8839080" cy="2171520"/>
          </a:xfrm>
        </p:grpSpPr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380880" y="4343400"/>
              <a:ext cx="164232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132640" y="4713120"/>
              <a:ext cx="70873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R”(right)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：</a:t>
              </a:r>
              <a:r>
                <a:rPr b="0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妈妈总教导我们做正确的事．您是公正的，您不会欺骗我们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　　　　　　　　　　　</a:t>
              </a:r>
              <a:r>
                <a:rPr b="1" lang="zh-CN" sz="1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R-means right, and right she'll always b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539640" y="260280"/>
            <a:ext cx="3816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人分享</a:t>
            </a:r>
            <a:endParaRPr b="0" lang="en-US" sz="4000" spc="1" strike="noStrike">
              <a:ln w="1260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32000" y="3429000"/>
            <a:ext cx="640872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母恩故事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2602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你是否了解你妈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219320"/>
            <a:ext cx="7924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的生日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的体重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的身高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穿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码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喜欢颜色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喜欢水果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喜欢的花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喜欢的日常消遣活动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55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妈妈经常用来教育你的口头禅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181480" y="1371600"/>
            <a:ext cx="3733920" cy="2777760"/>
            <a:chOff x="5181480" y="1371600"/>
            <a:chExt cx="3733920" cy="2777760"/>
          </a:xfrm>
        </p:grpSpPr>
        <p:sp>
          <p:nvSpPr>
            <p:cNvPr id="290" name=""/>
            <p:cNvSpPr/>
            <p:nvPr/>
          </p:nvSpPr>
          <p:spPr>
            <a:xfrm>
              <a:off x="5181480" y="1371600"/>
              <a:ext cx="3733920" cy="2777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0080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800" y="1371600"/>
              <a:ext cx="36576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请你如实回答</a:t>
              </a: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同学可以把答案写在一张纸寄给你妈妈评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答对</a:t>
              </a: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</a:rPr>
                <a:t>题以下的请你以后多与妈妈沟通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19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752480" y="955800"/>
            <a:ext cx="563904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393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3333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回报亲情</a:t>
            </a:r>
            <a:endParaRPr b="1" lang="en-US" sz="1800" spc="-1" strike="noStrike">
              <a:ln w="9360">
                <a:solidFill>
                  <a:srgbClr val="ff3333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94" name=""/>
          <p:cNvSpPr/>
          <p:nvPr/>
        </p:nvSpPr>
        <p:spPr>
          <a:xfrm>
            <a:off x="58514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828800"/>
            <a:ext cx="822960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学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感悟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亲情是人间的至美乐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回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自己的行动去回报亲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hank you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191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812000" y="3573360"/>
            <a:ext cx="959040" cy="114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8317080" y="4005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968400" y="3054240"/>
            <a:ext cx="898560" cy="1040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7156440" y="4560840"/>
            <a:ext cx="900000" cy="1038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1308240" y="4560840"/>
            <a:ext cx="900000" cy="1038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819144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9"/>
          <a:stretch/>
        </p:blipFill>
        <p:spPr>
          <a:xfrm>
            <a:off x="7361280" y="2270160"/>
            <a:ext cx="898560" cy="10382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819144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1"/>
          <a:stretch/>
        </p:blipFill>
        <p:spPr>
          <a:xfrm>
            <a:off x="8191440" y="2708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250920" y="1484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3"/>
          <a:stretch/>
        </p:blipFill>
        <p:spPr>
          <a:xfrm>
            <a:off x="6948360" y="551808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4"/>
          <a:stretch/>
        </p:blipFill>
        <p:spPr>
          <a:xfrm>
            <a:off x="-244440" y="5084640"/>
            <a:ext cx="1073160" cy="1428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5"/>
          <a:stretch/>
        </p:blipFill>
        <p:spPr>
          <a:xfrm>
            <a:off x="1187280" y="5589720"/>
            <a:ext cx="1081080" cy="14284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6"/>
          <a:stretch/>
        </p:blipFill>
        <p:spPr>
          <a:xfrm>
            <a:off x="466560" y="5445000"/>
            <a:ext cx="1082880" cy="14288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7"/>
          <a:stretch/>
        </p:blipFill>
        <p:spPr>
          <a:xfrm>
            <a:off x="8028000" y="537372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8"/>
          <a:stretch/>
        </p:blipFill>
        <p:spPr>
          <a:xfrm>
            <a:off x="2268360" y="0"/>
            <a:ext cx="443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908000" y="189000"/>
            <a:ext cx="6193080" cy="23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体验亲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619280" y="5581800"/>
            <a:ext cx="5715000" cy="799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02040" y="5324400"/>
            <a:ext cx="284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Arial"/>
                <a:ea typeface="楷体_GB2312"/>
              </a:rPr>
              <a:t>生命，以及生命的初衷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119480" y="3517920"/>
            <a:ext cx="905040" cy="1044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8101080" y="386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104840" y="4495680"/>
            <a:ext cx="898560" cy="1038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34920" y="3933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179280" y="1557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7020000" y="3971880"/>
            <a:ext cx="900000" cy="10382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1104840" y="3317760"/>
            <a:ext cx="898560" cy="1038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7291440" y="2662200"/>
            <a:ext cx="900000" cy="10414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774072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0"/>
          <a:stretch/>
        </p:blipFill>
        <p:spPr>
          <a:xfrm>
            <a:off x="819144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1"/>
          <a:stretch/>
        </p:blipFill>
        <p:spPr>
          <a:xfrm>
            <a:off x="8191440" y="2708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2"/>
          <a:stretch/>
        </p:blipFill>
        <p:spPr>
          <a:xfrm>
            <a:off x="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3"/>
          <a:stretch/>
        </p:blipFill>
        <p:spPr>
          <a:xfrm>
            <a:off x="6948360" y="544500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4"/>
          <a:stretch/>
        </p:blipFill>
        <p:spPr>
          <a:xfrm>
            <a:off x="755640" y="551808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5"/>
          <a:stretch/>
        </p:blipFill>
        <p:spPr>
          <a:xfrm>
            <a:off x="-28440" y="5373720"/>
            <a:ext cx="1073160" cy="14288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6"/>
          <a:stretch/>
        </p:blipFill>
        <p:spPr>
          <a:xfrm>
            <a:off x="1332000" y="5589720"/>
            <a:ext cx="1081080" cy="1428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7"/>
          <a:stretch/>
        </p:blipFill>
        <p:spPr>
          <a:xfrm>
            <a:off x="7885080" y="508464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8"/>
          <a:stretch/>
        </p:blipFill>
        <p:spPr>
          <a:xfrm>
            <a:off x="2340000" y="-27000"/>
            <a:ext cx="43322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77080" y="3860640"/>
            <a:ext cx="906480" cy="104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956720" y="386064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0" y="3365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763560" y="2203560"/>
            <a:ext cx="900000" cy="10396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6883560" y="1700280"/>
            <a:ext cx="900000" cy="10396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1008000" y="4103640"/>
            <a:ext cx="900000" cy="1038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8"/>
          <a:stretch/>
        </p:blipFill>
        <p:spPr>
          <a:xfrm>
            <a:off x="752472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1258920" y="917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8191440" y="2276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1"/>
          <a:stretch/>
        </p:blipFill>
        <p:spPr>
          <a:xfrm>
            <a:off x="7361280" y="2708280"/>
            <a:ext cx="898560" cy="1039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2"/>
          <a:stretch/>
        </p:blipFill>
        <p:spPr>
          <a:xfrm>
            <a:off x="900000" y="2793960"/>
            <a:ext cx="900360" cy="10382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3"/>
          <a:stretch/>
        </p:blipFill>
        <p:spPr>
          <a:xfrm>
            <a:off x="6661080" y="5229360"/>
            <a:ext cx="1079640" cy="14284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4"/>
          <a:stretch/>
        </p:blipFill>
        <p:spPr>
          <a:xfrm>
            <a:off x="0" y="54291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5"/>
          <a:stretch/>
        </p:blipFill>
        <p:spPr>
          <a:xfrm>
            <a:off x="826920" y="5373720"/>
            <a:ext cx="1082880" cy="14288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6"/>
          <a:stretch/>
        </p:blipFill>
        <p:spPr>
          <a:xfrm>
            <a:off x="1547640" y="5445000"/>
            <a:ext cx="1081440" cy="14288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17"/>
          <a:stretch/>
        </p:blipFill>
        <p:spPr>
          <a:xfrm>
            <a:off x="7740720" y="494172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8"/>
          <a:stretch/>
        </p:blipFill>
        <p:spPr>
          <a:xfrm>
            <a:off x="2384280" y="52560"/>
            <a:ext cx="4203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139840" y="3517920"/>
            <a:ext cx="906480" cy="1044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097680" y="2451240"/>
            <a:ext cx="906480" cy="1046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7020000" y="3840120"/>
            <a:ext cx="906480" cy="10447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4920" y="3933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1647720" y="4232160"/>
            <a:ext cx="901800" cy="10400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8317080" y="386064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>
            <a:off x="179280" y="1413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8"/>
          <a:stretch/>
        </p:blipFill>
        <p:spPr>
          <a:xfrm>
            <a:off x="819144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9"/>
          <a:stretch/>
        </p:blipFill>
        <p:spPr>
          <a:xfrm>
            <a:off x="8191440" y="18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0"/>
          <a:stretch/>
        </p:blipFill>
        <p:spPr>
          <a:xfrm>
            <a:off x="819144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1"/>
          <a:stretch/>
        </p:blipFill>
        <p:spPr>
          <a:xfrm>
            <a:off x="8191440" y="2708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3"/>
          <a:stretch/>
        </p:blipFill>
        <p:spPr>
          <a:xfrm>
            <a:off x="8101080" y="515772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4"/>
          <a:stretch/>
        </p:blipFill>
        <p:spPr>
          <a:xfrm>
            <a:off x="0" y="50133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5"/>
          <a:stretch/>
        </p:blipFill>
        <p:spPr>
          <a:xfrm>
            <a:off x="971640" y="50133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6"/>
          <a:stretch/>
        </p:blipFill>
        <p:spPr>
          <a:xfrm>
            <a:off x="1979640" y="515772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7"/>
          <a:stretch/>
        </p:blipFill>
        <p:spPr>
          <a:xfrm>
            <a:off x="7020000" y="515772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8"/>
          <a:stretch/>
        </p:blipFill>
        <p:spPr>
          <a:xfrm>
            <a:off x="7740720" y="2781360"/>
            <a:ext cx="958680" cy="11491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9"/>
          <a:stretch/>
        </p:blipFill>
        <p:spPr>
          <a:xfrm>
            <a:off x="126036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139840" y="3517920"/>
            <a:ext cx="906480" cy="1044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097680" y="2451240"/>
            <a:ext cx="906480" cy="1046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6097680" y="4578480"/>
            <a:ext cx="906480" cy="10461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395280" y="1844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8172360" y="4149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7"/>
          <a:stretch/>
        </p:blipFill>
        <p:spPr>
          <a:xfrm>
            <a:off x="0" y="4508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8"/>
          <a:stretch/>
        </p:blipFill>
        <p:spPr>
          <a:xfrm>
            <a:off x="819144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191440" y="18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0"/>
          <a:stretch/>
        </p:blipFill>
        <p:spPr>
          <a:xfrm>
            <a:off x="819144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1"/>
          <a:stretch/>
        </p:blipFill>
        <p:spPr>
          <a:xfrm>
            <a:off x="8191440" y="2708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2"/>
          <a:stretch/>
        </p:blipFill>
        <p:spPr>
          <a:xfrm>
            <a:off x="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3"/>
          <a:stretch/>
        </p:blipFill>
        <p:spPr>
          <a:xfrm>
            <a:off x="6804000" y="537372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4"/>
          <a:stretch/>
        </p:blipFill>
        <p:spPr>
          <a:xfrm>
            <a:off x="0" y="54291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5"/>
          <a:stretch/>
        </p:blipFill>
        <p:spPr>
          <a:xfrm>
            <a:off x="1908000" y="5589720"/>
            <a:ext cx="1081440" cy="1428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6"/>
          <a:stretch/>
        </p:blipFill>
        <p:spPr>
          <a:xfrm>
            <a:off x="755640" y="551808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7"/>
          <a:stretch/>
        </p:blipFill>
        <p:spPr>
          <a:xfrm>
            <a:off x="8101080" y="537372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8"/>
          <a:stretch/>
        </p:blipFill>
        <p:spPr>
          <a:xfrm>
            <a:off x="8185320" y="1828800"/>
            <a:ext cx="958680" cy="11494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9"/>
          <a:stretch/>
        </p:blipFill>
        <p:spPr>
          <a:xfrm>
            <a:off x="1403280" y="-9360"/>
            <a:ext cx="66103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139840" y="3517920"/>
            <a:ext cx="906480" cy="10447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097680" y="2451240"/>
            <a:ext cx="906480" cy="10461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097680" y="4578480"/>
            <a:ext cx="906480" cy="1046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79280" y="170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819144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0" y="422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8028000" y="177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9"/>
          <a:stretch/>
        </p:blipFill>
        <p:spPr>
          <a:xfrm>
            <a:off x="8191440" y="18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0"/>
          <a:stretch/>
        </p:blipFill>
        <p:spPr>
          <a:xfrm>
            <a:off x="819144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1"/>
          <a:stretch/>
        </p:blipFill>
        <p:spPr>
          <a:xfrm>
            <a:off x="8191440" y="2708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2"/>
          <a:stretch/>
        </p:blipFill>
        <p:spPr>
          <a:xfrm>
            <a:off x="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3"/>
          <a:stretch/>
        </p:blipFill>
        <p:spPr>
          <a:xfrm>
            <a:off x="7451640" y="544500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4"/>
          <a:stretch/>
        </p:blipFill>
        <p:spPr>
          <a:xfrm>
            <a:off x="826920" y="5302080"/>
            <a:ext cx="1082880" cy="14288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5"/>
          <a:stretch/>
        </p:blipFill>
        <p:spPr>
          <a:xfrm>
            <a:off x="0" y="5229360"/>
            <a:ext cx="1081080" cy="14284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6"/>
          <a:stretch/>
        </p:blipFill>
        <p:spPr>
          <a:xfrm>
            <a:off x="1187280" y="537372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7"/>
          <a:stretch/>
        </p:blipFill>
        <p:spPr>
          <a:xfrm>
            <a:off x="8245440" y="5229360"/>
            <a:ext cx="1079640" cy="14284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8"/>
          <a:stretch/>
        </p:blipFill>
        <p:spPr>
          <a:xfrm>
            <a:off x="8028000" y="3502080"/>
            <a:ext cx="958680" cy="1149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9"/>
          <a:stretch/>
        </p:blipFill>
        <p:spPr>
          <a:xfrm>
            <a:off x="1181160" y="0"/>
            <a:ext cx="670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64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57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无论以后的路多么辛苦，我绝对不会轻易地说放弃。因为我肩负的不仅是自己的未来，还有沉甸甸的、父母的期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5640" y="566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对于我们来说，我们之所以快乐，是因为我们得到了父母的给予；对于父母来说，他们之所以快乐，是因为他们对我们尽心努力的付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882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360" y="551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有感于母爱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它是人类情感世界中的一个奇迹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一个永恒的美神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正是由于它的遗传生息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才有了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"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人之初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性本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";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才有了爱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仿宋_GB2312"/>
              </a:rPr>
              <a:t>------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这个世界永恒的主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5950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64520" y="2462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闻雷泣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01520" y="5950080"/>
            <a:ext cx="1085400" cy="864720"/>
            <a:chOff x="101520" y="5950080"/>
            <a:chExt cx="1085400" cy="864720"/>
          </a:xfrm>
        </p:grpSpPr>
        <p:pic>
          <p:nvPicPr>
            <p:cNvPr id="423" name="" descr=""/>
            <p:cNvPicPr/>
            <p:nvPr/>
          </p:nvPicPr>
          <p:blipFill>
            <a:blip r:embed="rId2"/>
            <a:stretch/>
          </p:blipFill>
          <p:spPr>
            <a:xfrm>
              <a:off x="101520" y="5950080"/>
              <a:ext cx="10854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 txBox="1"/>
            <p:nvPr/>
          </p:nvSpPr>
          <p:spPr>
            <a:xfrm>
              <a:off x="285480" y="6349320"/>
              <a:ext cx="690120" cy="36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华文行楷"/>
                </a:rPr>
                <a:t>亲情</a:t>
              </a:r>
              <a:endParaRPr b="0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行楷"/>
                <a:ea typeface="华文行楷"/>
              </a:endParaRPr>
            </a:p>
          </p:txBody>
        </p:sp>
      </p:grp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1908000" y="5891040"/>
            <a:ext cx="5715000" cy="800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716880" y="763200"/>
            <a:ext cx="24271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王裒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魏晋时期营陵（今山东昌乐东南）人，博学多能。以教书为业。其母在世时怕雷，死后埋葬在山林中。每当风雨天气，听到雷声，他就跑到母亲坟前，跪拜安慰母亲说：“裒儿在这里，母亲不要害怕。”他教书时，每当读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蓼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篇，就常常泪流满面，思念父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595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364520" y="595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恣蚊饱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01520" y="5950080"/>
            <a:ext cx="1085400" cy="864720"/>
            <a:chOff x="101520" y="5950080"/>
            <a:chExt cx="1085400" cy="864720"/>
          </a:xfrm>
        </p:grpSpPr>
        <p:pic>
          <p:nvPicPr>
            <p:cNvPr id="430" name="" descr=""/>
            <p:cNvPicPr/>
            <p:nvPr/>
          </p:nvPicPr>
          <p:blipFill>
            <a:blip r:embed="rId2"/>
            <a:stretch/>
          </p:blipFill>
          <p:spPr>
            <a:xfrm>
              <a:off x="101520" y="5950080"/>
              <a:ext cx="10854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 txBox="1"/>
            <p:nvPr/>
          </p:nvSpPr>
          <p:spPr>
            <a:xfrm>
              <a:off x="285480" y="6349320"/>
              <a:ext cx="690120" cy="36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华文行楷"/>
                </a:rPr>
                <a:t>亲情</a:t>
              </a:r>
              <a:endParaRPr b="0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行楷"/>
                <a:ea typeface="华文行楷"/>
              </a:endParaRPr>
            </a:p>
          </p:txBody>
        </p:sp>
      </p:grp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1908000" y="5891040"/>
            <a:ext cx="5715000" cy="800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716880" y="1341360"/>
            <a:ext cx="2427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吴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晋朝濮阳人，八岁时就懂得孝敬父母。家里贫穷，没有蚊帐，蚊虫叮咬使父亲不能安睡。每到夏夜，吴猛总是赤身坐在父亲床前，任蚊虫叮咬而不驱赶，担心蚊虫离开自己去叮咬父亲。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595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7364520" y="595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扇枕温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01520" y="5950080"/>
            <a:ext cx="1085400" cy="864720"/>
            <a:chOff x="101520" y="5950080"/>
            <a:chExt cx="1085400" cy="864720"/>
          </a:xfrm>
        </p:grpSpPr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101520" y="5950080"/>
              <a:ext cx="10854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 txBox="1"/>
            <p:nvPr/>
          </p:nvSpPr>
          <p:spPr>
            <a:xfrm>
              <a:off x="285480" y="6349320"/>
              <a:ext cx="690120" cy="36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华文行楷"/>
                </a:rPr>
                <a:t>亲情</a:t>
              </a:r>
              <a:endParaRPr b="0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行楷"/>
                <a:ea typeface="华文行楷"/>
              </a:endParaRPr>
            </a:p>
          </p:txBody>
        </p:sp>
      </p:grp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1908000" y="5891040"/>
            <a:ext cx="5715000" cy="8002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716880" y="1226880"/>
            <a:ext cx="242712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黄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东汉江夏安陆人，九岁丧母，事父极孝。酷夏时为父亲扇凉枕席；寒冬时用身体为父亲温暖被褥。少年时即博通经典，文采飞扬，京师广泛流传“天下无双，江夏黄童”。安帝时任魏郡（今属河北）太守，魏郡遭受水灾，黄香尽其所有赈济灾民。著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九宫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天子冠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595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364520" y="595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涤亲溺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01520" y="5950080"/>
            <a:ext cx="1085400" cy="864720"/>
            <a:chOff x="101520" y="5950080"/>
            <a:chExt cx="1085400" cy="86472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101520" y="5950080"/>
              <a:ext cx="10854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 txBox="1"/>
            <p:nvPr/>
          </p:nvSpPr>
          <p:spPr>
            <a:xfrm>
              <a:off x="285480" y="6349320"/>
              <a:ext cx="690120" cy="36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华文行楷"/>
                </a:rPr>
                <a:t>亲情</a:t>
              </a:r>
              <a:endParaRPr b="0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行楷"/>
                <a:ea typeface="华文行楷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908000" y="5891040"/>
            <a:ext cx="5715000" cy="8002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716880" y="1341360"/>
            <a:ext cx="2427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黄庭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北宋分宁（今江西修水）人，著名诗人、书法家。虽身居高位，侍奉母亲却竭尽孝诚，每天晚上，都亲自为母亲洗涤溺器（便桶），没有一天忘记儿子应尽的职责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595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364520" y="595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卧冰求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1520" y="5950080"/>
            <a:ext cx="1085400" cy="864720"/>
            <a:chOff x="101520" y="5950080"/>
            <a:chExt cx="1085400" cy="864720"/>
          </a:xfrm>
        </p:grpSpPr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101520" y="5950080"/>
              <a:ext cx="10854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 txBox="1"/>
            <p:nvPr/>
          </p:nvSpPr>
          <p:spPr>
            <a:xfrm>
              <a:off x="285480" y="6349320"/>
              <a:ext cx="690120" cy="36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华文行楷"/>
                </a:rPr>
                <a:t>亲情</a:t>
              </a:r>
              <a:endParaRPr b="0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行楷"/>
                <a:ea typeface="华文行楷"/>
              </a:endParaRPr>
            </a:p>
          </p:txBody>
        </p:sp>
      </p:grp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1908000" y="5891040"/>
            <a:ext cx="5715000" cy="8002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716880" y="1268280"/>
            <a:ext cx="24271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王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琅琊人，生母早丧，继母朱氏多次在他父亲面前说他的坏话，使他失去父爱。父母患病，他衣不解带侍候，继母想吃活鲤鱼，适值天寒地冻，他解开衣服卧在冰上，冰忽然自行融化，跃出两条鲤鱼。继母食后，果然病愈。王祥隐居二十余年，后从温县县令做到大司农、司空、太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87036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52480" y="6095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方正姚体"/>
                <a:ea typeface="方正姚体"/>
              </a:rPr>
              <a:t>感动</a:t>
            </a:r>
            <a:r>
              <a:rPr b="1" lang="en-US" sz="4400" spc="-1" strike="noStrike">
                <a:solidFill>
                  <a:srgbClr val="ff0066"/>
                </a:solidFill>
                <a:latin typeface="方正姚体"/>
                <a:ea typeface="方正姚体"/>
              </a:rPr>
              <a:t>2004</a:t>
            </a:r>
            <a:r>
              <a:rPr b="1" lang="zh-CN" sz="4400" spc="-1" strike="noStrike">
                <a:solidFill>
                  <a:srgbClr val="ff0066"/>
                </a:solidFill>
                <a:latin typeface="方正姚体"/>
                <a:ea typeface="方正姚体"/>
              </a:rPr>
              <a:t>年中国的年度人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任长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梁万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田世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明正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徐本禹</a:t>
            </a:r>
            <a:r>
              <a:rPr b="0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97640" y="1579680"/>
            <a:ext cx="21780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牛玉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桂希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袁隆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孙必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刘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方正姚体"/>
                <a:ea typeface="方正姚体"/>
              </a:rPr>
              <a:t>女排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2859120" y="1052640"/>
            <a:ext cx="3225600" cy="54450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7702560" y="47628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华文行楷"/>
              </a:rPr>
              <a:t>田世国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  <a:ea typeface="华文行楷"/>
              </a:rPr>
              <a:t>——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华文行楷"/>
              </a:rPr>
              <a:t>美丽的谎言</a:t>
            </a:r>
            <a:br>
              <a:rPr sz="5400"/>
            </a:b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听到母亲患病的消息，在广州做律师的田世国匆匆赶回了山东老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田世国：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这一天对我和全家来说是非常难受的，有一种天塌下来的感觉，无法想象我妈会得这种病（尿毒症）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朱同玉（上海中山医院教授 ）：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他说他母亲养他这么大，应该享福的时候没有享到福反而生病了。他捐一个肾脏是应该的。他的态度非常坚决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762120" y="609480"/>
            <a:ext cx="777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  “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这没什么，看看母亲，想想为我们操劳一生，我觉得真值，太值了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……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517680" y="3284640"/>
            <a:ext cx="3622680" cy="33130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4508640" y="3284640"/>
            <a:ext cx="4095720" cy="33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16970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谁言寸草心，报得三春晖？”这是一个被追问了千年的问题。一个儿子在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004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用身体做出了自己的回答，他把生命的一部分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肾回馈给病危的母亲。在温暖的谎话里，母亲的生命也许依然脆弱，但是孝子的真诚已经坚如磐石。田世国，让天下所有的母亲收获慰藉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5724360" y="3573360"/>
            <a:ext cx="3348360" cy="2671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6788160" y="907920"/>
            <a:ext cx="155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2a2a"/>
                </a:solidFill>
                <a:latin typeface="Times New Roman"/>
                <a:ea typeface="隶书"/>
              </a:rPr>
              <a:t>田世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357640" cy="2971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1835280" y="40464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颁奖词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plus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7" name=""/>
            <p:cNvSpPr/>
            <p:nvPr/>
          </p:nvSpPr>
          <p:spPr>
            <a:xfrm>
              <a:off x="0" y="3962520"/>
              <a:ext cx="9144000" cy="289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9144000" cy="289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4920" y="3029040"/>
            <a:ext cx="9093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380000"/>
                  </a:outerShdw>
                </a:effectLst>
                <a:latin typeface="华文行楷"/>
              </a:rPr>
              <a:t>赞美母亲（诗词、歌曲）</a:t>
            </a:r>
            <a:endParaRPr b="1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38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816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18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82520" y="673200"/>
            <a:ext cx="518148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3c"/>
                  </a:outerShdw>
                </a:effectLst>
                <a:latin typeface="黑体"/>
              </a:rPr>
              <a:t>孝敬父母</a:t>
            </a:r>
            <a:r>
              <a:rPr b="1" i="1" lang="en-US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3c"/>
                  </a:outerShdw>
                </a:effectLst>
                <a:latin typeface="黑体"/>
              </a:rPr>
              <a:t>,</a:t>
            </a:r>
            <a:endParaRPr b="1" i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3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14480" y="3716280"/>
            <a:ext cx="8953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3c"/>
                  </a:outerShdw>
                </a:effectLst>
                <a:latin typeface="黑体"/>
              </a:rPr>
              <a:t>我们可以做什么</a:t>
            </a:r>
            <a:r>
              <a:rPr b="1" i="1" lang="en-US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3c"/>
                  </a:outerShdw>
                </a:effectLst>
                <a:latin typeface="黑体"/>
              </a:rPr>
              <a:t>?</a:t>
            </a:r>
            <a:endParaRPr b="1" i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3c"/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8191440" y="501336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Times New Roman"/>
                <a:ea typeface="隶书"/>
              </a:rPr>
              <a:t>回报母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36800" y="155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给父母一份惊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帮父母做家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陪父母聊聊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节约用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发奋学习，考上自己理想的大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58680" cy="11494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8185320" y="404640"/>
            <a:ext cx="958680" cy="11494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8185320" y="3502080"/>
            <a:ext cx="958680" cy="11491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0" y="3213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0" y="62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8"/>
          <a:stretch/>
        </p:blipFill>
        <p:spPr>
          <a:xfrm>
            <a:off x="7308720" y="836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9"/>
          <a:stretch/>
        </p:blipFill>
        <p:spPr>
          <a:xfrm>
            <a:off x="108000" y="4437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10"/>
          <a:stretch/>
        </p:blipFill>
        <p:spPr>
          <a:xfrm>
            <a:off x="819144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1"/>
          <a:stretch/>
        </p:blipFill>
        <p:spPr>
          <a:xfrm>
            <a:off x="8172360" y="234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2"/>
          <a:stretch/>
        </p:blipFill>
        <p:spPr>
          <a:xfrm>
            <a:off x="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3"/>
          <a:stretch/>
        </p:blipFill>
        <p:spPr>
          <a:xfrm>
            <a:off x="8062920" y="54291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4"/>
          <a:stretch/>
        </p:blipFill>
        <p:spPr>
          <a:xfrm>
            <a:off x="0" y="542916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5"/>
          <a:stretch/>
        </p:blipFill>
        <p:spPr>
          <a:xfrm>
            <a:off x="4067280" y="5373720"/>
            <a:ext cx="1082520" cy="14288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6"/>
          <a:stretch/>
        </p:blipFill>
        <p:spPr>
          <a:xfrm>
            <a:off x="1692360" y="544500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7"/>
          <a:stretch/>
        </p:blipFill>
        <p:spPr>
          <a:xfrm>
            <a:off x="6012000" y="544500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8"/>
          <a:stretch/>
        </p:blipFill>
        <p:spPr>
          <a:xfrm>
            <a:off x="7156440" y="2860560"/>
            <a:ext cx="90648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76320" y="78588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3c"/>
                  </a:outerShdw>
                </a:effectLst>
                <a:latin typeface="黑体"/>
              </a:rPr>
              <a:t>歌声里的父母</a:t>
            </a:r>
            <a:endParaRPr b="1" i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3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4" name=""/>
          <p:cNvSpPr/>
          <p:nvPr/>
        </p:nvSpPr>
        <p:spPr>
          <a:xfrm>
            <a:off x="1260360" y="3284640"/>
            <a:ext cx="5457960" cy="100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全班合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588000" y="206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2771640" y="98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4356000" y="62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084720" y="98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2050920" y="422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161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9"/>
          <a:stretch/>
        </p:blipFill>
        <p:spPr>
          <a:xfrm>
            <a:off x="3348000" y="4797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0"/>
          <a:stretch/>
        </p:blipFill>
        <p:spPr>
          <a:xfrm>
            <a:off x="4859280" y="486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1"/>
          <a:stretch/>
        </p:blipFill>
        <p:spPr>
          <a:xfrm>
            <a:off x="7236000" y="285264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2"/>
          <a:stretch/>
        </p:blipFill>
        <p:spPr>
          <a:xfrm>
            <a:off x="6516720" y="3933720"/>
            <a:ext cx="952560" cy="15112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468360" y="1484280"/>
            <a:ext cx="82296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爱爱爱爱爱爱爱爱爱爱爱爱爱爱爱爱爱爱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班会小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3"/>
          <a:stretch/>
        </p:blipFill>
        <p:spPr>
          <a:xfrm>
            <a:off x="3276720" y="2637000"/>
            <a:ext cx="2663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1258920" y="1268280"/>
            <a:ext cx="6551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华文行楷"/>
              </a:rPr>
              <a:t>尊重母亲</a:t>
            </a:r>
            <a:r>
              <a:rPr b="1" lang="en-US" sz="40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华文行楷"/>
              </a:rPr>
              <a:t>,</a:t>
            </a:r>
            <a:r>
              <a:rPr b="1" lang="zh-CN" sz="40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华文行楷"/>
              </a:rPr>
              <a:t>感悟母恩</a:t>
            </a:r>
            <a:endParaRPr b="1" lang="en-US" sz="4000" spc="-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华文行楷"/>
              <a:ea typeface="华文行楷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5508720" y="3284640"/>
            <a:ext cx="1828800" cy="17398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6920" y="37162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主题班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2952720" cy="1504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084720" y="6308640"/>
            <a:ext cx="26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华文行楷"/>
                <a:ea typeface="华文行楷"/>
              </a:rPr>
              <a:t>二</a:t>
            </a:r>
            <a:r>
              <a:rPr b="0" lang="zh-CN" sz="3000" spc="-1" strike="noStrike">
                <a:solidFill>
                  <a:srgbClr val="3333cc"/>
                </a:solidFill>
                <a:latin typeface="华文行楷"/>
                <a:ea typeface="华文行楷"/>
              </a:rPr>
              <a:t>00</a:t>
            </a:r>
            <a:r>
              <a:rPr b="0" lang="zh-CN" sz="30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八年五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8459640" y="465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5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30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8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5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309" dur="1" fill="hold"/>
                                  <p:tgtEl>
                                    <p:spTgt spid="5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1:08:47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17:30:37Z</dcterms:modified>
  <cp:revision>97</cp:revision>
  <dc:subject>主题班会课件(分28大类): http://shop62905894.taobao.com</dc:subject>
  <dc:title>主题班会课件(分28大类): http://shop62905894.taobao.com</dc:title>
</cp:coreProperties>
</file>