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png" ContentType="image/png"/>
  <Override PartName="/ppt/media/image7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18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6B8-451D-414A-9F4B-0F8416D1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E79-D605-48F2-BB72-05D4D845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AB75-66AE-462F-9560-8E55517D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CC3-84E6-44B9-ABBD-4B880184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E391-6004-4F7C-8260-50DB82DE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56EE-9945-4F00-A248-224757F2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1884-3CCD-4B00-B84A-279839D8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7ED2-E6B0-4CCF-8569-205B0C78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8B34-7B4B-42BE-AF17-4E193B5F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240C-E100-44D0-B86E-7397B598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DD02-6A28-4AA2-86A1-2D7218FB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71DA-3C9E-4966-94AB-B6BB2DDA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5D92-AA7C-4591-9794-890EE2FE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4DF9-4FC9-47D4-B58E-0748ADB4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46D8-5BE8-4901-8641-3992CAA3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519A-60F7-4A41-96AD-24FD16EC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C861-FC0C-411C-9666-FFAD7277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60F5A-7AE7-420D-9229-0C92FBE9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8E414-09AF-4089-B788-042B0D2A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79C1F-21EF-459B-BC89-2F369043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35C15-2A05-43AD-B24D-4E48CA62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16C51-F631-4AF3-AEE9-3BCBBAD3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5BC-E668-44E5-BC4E-0E4DDF06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6DAD9-CADD-42E2-8E78-3D1DFF19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9C32E-1837-45C6-8DDD-A6101CC2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23558-C0A8-4227-A7F4-E10A1D22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45D8D-C9C9-4708-86DE-DABFA80A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8C5A6-0CA6-4BF5-B557-1477FC3B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44639-858D-48E9-976D-3019A29A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1C19F-8FCA-4DE0-B81E-63E037C3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4092C-B082-4B10-AB5D-CF22CB2D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992BB-65FE-4550-AEE1-1BDCB3A2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9CAD3-5F2C-44F7-AC7A-129B7340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5CA-7185-4605-AF20-C8E2AEAB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F22C5-A8BF-4E9D-A2AD-40E5B0FB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8BE8D-CC67-4427-BB57-38D55297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3F3E7-F6B3-40C5-BFF6-BADB94C2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85CEA-47B4-4BF4-8FA7-8B334823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FD014-08B1-4BA3-AAC4-D3E5BFA2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00E56-C0C3-41A9-AB95-6311E49B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4E140-1704-48AF-9965-ED9C8EC3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0D2A0-9B47-473A-B3EA-22D14148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A00F1-BC45-4218-8DD8-416CC83F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FE3FD-586C-42F3-B4CF-831816CC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790-68F2-4443-ACBF-F4CC927D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48975-F6F6-491D-9D45-DE40761D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32BE0-93ED-47DA-A36E-E526F47C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D750F-FBC8-4B80-AAE6-E30DF61E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EBB0B-22A1-4247-BF06-83340512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6F312-B9AE-4C6B-BD04-B26EB9F8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2F28C-4011-4923-97AF-68BEB394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96606-2435-4E10-9B40-3D5E770F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2876F-E067-4FD3-B821-8E28E63F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28367-C8A5-4519-A334-596F7C6F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D4C57-7E2C-4A75-986B-0DD05DF1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89C-A98E-4B37-8741-A7039EE1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AD0CB-9B0E-4319-97A0-F20BEC83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F8C1-60BB-4FD3-8FF3-5B97FABD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F654-8476-496E-A17E-1FEB6A6F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531-35FD-4393-88D7-034B3C7B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894A-0AB3-43AA-8D34-56C8C0AAF1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8733-639D-4EBA-B1BB-95B3A30504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F104-4CF5-4A71-A497-4DD30AA108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63BC-F383-4E35-9E5F-405C4703DC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EA39-E511-46D3-AF86-031B2ABDA5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nhyz.org/yxx/games/games.htm" TargetMode="External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4000" y="400536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33cc33"/>
                </a:solidFill>
                <a:latin typeface="Times New Roman"/>
              </a:rPr>
              <a:t>家对你来说意味着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314172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看完这两幅图片，是否想起了自己的家？是什么样的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2276640"/>
            <a:ext cx="258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</a:rPr>
              <a:t>想一想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4920" y="1844640"/>
            <a:ext cx="4390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家，是一个充满亲情的地方，是我们温馨的港湾。</a:t>
            </a:r>
            <a:br>
              <a:rPr sz="4000"/>
            </a:b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父母对子女的爱是世界上最无私、最真挚的爱，所以我们要好好珍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371592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请记住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:</a:t>
            </a: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</a:t>
            </a:r>
            <a:br>
              <a:rPr sz="5400"/>
            </a:b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你的生日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你母亲的受难日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1989000"/>
            <a:ext cx="4788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家庭是我们疲倦时最想依傍的港湾。它带给我们的是温馨，愿我们都能拥有一个温馨和睦的家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95280" y="1700280"/>
            <a:ext cx="54720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32000" y="552600"/>
            <a:ext cx="4824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家，是停泊休息的港湾，是滋生快乐的乐园，是化解忧伤的春雨，是吸取力量的源泉。有了家，在人生的道路上，我们共同携手大胆的往前走。而在回家的路上，领会到家庭的温暖，家庭的感召，回家的感觉真是会使你感觉到幸福的心跳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27813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148360" y="602136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西乡中学 初一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755640" y="692280"/>
            <a:ext cx="1584360" cy="1771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1908000" y="765000"/>
            <a:ext cx="5977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----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温馨的港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66960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2349000"/>
            <a:ext cx="67690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没有上锁的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乡下小村庄的偏僻小屋里住著一对母女，母亲深怕遭窃总是一到晚上便在门把上连锁三道锁；女儿则厌恶了像风景画般枯燥而一成不变的乡村生活，她向往都市，想去看看自己透过收音机所想象的那个华丽世界。某天清晨，女儿为了追求那虚幻的梦离开了母亲身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她趁母亲睡觉时偷偷离家出走了。 “妈，你就当作没我这个女儿吧。”可惜这世界不如她想象的美丽动人，她在不知不觉中，走向堕落之途，深陷无法自拔的泥泞中，这时她才领悟到自己的过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妈！” 经过十年后，已经长大成人的女儿拖著受伤的心与狼狈的身躯，回到了故乡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65516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2878560"/>
            <a:ext cx="64087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她回到家时已是深夜，微弱的灯光透过门缝渗透轻敲了敲门，却突然有种不祥的预感。女儿扭开门时把她吓了一跳。“好奇怪，母亲之前从来不曾忘记把门锁上的。” 母亲瘦弱的身躯蜷曲在冰冷的地板，以令人心疼的模样睡著了。 “妈……妈……”听到女儿的哭泣声，母亲睁开眼睛，一语不发地搂住女儿疲惫的肩膀。在母亲怀里哭了很久之后，女儿突然好奇问道：“妈，今天你怎么没有锁门， 有人闯进来怎么办？” 母亲回答说：“不只是今天而已，我怕你晚上突然回来进不了家门，所以十年来门从没锁过。”母亲十年如一日，等待著女儿来，女儿房间里的摆设一如当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天晚上，母女回复到十年前的样子，紧紧锁上房门睡著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读了这个故事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你有什么感想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472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ffff"/>
                </a:solidFill>
                <a:latin typeface="Times New Roman"/>
              </a:rPr>
              <a:t>家人的爱是希望的摇篮， 感谢家的温暖， 给予我们不断成长的动力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2521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140360" y="30686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01:44:23Z</dcterms:created>
  <dc:creator>主题班会课件(分28大类): http://shop62905894.taobao.com</dc:creator>
  <dc:description>您的教学资源库【www.ShuLiHua.net】</dc:description>
  <cp:keywords>主题班会课件(分28大类): http://shop62905894.taobao.com</cp:keywords>
  <dc:language>en-US</dc:language>
  <cp:lastModifiedBy>User</cp:lastModifiedBy>
  <dcterms:modified xsi:type="dcterms:W3CDTF">2013-04-13T17:33:10Z</dcterms:modified>
  <cp:revision>15</cp:revision>
  <dc:subject>主题班会课件(分28大类): http://shop62905894.taobao.com</dc:subject>
  <dc:title>主题班会课件(分28大类): http://shop62905894.taobao.com</dc:title>
</cp:coreProperties>
</file>