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jpeg" ContentType="image/jpeg"/>
  <Override PartName="/ppt/media/image30.gif" ContentType="image/gif"/>
  <Override PartName="/ppt/media/image53.jpeg" ContentType="image/jpeg"/>
  <Override PartName="/ppt/media/image51.jpeg" ContentType="image/jpeg"/>
  <Override PartName="/ppt/media/image50.jpeg" ContentType="image/jpeg"/>
  <Override PartName="/ppt/media/applause.wav" ContentType="audio/x-wav"/>
  <Override PartName="/ppt/media/image48.jpeg" ContentType="image/jpeg"/>
  <Override PartName="/ppt/media/image44.gif" ContentType="image/gif"/>
  <Override PartName="/ppt/media/image47.png" ContentType="image/png"/>
  <Override PartName="/ppt/media/image52.jpeg" ContentType="image/jpeg"/>
  <Override PartName="/ppt/media/image37.gif" ContentType="image/gif"/>
  <Override PartName="/ppt/media/image43.gif" ContentType="image/gif"/>
  <Override PartName="/ppt/media/image36.png" ContentType="image/png"/>
  <Override PartName="/ppt/media/image9.jpeg" ContentType="image/jpeg"/>
  <Override PartName="/ppt/media/image35.jpeg" ContentType="image/jpeg"/>
  <Override PartName="/ppt/media/image31.jpeg" ContentType="image/jpeg"/>
  <Override PartName="/ppt/media/laser.wav" ContentType="audio/x-wav"/>
  <Override PartName="/ppt/media/image28.gif" ContentType="image/gif"/>
  <Override PartName="/ppt/media/image13.jpeg" ContentType="image/jpeg"/>
  <Override PartName="/ppt/media/image45.gif" ContentType="image/gif"/>
  <Override PartName="/ppt/media/image39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42.jpeg" ContentType="image/jpeg"/>
  <Override PartName="/ppt/media/image18.png" ContentType="image/png"/>
  <Override PartName="/ppt/media/image32.gif" ContentType="image/gif"/>
  <Override PartName="/ppt/media/image25.png" ContentType="image/png"/>
  <Override PartName="/ppt/media/image22.jpeg" ContentType="image/jpeg"/>
  <Override PartName="/ppt/media/image65.jpeg" ContentType="image/jpeg"/>
  <Override PartName="/ppt/media/image46.gif" ContentType="image/gif"/>
  <Override PartName="/ppt/media/image56.jpeg" ContentType="image/jpeg"/>
  <Override PartName="/ppt/media/image23.jpeg" ContentType="image/jpeg"/>
  <Override PartName="/ppt/media/image82.jpeg" ContentType="image/jpeg"/>
  <Override PartName="/ppt/media/image3.png" ContentType="image/png"/>
  <Override PartName="/ppt/media/image58.jpeg" ContentType="image/jpeg"/>
  <Override PartName="/ppt/media/image15.jpeg" ContentType="image/jpeg"/>
  <Override PartName="/ppt/media/image29.gif" ContentType="image/gif"/>
  <Override PartName="/ppt/media/image60.jpeg" ContentType="image/jpeg"/>
  <Override PartName="/ppt/media/image64.png" ContentType="image/png"/>
  <Override PartName="/ppt/media/image77.jpeg" ContentType="image/jpeg"/>
  <Override PartName="/ppt/media/image84.gif" ContentType="image/gif"/>
  <Override PartName="/ppt/media/image76.jpeg" ContentType="image/jpeg"/>
  <Override PartName="/ppt/media/image70.jpeg" ContentType="image/jpeg"/>
  <Override PartName="/ppt/media/image74.jpeg" ContentType="image/jpeg"/>
  <Override PartName="/ppt/media/image49.jpeg" ContentType="image/jpeg"/>
  <Override PartName="/ppt/media/image85.gif" ContentType="image/gif"/>
  <Override PartName="/ppt/media/image72.jpeg" ContentType="image/jpeg"/>
  <Override PartName="/ppt/media/image83.gif" ContentType="image/gif"/>
  <Override PartName="/ppt/media/image67.jpeg" ContentType="image/jpeg"/>
  <Override PartName="/ppt/media/image71.jpeg" ContentType="image/jpeg"/>
  <Override PartName="/ppt/media/image69.jpeg" ContentType="image/jpeg"/>
  <Override PartName="/ppt/media/image86.gif" ContentType="image/gif"/>
  <Override PartName="/ppt/media/image66.jpeg" ContentType="image/jpeg"/>
  <Override PartName="/ppt/media/image59.png" ContentType="image/png"/>
  <Override PartName="/ppt/media/image68.jpeg" ContentType="image/jpeg"/>
  <Override PartName="/ppt/media/image61.jpeg" ContentType="image/jpeg"/>
  <Override PartName="/ppt/media/image78.jpeg" ContentType="image/jpeg"/>
  <Override PartName="/ppt/media/image55.jpeg" ContentType="image/jpeg"/>
  <Override PartName="/ppt/media/image57.jpeg" ContentType="image/jpeg"/>
  <Override PartName="/ppt/media/image63.png" ContentType="image/png"/>
  <Override PartName="/ppt/media/image80.jpeg" ContentType="image/jpeg"/>
  <Override PartName="/ppt/media/image21.jpeg" ContentType="image/jpeg"/>
  <Override PartName="/ppt/media/image73.jpeg" ContentType="image/jpeg"/>
  <Override PartName="/ppt/media/drumroll.wav" ContentType="audio/x-wav"/>
  <Override PartName="/ppt/media/image33.jpeg" ContentType="image/jpeg"/>
  <Override PartName="/ppt/media/image34.gif" ContentType="image/gif"/>
  <Override PartName="/ppt/media/type.wav" ContentType="audio/x-wav"/>
  <Override PartName="/ppt/media/image6.jpeg" ContentType="image/jpeg"/>
  <Override PartName="/ppt/media/image81.gif" ContentType="image/gif"/>
  <Override PartName="/ppt/media/image79.jpeg" ContentType="image/jpeg"/>
  <Override PartName="/ppt/media/image62.jpeg" ContentType="image/jpeg"/>
  <Override PartName="/ppt/media/image19.png" ContentType="image/png"/>
  <Override PartName="/ppt/media/image14.jpeg" ContentType="image/jpeg"/>
  <Override PartName="/ppt/media/image27.png" ContentType="image/png"/>
  <Override PartName="/ppt/media/image24.gif" ContentType="image/gif"/>
  <Override PartName="/ppt/media/image11.jpeg" ContentType="image/jpeg"/>
  <Override PartName="/ppt/media/image20.png" ContentType="image/png"/>
  <Override PartName="/ppt/media/image16.png" ContentType="image/png"/>
  <Override PartName="/ppt/media/image1.gif" ContentType="image/gif"/>
  <Override PartName="/ppt/media/image7.jpeg" ContentType="image/jpeg"/>
  <Override PartName="/ppt/media/image38.jpeg" ContentType="image/jpeg"/>
  <Override PartName="/ppt/media/image12.jpeg" ContentType="image/jpeg"/>
  <Override PartName="/ppt/media/image41.gif" ContentType="image/gif"/>
  <Override PartName="/ppt/media/image75.jpeg" ContentType="image/jpeg"/>
  <Override PartName="/ppt/media/chimes.wav" ContentType="audio/x-wav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D91-7BD0-4AD3-B114-05F573CE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478-26D7-481D-B958-55ABE52D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1C8-B88E-44BD-A1C4-2A800CB8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6DD-26EA-4EA3-90A1-AE578236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030-C7FF-4E20-8341-267AE916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82C-F350-4674-8859-879164A5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B50-1D7D-49EC-88FE-0170C95A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D5F-1114-4EEE-9377-3E63F8DC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6BF-B54A-447D-86B3-6CEA8A61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166-03DF-4100-BD9D-2DCA1BD3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648-BF8D-44C5-91C4-374199F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BF4-90D0-4654-893C-83096241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6EDD-0B5C-4EDD-9061-7572E9A882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gif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3.png"/><Relationship Id="rId8" Type="http://schemas.openxmlformats.org/officeDocument/2006/relationships/image" Target="../media/image56.jpe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gif"/><Relationship Id="rId7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83.gif"/><Relationship Id="rId3" Type="http://schemas.openxmlformats.org/officeDocument/2006/relationships/image" Target="../media/image83.gif"/><Relationship Id="rId4" Type="http://schemas.openxmlformats.org/officeDocument/2006/relationships/image" Target="../media/image83.gif"/><Relationship Id="rId5" Type="http://schemas.openxmlformats.org/officeDocument/2006/relationships/image" Target="../media/image83.gif"/><Relationship Id="rId6" Type="http://schemas.openxmlformats.org/officeDocument/2006/relationships/image" Target="../media/image83.gif"/><Relationship Id="rId7" Type="http://schemas.openxmlformats.org/officeDocument/2006/relationships/image" Target="../media/image83.gif"/><Relationship Id="rId8" Type="http://schemas.openxmlformats.org/officeDocument/2006/relationships/image" Target="../media/image83.gif"/><Relationship Id="rId9" Type="http://schemas.openxmlformats.org/officeDocument/2006/relationships/image" Target="../media/image83.gif"/><Relationship Id="rId10" Type="http://schemas.openxmlformats.org/officeDocument/2006/relationships/image" Target="../media/image83.gif"/><Relationship Id="rId11" Type="http://schemas.openxmlformats.org/officeDocument/2006/relationships/image" Target="../media/image83.gif"/><Relationship Id="rId12" Type="http://schemas.openxmlformats.org/officeDocument/2006/relationships/image" Target="../media/image83.gif"/><Relationship Id="rId13" Type="http://schemas.openxmlformats.org/officeDocument/2006/relationships/image" Target="../media/image83.gif"/><Relationship Id="rId14" Type="http://schemas.openxmlformats.org/officeDocument/2006/relationships/image" Target="../media/image83.gif"/><Relationship Id="rId15" Type="http://schemas.openxmlformats.org/officeDocument/2006/relationships/image" Target="../media/image83.gif"/><Relationship Id="rId16" Type="http://schemas.openxmlformats.org/officeDocument/2006/relationships/image" Target="../media/image83.gif"/><Relationship Id="rId17" Type="http://schemas.openxmlformats.org/officeDocument/2006/relationships/image" Target="../media/image83.gif"/><Relationship Id="rId18" Type="http://schemas.openxmlformats.org/officeDocument/2006/relationships/image" Target="../media/image83.gif"/><Relationship Id="rId19" Type="http://schemas.openxmlformats.org/officeDocument/2006/relationships/image" Target="../media/image83.gif"/><Relationship Id="rId20" Type="http://schemas.openxmlformats.org/officeDocument/2006/relationships/image" Target="../media/image83.gif"/><Relationship Id="rId21" Type="http://schemas.openxmlformats.org/officeDocument/2006/relationships/image" Target="../media/image83.gif"/><Relationship Id="rId2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4.gif"/><Relationship Id="rId2" Type="http://schemas.openxmlformats.org/officeDocument/2006/relationships/image" Target="../media/image85.gif"/><Relationship Id="rId3" Type="http://schemas.openxmlformats.org/officeDocument/2006/relationships/image" Target="../media/image8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type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.png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808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600" spc="-1" strike="noStrike">
                <a:solidFill>
                  <a:srgbClr val="ff0000"/>
                </a:solidFill>
                <a:latin typeface="Arial"/>
                <a:ea typeface="华文行楷"/>
              </a:rPr>
              <a:t>欢迎您！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5364000" cy="1739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686800" y="6477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19320" y="457200"/>
            <a:ext cx="57909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隶书"/>
              </a:rPr>
              <a:t>真情告白</a:t>
            </a:r>
            <a:endParaRPr b="1" lang="en-US" sz="8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27640" y="4221000"/>
            <a:ext cx="19814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236000" y="5343480"/>
            <a:ext cx="1609560" cy="1287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692280"/>
            <a:ext cx="3809880" cy="21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诗朗诵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57400" y="380880"/>
            <a:ext cx="518148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游子吟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362320"/>
            <a:ext cx="815328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慈 母 手 中 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 子 身 上 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临 行 密 密 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 恐 迟 迟 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谁 言 寸 草 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报 得 三 春 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32560" y="5105520"/>
            <a:ext cx="171144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438280" y="76320"/>
            <a:ext cx="36576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华文中宋"/>
              </a:rPr>
              <a:t>母亲颂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华文中宋"/>
              <a:ea typeface="华文中宋"/>
            </a:endParaRPr>
          </a:p>
        </p:txBody>
      </p:sp>
      <p:sp>
        <p:nvSpPr>
          <p:cNvPr id="103" name=""/>
          <p:cNvSpPr/>
          <p:nvPr/>
        </p:nvSpPr>
        <p:spPr>
          <a:xfrm>
            <a:off x="-266760" y="990720"/>
            <a:ext cx="46864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就象一部长电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放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生命的最后时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部电影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我们看到了母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朴实憨厚勤劳和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用她甘甜的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哺育了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喂养了我们这是我们终身的幸福和骄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914400"/>
            <a:ext cx="55627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有一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平凡而又伟大的母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们一遍又一遍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重播着母亲这部电影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泪流满面的我们已完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与母亲融为了一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就象是一部长电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永远珍藏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敬仰的心底</a:t>
            </a:r>
            <a:r>
              <a:rPr b="1" lang="zh-CN" sz="2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238880" y="5791320"/>
            <a:ext cx="1905120" cy="820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女人固然是脆弱的，母亲却是坚强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95480"/>
            <a:ext cx="7848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命因你而美丽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母亲因你而伟大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ransition spd="slow">
    <p:strips dir="r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195876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7150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467480" y="1146240"/>
            <a:ext cx="1646280" cy="152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09480" y="2514600"/>
            <a:ext cx="327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如何回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86200" y="2209680"/>
            <a:ext cx="33526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“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父母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23888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543800" y="5749920"/>
            <a:ext cx="990720" cy="743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1752480" y="838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0880" y="1143000"/>
            <a:ext cx="83059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爸爸妈妈，您们辛苦了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hecker dir="horz"/>
    <p:sndAc>
      <p:stSnd>
        <p:snd r:embed="rId4" name="chimes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91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523880" y="380880"/>
            <a:ext cx="6172200" cy="22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走进老师</a:t>
            </a:r>
            <a:endParaRPr b="0" lang="en-US" sz="1800" spc="1" strike="noStrike">
              <a:ln w="3816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6885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-27000"/>
            <a:ext cx="9448920" cy="696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0" y="-363600"/>
            <a:ext cx="9448920" cy="7221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-380880"/>
            <a:ext cx="9468000" cy="7346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89917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0" y="-380880"/>
            <a:ext cx="9448920" cy="74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87200" y="-228600"/>
            <a:ext cx="10169280" cy="800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228600" y="-222120"/>
            <a:ext cx="10210680" cy="746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228600" y="-228600"/>
            <a:ext cx="10210680" cy="746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10210680" cy="740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-228600" y="-228600"/>
            <a:ext cx="10210680" cy="784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-228600" y="-228600"/>
            <a:ext cx="10210680" cy="710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-228600" y="-304920"/>
            <a:ext cx="10210680" cy="7467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-228600" y="-685800"/>
            <a:ext cx="10210680" cy="842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-228600" y="-228600"/>
            <a:ext cx="10210680" cy="752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-228600" y="-152280"/>
            <a:ext cx="10210680" cy="740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-228600" y="-228600"/>
            <a:ext cx="10210680" cy="7391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-228600" y="-990720"/>
            <a:ext cx="10210680" cy="8382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9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300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447920" y="1219320"/>
            <a:ext cx="6476760" cy="167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19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说我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split dir="out" orient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0" y="1062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如何尊敬老师、报师恩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219320"/>
            <a:ext cx="56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学习上，勤学好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7440" y="20574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人格上，敬重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0160" y="38862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地位上，推崇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0160" y="48769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作用上，不忘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0160" y="29718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态度上，虚心进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50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000"/>
                            </p:stCondLst>
                            <p:childTnLst>
                              <p:par>
                                <p:cTn id="357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1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5280" y="0"/>
            <a:ext cx="78343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谢谢您，老师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 advTm="2000">
    <p:diamond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981080" y="609480"/>
            <a:ext cx="5257800" cy="27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走进他们</a:t>
            </a:r>
            <a:endParaRPr b="0" lang="en-US" sz="1800" spc="1" strike="noStrike">
              <a:ln w="381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209680" y="152280"/>
            <a:ext cx="5029200" cy="6400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ircl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0"/>
            <a:ext cx="68137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248520" y="5867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620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-533520"/>
            <a:ext cx="9144000" cy="7543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-457200"/>
            <a:ext cx="9144000" cy="8101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-609480"/>
            <a:ext cx="9144000" cy="8458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-609480"/>
            <a:ext cx="9144000" cy="7848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0" y="-533520"/>
            <a:ext cx="9144000" cy="840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0" y="-53352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0" y="-609480"/>
            <a:ext cx="9121680" cy="769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7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-181080" y="46080"/>
            <a:ext cx="9325080" cy="6973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-228600" y="0"/>
            <a:ext cx="9372600" cy="7086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-228600" y="0"/>
            <a:ext cx="93726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242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886200" y="3048120"/>
            <a:ext cx="51055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懂得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800600" y="83808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班会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000"/>
                            </p:stCondLst>
                            <p:childTnLst>
                              <p:par>
                                <p:cTn id="482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3657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我要感谢，感谢伟大文明的祖国，使我成为一个中国人，五千年的文明给予了我们引以为豪的文化和智慧！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　　我要感谢，感谢我的父母，是他们把我带来人世，将我养育长大！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　　我要感谢，感谢老师、同学、朋友和我身边的所有人，是他们伴随我成长，让我懂得了知识、友谊和做人的道理！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　　我要感谢，感谢我遇到的困难和挫折，是它们让我成熟并且自信，使我加倍珍惜成功的喜悦！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　　我要感谢，感谢到来的每一天，让我知道了生命和生命的光彩，在爱的怀抱中长大，让我在风雪漫天里微笑着体味冬天的春光！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　　我要感谢，感谢我的双眼所看到的一切，感谢清清的溪流、绿绿的草木，是它们让我知道生活是那样的美好，使我倍加珍惜分分秒秒的如水时光…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　　我将用我所能做到的一切感谢这个世界，用我所能及的力量来报答一切，让这个世界更加美好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 txBox="1"/>
          <p:nvPr/>
        </p:nvSpPr>
        <p:spPr>
          <a:xfrm>
            <a:off x="1523880" y="2281320"/>
            <a:ext cx="6477120" cy="34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58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414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学会感恩</a:t>
            </a:r>
            <a:endParaRPr b="0" lang="en-US" sz="1800" spc="1" strike="noStrike">
              <a:ln w="414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1052640"/>
            <a:ext cx="41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琥珀"/>
              </a:rPr>
              <a:t>主 题 班 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3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感恩的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来自偶然像一颗尘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来自何方我情归何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谁在下一刻呼唤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天地虽宽这条路却难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还有多少爱我还有多少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要苍天知道我不认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感恩的心感谢有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伴我一生让我有勇气作我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感恩的心感谢命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花开花落我一样会珍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19720" y="14475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来自偶然像一颗尘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来自何方我情归何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谁在下一刻呼唤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天地虽宽这条路却难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还有多少爱我还有多少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要苍天知道我不认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感恩的心感谢有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伴我一生让我有勇气作我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感恩的心感谢命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花开花落我一样会珍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-76320" y="38088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8600" y="763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657600" y="9907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74680" y="7621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990720" y="-763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1752480" y="-763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2590920" y="-763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3352680" y="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3886200" y="45720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tretch/>
        </p:blipFill>
        <p:spPr>
          <a:xfrm>
            <a:off x="3276720" y="16765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/>
          <a:stretch/>
        </p:blipFill>
        <p:spPr>
          <a:xfrm>
            <a:off x="3733920" y="25909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/>
          <a:stretch/>
        </p:blipFill>
        <p:spPr>
          <a:xfrm>
            <a:off x="3429000" y="335268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/>
          <a:stretch/>
        </p:blipFill>
        <p:spPr>
          <a:xfrm>
            <a:off x="3048120" y="472428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5"/>
          <a:stretch/>
        </p:blipFill>
        <p:spPr>
          <a:xfrm>
            <a:off x="3703680" y="586728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6"/>
          <a:stretch/>
        </p:blipFill>
        <p:spPr>
          <a:xfrm>
            <a:off x="5029200" y="83808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7"/>
          <a:stretch/>
        </p:blipFill>
        <p:spPr>
          <a:xfrm>
            <a:off x="6095880" y="45720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8"/>
          <a:stretch/>
        </p:blipFill>
        <p:spPr>
          <a:xfrm>
            <a:off x="7620120" y="7621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9"/>
          <a:stretch/>
        </p:blipFill>
        <p:spPr>
          <a:xfrm>
            <a:off x="8047080" y="198108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0"/>
          <a:stretch/>
        </p:blipFill>
        <p:spPr>
          <a:xfrm>
            <a:off x="8047080" y="3276720"/>
            <a:ext cx="109692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1"/>
          <a:stretch/>
        </p:blipFill>
        <p:spPr>
          <a:xfrm>
            <a:off x="7696080" y="4648320"/>
            <a:ext cx="10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8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4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7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9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6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80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950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1000"/>
                            </p:stCondLst>
                            <p:childTnLst>
                              <p:par>
                                <p:cTn id="6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6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4000"/>
                            </p:stCondLst>
                            <p:childTnLst>
                              <p:par>
                                <p:cTn id="6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550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700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8500"/>
                            </p:stCondLst>
                            <p:childTnLst>
                              <p:par>
                                <p:cTn id="6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6000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615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30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64500"/>
                            </p:stCondLst>
                            <p:childTnLst>
                              <p:par>
                                <p:cTn id="7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90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050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720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5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750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877760" cy="187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267080" y="3809880"/>
            <a:ext cx="487692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762120"/>
            <a:ext cx="6248520" cy="22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走进父母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strips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1981080" cy="196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609480"/>
            <a:ext cx="4572000" cy="1600200"/>
          </a:xfrm>
          <a:prstGeom prst="wedgeEllipseCallout">
            <a:avLst>
              <a:gd name="adj1" fmla="val 66842"/>
              <a:gd name="adj2" fmla="val 164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2666880"/>
            <a:ext cx="5943600" cy="2133720"/>
          </a:xfrm>
          <a:prstGeom prst="cloudCallout">
            <a:avLst>
              <a:gd name="adj1" fmla="val -34375"/>
              <a:gd name="adj2" fmla="val 7001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8380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文鼎广告体"/>
              </a:rPr>
              <a:t>妈妈，你到底为什么爱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3276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文鼎大颜楷"/>
              </a:rPr>
              <a:t>不为什么，——只因你是我的小孩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10280" y="5040360"/>
            <a:ext cx="1524240" cy="1360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59092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0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你是否真的了解你妈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219320"/>
            <a:ext cx="79246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妈妈的生日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妈妈的体重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妈妈的身高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妈妈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妈妈喜欢的颜色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妈妈喜欢的水果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妈妈喜欢的花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妈妈喜欢的日常消遣活动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907920"/>
            <a:ext cx="741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66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我们算一算</a:t>
            </a:r>
            <a:endParaRPr b="1" lang="en-US" sz="1800" spc="1" strike="noStrike">
              <a:ln w="19080">
                <a:solidFill>
                  <a:srgbClr val="3366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66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说一说</a:t>
            </a:r>
            <a:endParaRPr b="1" lang="en-US" sz="1800" spc="1" strike="noStrike">
              <a:ln w="19080">
                <a:solidFill>
                  <a:srgbClr val="3366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66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想一想</a:t>
            </a:r>
            <a:endParaRPr b="1" lang="en-US" sz="1800" spc="1" strike="noStrike">
              <a:ln w="19080">
                <a:solidFill>
                  <a:srgbClr val="3366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split dir="in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505320" cy="5562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00200" y="2133720"/>
            <a:ext cx="5410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4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每月的零花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2743200"/>
            <a:ext cx="5410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你每年的购物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服饰、饰品、书籍、磁带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P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838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你每月的生活费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828800"/>
            <a:ext cx="42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每学期的学杂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1148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每年的交友外出、旅游费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5410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猜猜你读完大学时，一共要花费多少钱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37160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295280" y="990720"/>
            <a:ext cx="320040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游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438280" y="4800600"/>
            <a:ext cx="150192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406440" y="4191120"/>
            <a:ext cx="1574640" cy="2361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05:22:23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27:54Z</dcterms:modified>
  <cp:revision>6</cp:revision>
  <dc:subject>主题班会课件(分28大类): http://shop62905894.taobao.com</dc:subject>
  <dc:title>主题班会课件(分28大类): http://shop62905894.taobao.com</dc:title>
</cp:coreProperties>
</file>