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A4D-C075-455E-81B9-D44F13CE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8FA-C51D-4DB9-841E-B8DFBF9F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5E2-8CB4-4F92-A752-3F11AB49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1DF-C2D0-48AD-A587-C6678DD9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7B8-D2E4-4BBA-92EA-7E8D466B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956-CB37-474D-951E-C0F619BB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EFC-37A8-4B3A-8435-38FA1AD8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366-9FF9-411B-B60A-39A0B81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DC1-BBCA-4FF5-ADC8-A115CC11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D6E-D38E-4A5E-9CE1-DF7B98C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9B0-64B7-48EB-9FA0-6DC4CA4F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B04-89C1-4C8C-9F9A-C9B45A1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D6E1-2AC1-402C-BAC0-EEAF66921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悟母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6360"/>
            <a:ext cx="9899640" cy="743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  <a:ea typeface="隶书"/>
              </a:rPr>
              <a:t>感恩教育系列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0500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了母亲的微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48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71640" y="83664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故事一：《脱皮哺子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429264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演讲者：王艳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76500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33"/>
                </a:solidFill>
                <a:latin typeface="Times New Roman"/>
              </a:rPr>
              <a:t>故事二：《断指哺儿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2276640"/>
            <a:ext cx="69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演讲者：刘梦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43196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86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ank you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故事三：《血色母爱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2133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演讲者：李慧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380880"/>
            <a:ext cx="701028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千言万语汇成一句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2136600" cy="3047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20685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659640" y="3357720"/>
            <a:ext cx="188892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50920" y="206064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可怜天下父母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2852640"/>
            <a:ext cx="9144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66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这些故事是否让你感动，你想到了些什么？</a:t>
            </a:r>
            <a:endParaRPr b="0" lang="en-US" sz="1800" spc="1" strike="noStrike">
              <a:ln w="0">
                <a:noFill/>
              </a:ln>
              <a:solidFill>
                <a:srgbClr val="ff0066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47640" y="1773360"/>
            <a:ext cx="5761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报得三春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33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三篇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6588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372600" cy="762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33520"/>
            <a:ext cx="678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小草不忘阳光的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我们不忘母亲的恩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11480" y="4581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请快速浏览下面孝心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916360" y="187200"/>
            <a:ext cx="352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感恩母爱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720880"/>
          <a:ext cx="9144000" cy="1415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1341360"/>
          <a:ext cx="9124920" cy="533880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533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哭竹生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孟宗，三国时江夏人，少年时父亡，母亲年老病重，医生嘱用鲜竹笋做汤。适值严冬，没有鲜笋，孟宗无计可施，独自一人跑到竹林里，扶竹哭泣。少顷，他忽然听到地裂声，只见地上长出数茎嫩笋。孟宗大喜，采回做汤，母亲喝了后果然病愈。后来他官至司空。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C:\Documents and Settings\Administrator\桌面\芦衣顺母.jpg"/>
          <p:cNvPicPr/>
          <p:nvPr/>
        </p:nvPicPr>
        <p:blipFill>
          <a:blip r:embed="rId1"/>
          <a:stretch/>
        </p:blipFill>
        <p:spPr>
          <a:xfrm>
            <a:off x="0" y="20520"/>
            <a:ext cx="1835280" cy="1392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916360" y="187200"/>
            <a:ext cx="352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感恩母爱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2720880"/>
          <a:ext cx="9144000" cy="1415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1341360"/>
          <a:ext cx="9124920" cy="677880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677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佣供母 　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江革，东汉时齐国临淄人，少年丧父，侍奉母亲极为孝顺。战乱中，江革背着母亲逃难，几次遇到匪盗，贼人欲杀死他，江革哭告：老母年迈，无人奉养，贼人见他孝顺，不忍杀他。后来，他迁居江苏下邳，做雇工供养母亲，自己贫穷赤脚，而母亲所需甚丰。明帝时被推举为孝廉，章帝时被推举为贤良方正，任五官中郎将。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C:\Documents and Settings\Administrator\桌面\芦衣顺母.jpg"/>
          <p:cNvPicPr/>
          <p:nvPr/>
        </p:nvPicPr>
        <p:blipFill>
          <a:blip r:embed="rId1"/>
          <a:stretch/>
        </p:blipFill>
        <p:spPr>
          <a:xfrm>
            <a:off x="0" y="20520"/>
            <a:ext cx="1835280" cy="1392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916360" y="187200"/>
            <a:ext cx="352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感恩母爱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2720880"/>
          <a:ext cx="9144000" cy="1415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1341360"/>
          <a:ext cx="9124920" cy="508500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50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涤亲溺器 　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庭坚，北宋分宁（今江西修水）人，著名诗人、书法家。虽身居高位，侍奉母亲却竭尽孝诚，每天晚上，都亲自为母亲洗涤溺器（便桶），没有一天忘记儿子应尽的职责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C:\Documents and Settings\Administrator\桌面\芦衣顺母.jpg"/>
          <p:cNvPicPr/>
          <p:nvPr/>
        </p:nvPicPr>
        <p:blipFill>
          <a:blip r:embed="rId1"/>
          <a:stretch/>
        </p:blipFill>
        <p:spPr>
          <a:xfrm>
            <a:off x="0" y="20520"/>
            <a:ext cx="1835280" cy="1392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5589720"/>
            <a:ext cx="5333760" cy="366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589720"/>
            <a:ext cx="4248000" cy="576000"/>
          </a:xfrm>
          <a:prstGeom prst="rect">
            <a:avLst/>
          </a:prstGeom>
          <a:solidFill>
            <a:srgbClr val="f1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981000"/>
            <a:ext cx="50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一篇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508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母爱的赞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16360" y="187200"/>
            <a:ext cx="352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感恩母爱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720880"/>
          <a:ext cx="9144000" cy="1415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03280" y="1916280"/>
          <a:ext cx="7380360" cy="2663640"/>
        </p:xfrm>
        <a:graphic>
          <a:graphicData uri="http://schemas.openxmlformats.org/drawingml/2006/table">
            <a:tbl>
              <a:tblPr/>
              <a:tblGrid>
                <a:gridCol w="7380360"/>
              </a:tblGrid>
              <a:tr h="26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分享孝心故事</a:t>
                      </a:r>
                      <a:br>
                        <a:rPr sz="2800"/>
                      </a:b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C:\Documents and Settings\Administrator\桌面\芦衣顺母.jpg"/>
          <p:cNvPicPr/>
          <p:nvPr/>
        </p:nvPicPr>
        <p:blipFill>
          <a:blip r:embed="rId1"/>
          <a:stretch/>
        </p:blipFill>
        <p:spPr>
          <a:xfrm>
            <a:off x="0" y="20520"/>
            <a:ext cx="1835280" cy="1392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11760" y="4197240"/>
            <a:ext cx="4332240" cy="26607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3716280"/>
            <a:ext cx="8280360" cy="2708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25448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报答母亲的养育之恩，你已经做了什么，以后打算怎么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C:\Documents and Settings\Administrator\桌面\芦衣顺母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3624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自从我们生下来，父母亲辛辛苦苦的养育我们长大成人，父母亲的恩惠，实在昊天罔极！我们怎能不报答呢？因此我们一定要孝顺父母，至于如何孝顺父母呢？以下有几个方法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自己的本分：例如在学校作负责任的好学生，在家作个懂事的乖孩子，要听父母的话，才不辜负父母对我们的期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努力求学：在学校用功读书，上课时专心听讲，求得好成绩，以安慰父母亲养育我们的辛劳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父母和自己的健康：父母辛苦工作来养育我们，往往会疏忽了身体的保健，我们也必须注意父母的身体健康，我们的身体都是父母亲所赐予的，俗话说：「身体发肤，受之父母。」因此我们要好好珍惜自己的身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我们必须要实际的做到以上三点，才能算是真正的孝顺父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84360" y="0"/>
            <a:ext cx="453564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如何孝顺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52280" y="620640"/>
            <a:ext cx="4419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班主任寄语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637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让我们用心灵感受母爱，用行动回报母爱，让笑容在母亲的脸上绽放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71640" y="4076640"/>
            <a:ext cx="4751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的指导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1268280"/>
            <a:ext cx="7489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为了母亲的微笑》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　　到此结束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451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1533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80880" y="457200"/>
            <a:ext cx="8839080" cy="3817800"/>
            <a:chOff x="380880" y="457200"/>
            <a:chExt cx="8839080" cy="3817800"/>
          </a:xfrm>
        </p:grpSpPr>
        <p:sp>
          <p:nvSpPr>
            <p:cNvPr id="53" name=""/>
            <p:cNvSpPr/>
            <p:nvPr/>
          </p:nvSpPr>
          <p:spPr>
            <a:xfrm>
              <a:off x="380880" y="457200"/>
              <a:ext cx="883908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457200"/>
              <a:ext cx="883908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仔细想想，原来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mother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词是可以这样解释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627280" y="189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母亲的诠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76520"/>
            <a:ext cx="57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( much 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妈妈给了我很多很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362320"/>
            <a:ext cx="78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old )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妈妈为我操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发已爬上了您的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25000" y="3124080"/>
            <a:ext cx="38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ea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为我流过不少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9000" y="3733920"/>
            <a:ext cx="42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a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有一颗慈祥温暖的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437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y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您注视我的目光总是充满着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105520"/>
            <a:ext cx="81532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您从不欺骗我们，教导我们去做正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971640" y="-960480"/>
            <a:ext cx="868680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游子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907920"/>
          <a:ext cx="6261120" cy="6260760"/>
        </p:xfrm>
        <a:graphic>
          <a:graphicData uri="http://schemas.openxmlformats.org/drawingml/2006/table">
            <a:tbl>
              <a:tblPr/>
              <a:tblGrid>
                <a:gridCol w="1911960"/>
                <a:gridCol w="216000"/>
                <a:gridCol w="4133160"/>
              </a:tblGrid>
              <a:tr h="120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唐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]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孟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622600" y="1052640"/>
          <a:ext cx="6521400" cy="2251080"/>
        </p:xfrm>
        <a:graphic>
          <a:graphicData uri="http://schemas.openxmlformats.org/drawingml/2006/table">
            <a:tbl>
              <a:tblPr/>
              <a:tblGrid>
                <a:gridCol w="6521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慈母手中线，游子身上衣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临行密密缝，意恐迟迟归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谁言寸草心，报得三春晖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3284640"/>
          <a:ext cx="7705800" cy="1379520"/>
        </p:xfrm>
        <a:graphic>
          <a:graphicData uri="http://schemas.openxmlformats.org/drawingml/2006/table">
            <a:tbl>
              <a:tblPr/>
              <a:tblGrid>
                <a:gridCol w="1187280"/>
                <a:gridCol w="65185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【注释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这首诗以歌颂伟大的母爱而著称。它从母亲为即将离家远游的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儿子缝制衣服的行动中，透露出母亲的无限慈爱。提出小草般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的儿女怎能报答春日般的慈母养育之恩的疑问，引起天下儿女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的共鸣，拨动了天下儿女敬爱慈母的心弦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187280" y="4797360"/>
          <a:ext cx="3816360" cy="1305000"/>
        </p:xfrm>
        <a:graphic>
          <a:graphicData uri="http://schemas.openxmlformats.org/drawingml/2006/table">
            <a:tbl>
              <a:tblPr/>
              <a:tblGrid>
                <a:gridCol w="901440"/>
                <a:gridCol w="216000"/>
                <a:gridCol w="2698920"/>
              </a:tblGrid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寸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小草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三春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春天的太阳，比喻父母的恩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30000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765000"/>
            <a:ext cx="896472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古代母亲节起源于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希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古希腊人在这一天向希腊神话中的众神之母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拉致敬。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中叶，母亲节流传到英国，英国人把封斋期的第四个星期天作为母亲节。在这一天里，出门在外的年青人将回到家中，给他们的母亲带上一些小礼物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现代意义上的母亲节起源于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美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由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s. Jarvi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6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4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发起，她终身未婚，一直陪伴在她母亲身边，她母亲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0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去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 Ms. Jar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悲痛欲绝，两年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s. Jarvi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她的朋友开始写信给有影响的部长、商人、议员来寻求支持，以便让母亲节成为一个法定的节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 Ms. Jarvi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认为子女经常忽视了对母亲的感情，她希望母亲节能够让人多想一想母亲为家庭所付出的一切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第一个母亲节于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1908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月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西弗吉尼亚和宾夕法尼亚州举行，在这次节日里，康乃馨被选中为献给母亲的花，并以此流传下来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1914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美国国会通过了一份议案，将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每年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5 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月的第二个星期天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为法定的母亲节。母亲节从此在世界各地流传开来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3242520" y="433440"/>
            <a:ext cx="29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母亲节的由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4221000"/>
            <a:ext cx="882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上有一种最美的声音，那便是母亲的呼唤。——但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嘴唇所能发出的最甜美的字眼，就是母亲，最美好的呼唤，就是“妈妈”。——纪伯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43020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襁褓时，母亲的甘甜乳汁，是滋润肌肤的甘露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孩提时，母亲的苦涩汗水，是浇灌心田的清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学时，母亲的耐心诱导，是启动灵感的马达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困惑时，母亲的殷切教诲，是拨正航向的罗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失足时，母亲的善意规劝，是迷途识返的路标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成功时，母亲的热情鼓励，是乘胜前进的风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攻关时，母亲的积极鞭策，是攀登要隘的阶梯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拼搏时，母亲的大力支持，是冲越激流的航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挫折时，母亲的亲切关怀，是闯出困境的号角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患病时，母亲的精心护理，是战胜苦痛的灵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困倦时，母亲的爱心，是安然入梦的摇篮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疲惫时，母亲的怀抱，是停泊小憩的港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464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第二篇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637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聆听故事，感受母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3:18Z</dcterms:modified>
  <cp:revision>15</cp:revision>
  <dc:subject>主题班会课件(分28大类): http://shop62905894.taobao.com</dc:subject>
  <dc:title>主题班会课件(分28大类): http://shop62905894.taobao.com</dc:title>
</cp:coreProperties>
</file>