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EEE7-7F62-421C-9FB5-FA2653BC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5995-9B5A-4704-ADE0-849660FE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B664-32F0-4B85-883B-C7A4B64A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6A02-067A-4CAB-886C-EAA07272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92A-3F17-4BA3-98C2-C58353C5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AE41-FBE0-46F5-98BA-8438B9DB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9CBF-2A76-4C0C-A4C0-5ED96FF1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2B58-F43E-4440-974F-A924667D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7F8B-64DA-4761-AA39-36C13977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2AED-1F89-416F-938B-E617D099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EF4C-2BD1-41E0-B08A-022C7C5E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4A29-76B6-4FE8-AF6A-C8E391C0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47FC-F542-4CDE-AEAD-8F5AAFEFED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981000"/>
            <a:ext cx="1224000" cy="46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行楷"/>
              </a:rPr>
              <a:t>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行楷"/>
              </a:rPr>
              <a:t>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行楷"/>
              </a:rPr>
              <a:t>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行楷"/>
              </a:rPr>
              <a:t>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3213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953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84360" y="476280"/>
            <a:ext cx="4464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恩的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谢有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伴我一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让我有勇气做我自己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恩的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谢命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花开花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一样会珍惜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589720"/>
            <a:ext cx="86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学会珍惜你的幸福，学会感谢你身边的一切，因为珍惜才会拥有，感恩才能天长地久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71640" y="907920"/>
            <a:ext cx="7129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虽然我们不能点亮所有的灯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但是能让一盏灯亮起来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哪怕是点亮一点点希望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我们已经满足……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的最后一个星期四是感恩节。感恩节是美国人民独创的一个古老节日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感恩节的由来要一直追溯到美国历史的发端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6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著名的“五月花”号船满载不堪忍受英国国内宗教迫害的清教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到达美洲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6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62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之交的冬天，他们遇到了难以想象的困难，处在饥寒交迫之中，冬天过去时，活下来的移民只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人。这时，心地善良的印第安人给移民送来了生活必需品，还特地派人教他们怎样狩猎、捕鱼和种植玉米、南瓜。在印第安人的帮助下，移民们终于获得了丰收，在欢庆丰收的日子，按照宗教传统习俗，移民规定了感谢上帝的日子，并决定为感谢印第安人的真诚帮助，邀请他们一同庆祝节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35280" y="5516640"/>
            <a:ext cx="7021440" cy="1341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922040"/>
            <a:ext cx="884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学们，当你煲着电话粥时有没有听到大山里传来的贫穷的声音；当你把没穿过几次的衣服封入箱底时，你有没有看到褴褛的衣衫下的羸弱；当你安逸地享受着图书馆的空调时，你有没有想到风雨飘摇的教室和缺胳膊少腿的课桌椅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  此时此地，面对那些因为贫穷不能上学的孩子，你真的能对我们所拥有的一切心安理得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 难道仅仅因为上帝把他们降生在不同的地方，他们就必须承受与我们迥然的命运？或许，世上本没有什么真正的公平，可你的爱心可以改变一切：改变一个小孩的一生，改变一个家庭的困境，改变整个民族面对一双双求知的眼睛时的尴尬和无奈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你所要付出的或许只是一次电话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件并不需要的衣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是你因此改变了上帝的谬误……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   你还在等待什么……请伸出你的援助之手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08000" y="1268280"/>
          <a:ext cx="8640720" cy="5256360"/>
        </p:xfrm>
        <a:graphic>
          <a:graphicData uri="http://schemas.openxmlformats.org/drawingml/2006/table">
            <a:tbl>
              <a:tblPr/>
              <a:tblGrid>
                <a:gridCol w="998640"/>
                <a:gridCol w="522000"/>
                <a:gridCol w="1943280"/>
                <a:gridCol w="2421000"/>
                <a:gridCol w="2755800"/>
              </a:tblGrid>
              <a:tr h="13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王彬钧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岭南乡中 初三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岭南乡立功村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母亲早年离家，仅靠父亲一人以务农维持祖孙一家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口生活，生活条件十分艰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阮围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宁波教育学院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岭南乡立功村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父亲早故，家有高龄爷爷奶奶，仅靠母亲一人以做手工活维持家计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徐金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岭南乡中心学校 二年级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岭南乡枫树坪村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父亲患糖尿病多年，靠母亲打工维持一家四口的生计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吴少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岭南乡中心学校 五年级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岭南乡枫树坪村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母亲身体残疾无法干活，有高龄爷爷、奶奶，仅靠父亲一人艰难维持一家的生计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539640" y="404640"/>
            <a:ext cx="5256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授人玫瑰，手留余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4000" y="0"/>
          <a:ext cx="8785080" cy="6605640"/>
        </p:xfrm>
        <a:graphic>
          <a:graphicData uri="http://schemas.openxmlformats.org/drawingml/2006/table">
            <a:tbl>
              <a:tblPr/>
              <a:tblGrid>
                <a:gridCol w="720720"/>
                <a:gridCol w="527040"/>
                <a:gridCol w="1968480"/>
                <a:gridCol w="2452680"/>
                <a:gridCol w="311616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姓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性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别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学校、年级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家庭住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家庭经济情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蒋燕军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岭南乡中心学校 三年级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岭南乡龙山村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父亲因病失去劳动能力，姐弟俩正在上学，家境十分贫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许泽民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岭南乡中心学校 四年级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岭南乡龙山村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父亲身体残疾，母亲劳动能力差，生活条件十分艰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许伟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岭南乡中 初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岭南乡龙山村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母亲离家出走，父亲劳动力较弱，兄弟俩读书经济十分困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钟欣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岭南乡中心学校 三年级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岭南乡田山村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母亲离家出走，家有高龄爷爷、奶奶，经济十分困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钟丹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岭南乡中心学校 五年级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岭南乡田山村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幼小的她，身体严重畸形，但身残志坚，学习成绩优异，目前正在上海做纠正手术，十余万元的高昂医疗费使得这个务农家庭一下子陷入经济困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79280" y="0"/>
          <a:ext cx="8640720" cy="6597720"/>
        </p:xfrm>
        <a:graphic>
          <a:graphicData uri="http://schemas.openxmlformats.org/drawingml/2006/table">
            <a:tbl>
              <a:tblPr/>
              <a:tblGrid>
                <a:gridCol w="569880"/>
                <a:gridCol w="552600"/>
                <a:gridCol w="2190600"/>
                <a:gridCol w="2417760"/>
                <a:gridCol w="2909880"/>
              </a:tblGrid>
              <a:tr h="13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徐珊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岭南乡中 初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岭南乡枫树坪村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父亲长年患病，使得这个原本贫困的家庭更加陷入困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陈洋飞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岭南乡中 初三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岭南乡枫树坪村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父亲早年去世，姐姐读大学，靠母亲务农艰难的维持家里的生计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赵孙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岭南乡中 初三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岭南乡泰岳村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父亲早年病故，姐姐读大学，靠母亲一人以务农艰难的维持着一家人的生计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王理玉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岭南乡中心学校 五年级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岭南乡立功村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父亲因车祸暂时失去劳动能力，母亲为胃癌去世（在我们走访后的第二天），家里所有的积蓄基本都花在看病中，现在家里就靠爷爷奶奶干点农活来维持家计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——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作为一名青年，我们的人生还很漫长，我们还年轻，所以我们必须学会感恩，如果没有感恩，活着等于死去。要在感恩中活着，感恩于赋予我们生命的父母，感恩于给我们知识的老师，感恩于提供实现自我价值的企业，感恩于帮助、关心和爱护我们的那些人，感恩于我们的祖国，感恩于大自然……感谢一切，甚至我们的敌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251000"/>
            <a:ext cx="8893080" cy="8496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289536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02:59:54Z</dcterms:created>
  <dc:creator>主题班会课件(分28大类): http://shop62905894.taobao.com</dc:creator>
  <dc:description>您的教学资源库【www.ShuLiHua.net】</dc:description>
  <cp:keywords>主题班会课件(分28大类): http://shop62905894.taobao.com</cp:keywords>
  <dc:language>en-US</dc:language>
  <cp:lastModifiedBy>User</cp:lastModifiedBy>
  <dcterms:modified xsi:type="dcterms:W3CDTF">2013-04-13T17:36:02Z</dcterms:modified>
  <cp:revision>24</cp:revision>
  <dc:subject>主题班会课件(分28大类): http://shop62905894.taobao.com</dc:subject>
  <dc:title>主题班会课件(分28大类): http://shop62905894.taobao.com</dc:title>
</cp:coreProperties>
</file>