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154-A29C-4BF0-A03B-4B660CA4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328-837B-480E-9A91-444F22C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BFB-5B46-456F-8162-4E038924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83B-F29C-4D02-8B9C-A698D59C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B5A-844C-4722-B79F-3E413FE6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17D-01F1-474A-A0DD-F4F0AE0D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221-EA48-4C01-B395-9D57828B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234-E032-4E30-BDCF-D6645761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C72-69A2-4265-9BC3-8998C177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A7A-D299-4FEA-8699-EF69EE7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5A6-01BD-4F28-9B9B-995444E6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ABD-3413-4C1F-BF2F-5E1EDB2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AA3-7B42-4D12-9C84-F1930521A9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uwenzhang.com/" TargetMode="External"/><Relationship Id="rId3" Type="http://schemas.openxmlformats.org/officeDocument/2006/relationships/hyperlink" Target="http://www.duwenzhang.com/huati/muqin/index1.html" TargetMode="External"/><Relationship Id="rId4" Type="http://schemas.openxmlformats.org/officeDocument/2006/relationships/hyperlink" Target="http://www.duwenzhang.com/huati/shengming/index1.html" TargetMode="External"/><Relationship Id="rId5" Type="http://schemas.openxmlformats.org/officeDocument/2006/relationships/hyperlink" Target="http://www.duwenzhang.com/huati/pingdan/index1.html" TargetMode="External"/><Relationship Id="rId6" Type="http://schemas.openxmlformats.org/officeDocument/2006/relationships/hyperlink" Target="http://www.duwenzhang.com/huati/jiejie/index1.html" TargetMode="External"/><Relationship Id="rId7" Type="http://schemas.openxmlformats.org/officeDocument/2006/relationships/hyperlink" Target="http://www.duwenzhang.com/huati/fumu/index1.html" TargetMode="External"/><Relationship Id="rId8" Type="http://schemas.openxmlformats.org/officeDocument/2006/relationships/hyperlink" Target="http://www.duwenzhang.com/huati/yongyou/index1.html" TargetMode="External"/><Relationship Id="rId9" Type="http://schemas.openxmlformats.org/officeDocument/2006/relationships/hyperlink" Target="http://www.duwenzhang.com/huati/nvren/index1.html" TargetMode="External"/><Relationship Id="rId10" Type="http://schemas.openxmlformats.org/officeDocument/2006/relationships/hyperlink" Target="http://www.duwenzhang.com/huati/tongnian/index1.html" TargetMode="External"/><Relationship Id="rId11" Type="http://schemas.openxmlformats.org/officeDocument/2006/relationships/hyperlink" Target="http://www.duwenzhang.com/huati/kuaile/index1.html" TargetMode="External"/><Relationship Id="rId12" Type="http://schemas.openxmlformats.org/officeDocument/2006/relationships/hyperlink" Target="http://www.duwenzhang.com/huati/meihao/index1.html" TargetMode="External"/><Relationship Id="rId13" Type="http://schemas.openxmlformats.org/officeDocument/2006/relationships/hyperlink" Target="http://www.duwenzhang.com/wenzhang/shenghuosuibi/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uwenzhang.com/huati/shengri/index1.html" TargetMode="External"/><Relationship Id="rId3" Type="http://schemas.openxmlformats.org/officeDocument/2006/relationships/hyperlink" Target="http://www.duwenzhang.com/huati/fuqin/index1.html" TargetMode="External"/><Relationship Id="rId4" Type="http://schemas.openxmlformats.org/officeDocument/2006/relationships/hyperlink" Target="http://www.duwenzhang.com/huati/xiangxin/index1.html" TargetMode="External"/><Relationship Id="rId5" Type="http://schemas.openxmlformats.org/officeDocument/2006/relationships/hyperlink" Target="http://www.duwenzhang.com/huati/mingyun/index1.html" TargetMode="External"/><Relationship Id="rId6" Type="http://schemas.openxmlformats.org/officeDocument/2006/relationships/hyperlink" Target="http://www.duwenzhang.com/huati/cuozhe/index1.html" TargetMode="External"/><Relationship Id="rId7" Type="http://schemas.openxmlformats.org/officeDocument/2006/relationships/hyperlink" Target="http://www.duwenzhang.com/huati/muai/index1.html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uwenzhang.com/huati/manzu/index1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628640"/>
            <a:ext cx="856908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“</a:t>
            </a:r>
            <a:r>
              <a:rPr b="0" lang="zh-CN" sz="54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感恩父母”主题班会</a:t>
            </a:r>
            <a:endParaRPr b="0" lang="en-US" sz="5400" spc="1" strike="noStrike">
              <a:ln w="9360">
                <a:solidFill>
                  <a:srgbClr val="ff3399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奇迹的名字叫父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认识父亲却没有了解他的时候，一位外籍教授给我讲了一个故事，一个关于父亲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很久很久以前，在一艘横渡大洋的船上，一位父亲带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的儿子去美国和妻子会合。一天，当父亲在舱里用水果刀削苹果给儿子吃时，船却突然剧烈摇晃，刀子在父亲摔倒时插进了他的胸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慢慢站起来，在儿子不注意时用拇指揩去刀锋上的血。以后的三天，父亲照常照顾儿子，带他吹海风，看蔚蓝的大海。仿佛一切如常，但儿子未曾注意到父亲每一分钟都比前一分钟衰弱，他看向海平线的目光是如此忧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抵达的前夜，父亲来到儿子身旁，对儿子说：“明天见到妈妈的时候，告诉她，我爱她。”说完，在儿子的额上深深地留下一个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船到美国了，儿子在人潮中认出了妈妈，大喊：“妈妈！妈妈！”就在此时，父亲已经仰面倒下，胸口血流如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医生检查的结果让所有人惊呆了：那把刀子精确地插进了父亲的心脏，但他却多活了三天，而且不被任何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医学上罕见的奇迹。医学会议上，有人说要称它为大西洋奇迹，有人建议要以死者的名字命名。一位坐在首席的老先生一字一句地说：“这个奇迹的名字叫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Arial"/>
                <a:ea typeface="华文隶书"/>
              </a:rPr>
              <a:t>《感恩父母》精彩片断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给心灵刻上感恩的烙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陈思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条船，感恩之心则是让船前进的桨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片树，感恩之心则是这片树林里的花朵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条河，感恩之心则是河中美丽的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滴水之恩，当涌泉相报，更何况是父母的恩同再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拥有了关爱我们的亲人，我们却抱怨他们太过唠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感恩于爱，感谢它给了我感受温暖的热源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特别感恩于母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7993080" cy="64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上只有妈妈好，有个好妈妈的我幸福得不得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，您辛苦了！感谢您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”，是这个世界上最美但又最朴素的名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须用任何的东西修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哭哭啼啼的我，到现在坚强乐观的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调皮淘气的我，到现在懂事明事理的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知让母亲操了多少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倾注的心血，我无以为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您曾经忙碌的身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焦急的神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馨的关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悔地付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今，尤使我感动万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我写不出您对我好的三分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859520" cy="626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的流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面容憔悴的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仍旧在工作，不时地还要顾及我的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多么想替您分担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有话可说，可不知该怎么开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似乎妈妈的教导仍在耳边回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您是最伟大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阳光般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写不出诗一般的情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只想表达自己内心的真情实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我对您的感恩已经烙在心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给心灵刻上感恩的烙印，您是我扬帆的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你在一起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785080" cy="525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，我可以拉着您的手对您说出：“执子之手，与子偕老”的话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直想永远和你在一起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许，母亲就是萦绕在我们身边的絮絮叨叨，我们有时可能会烦躁，会气恼，甚至将自己的怨气一股脑儿向她泼去，她都默默承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的爱或许就是天冷加在我们身上的一件衣，一床被，这可能会被我们视作理所应当，但她都默默付出，母爱或许就是临行时的一句句叮咛，失意时的一句鼓励，看似简单，平常，然而这背后所有的那剪不断的牵挂和坚定不移的信念，她默默坚持着。她的确就是我们的避风港，在哺育我们的同时，也给了我们的心灵以寄托和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74560" y="333360"/>
            <a:ext cx="856944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外面的风大了，在这里歇歇再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外受了伤害，回到这里就能得到抚慰。有母亲的天空永远不会失去色彩，有母亲的生活，永远不会暗淡无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许，许多人慨叹：母亲在的时候，母亲就是一切；母亲不在的时候，一切都是母亲。那是对逝去时光的一种默默忏悔，对母亲情愫的一种深深怀念，让人感到既怅惘又怜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84720" y="6165720"/>
            <a:ext cx="9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ungsuh"/>
              </a:rPr>
              <a:t>MTV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ungsuh"/>
              <a:ea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Arial"/>
                <a:ea typeface="黑体"/>
              </a:rPr>
              <a:t>音乐故事：感恩的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个天生失语的小女孩，爸爸在她很小的时候就去世了。她和妈妈相依为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每天很早出去工作，很晚才回来。每到日落时分，小女孩就开始站在家门口，充满期待地望着门前的那条路，等妈妈回家。妈妈回来的时候是她一天中最快乐的时刻，因为妈妈每天都要给她带一块年糕回家。在她们贫穷的家里，一块小小的年糕都是无上的美味了啊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99"/>
                </a:solidFill>
                <a:latin typeface="Arial"/>
                <a:ea typeface="华文隶书"/>
              </a:rPr>
              <a:t>天下父母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08720" cy="421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28000" y="6093000"/>
            <a:ext cx="37764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4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004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天，下着很大的雨，已经过了晚饭时间了，妈妈却还没有回来。小女孩站在家门口望啊望啊，总也等不到妈妈的身影。天，越来越黑，雨，越下越大，小女孩决定顺着妈妈每天回来的路自己去找妈妈。她走啊走啊，走了很远，终于在路边看见了倒在地上的妈妈。她使劲摇着妈妈的身体，妈妈却没有回答她。她以为妈妈太累，睡着了。就把妈妈的头枕在自己的腿上，想让妈妈睡得舒服一点。但是这时她发现，妈妈的眼睛没有闭上！小女孩突然明白：妈妈可能已经死了！她感到恐惧，拉过妈妈的手使劲摇晃，却发现妈妈的手里还紧紧地拽着一块年糕……她拼命地哭着，却发不出一点声音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一直在下，小女孩也不知哭了多久。她知道妈妈再也不会醒来，现在就只剩下她自己。妈妈的眼睛为什么不闭上呢？她是因为不放心她吗？她突然明白了自己该怎样做。于是擦干眼泪，决定用自己的语言来告诉妈妈她一定会好好地活着，让妈妈放心地走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女孩就在雨中一遍一遍用手语做着这首《感恩的心》，泪水和雨水混在一起，从她小小的却写满坚强的脸上滑过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的心，感谢有你，伴我一生，让我有勇气做我自己……感恩的心，感谢命运，花开花落，我一样会珍惜……”她就这样站在雨中不停歇地做着，一直到妈妈的眼睛终于闭上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880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449440" cy="244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2276640"/>
            <a:ext cx="7920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爸爸妈妈，我想对您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对您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把爱无私的给了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永远是我的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用你们给我的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造显著的成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为你们的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 ”                                                                            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吴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你们把我养育成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给予我无私的关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对您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您们辛苦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”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彭仕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是你们给了我生命，你们为了我献出你们无私的爱，我感谢你们，你们辛苦了！                            （张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现在你们是我的骄傲，将来我会成为你们的骄傲！”                                           （谢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太多的感谢，我无法用语言代替，如果可以我希望下辈子还可以做您们的女儿！”      （彭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想对你们说：“谢谢你们这么多年的关爱，虽然我没有对你们说过，但是我爱你们！”                     （史阳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妈，如果我是一栋大厦，你们则是地基，因为有了你们的关怀与支持，我才能如此自信与坚强！                  （唐晓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4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感谢你们给予我的生命，让我知道这个世界是如此的美好。爸爸妈妈我爱你们！                                   （邓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爱无言，母爱无价，自我出生的那一刻起，你们便寄予我一种爱，你们给予的爱是博大的却又是深沉的。我是用一生也报答不了的。我只想说一句，谢谢你们！          （杨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谢谢你们这么多年的养育和教育，感谢你们给了我生命。                （周欣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用我所能做的一切来感谢你们对我的关心，用所能及的力量来报答你们为我的所有付出。                                          （何文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07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：假如一滴水代表一个祝福，我要送给你们一个东海，因为我永远爱你们！                         （刘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，请拆下您保护我的那堵墙，让我去看看外面的世界吧！（吴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你们辛苦了，我一定会当一个孝顺的儿子，不辜负你们这么多年来对我的养育。”          （陈宇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言万语换作一句话：“母亲，您辛苦了！”          （何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你们是我心中永恒的长明灯，是我生命之舟不落的帆，是我健康成长的保护神！”         （张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：面对您深沉的感情，聆听您殷切的心愿，我要感谢您，谢谢您的爱！                                              （肖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母的爱无私而伟大，父母对我们的呵护备至，如潺潺流水，滋润着我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母的爱如和煦的春风，温暖的阳光，让我感到惬意和温暖。（凌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的皱纹深了，她把美丽的青春给了我，妈妈的手粗了，她把温暖的阳光给了我。爸爸妈妈，您们让我没有忧虑地成长，让我过上幸福的生活。真心感谢你们！                             （聂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亲爱的爸爸、妈妈我想对您说：“你们辛苦了！”您们给我无私伟大的爱，我将永远珍藏在心中，我会努力学习来回报您们。您们是我幸福的依靠。             （邓佩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爸妈妈，谢谢你们多年来对我的关爱，你们辛苦了，我会用实际行动来报答你们！                                     （王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母是我生命中的指南针，为我指明方向。                                    （蒋清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爸，妈妈你们是我幸福的依靠。谢谢你们给了我生命，给予我爱，给予我幸福，让我幸福、茁壮成长，对你们有着说不完的爱，道不完的谢。亲爱的爸爸、妈妈，千言万语尽在不言中。    （谭志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妈，你们辛苦了！你们对我的好，我会用行动来报答你们的。（周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感谢你们的养育之恩，你们辛苦了，我永远爱你们。（陈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想对你们说：“你们是我最爱的人，最要感激的人，能给予我最大幸福的人。”“滴水之恩，当涌泉相报”我会记住的。（陈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想对你们说：“感谢你们对我这十几年的养育，我是真的爱你们。你们的恩情，我一辈子报答不了。”  （李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2060640"/>
            <a:ext cx="838836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爱无言，母爱如水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，您一直是位好妈妈，是位称职的好妈妈。谁也取代不了您在我心中的位置。我不善于表达，这您是知道的。其实，您一直都是很重要的。我有时的小任性和倔强会偶尔刺伤您，但是我每次也会后悔和难过。该说的也都和您说过了，我会听话，我会乖巧，让您少操心，我会努力学习，让您的付出有回报。    （汤忆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很少有这样的机会对你们说说我的心里话。我很感激你们的每一次付出，与每一份无私的爱。我真心地对你们说声：“我爱你们！希望你们永远健康美丽！”              （谢超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谢谢你们为我无私奉献地付出这么多年，我一定好好读书来报答你们”                     （袁芷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你们对我的恩情我永远都报答不完，因为是你们把我带到这个世界上，是你们给了我生命。我也不知道要对你们说些什么，我只能说出一句话：“爸爸，妈妈，我爱你们！”      （王莎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，我对您的感恩已经烙在心里。我给心灵刻上感恩的烙印，您是我扬帆的动力。我一定不会辜负您对我的期望。（邱焕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您们是伟大的。我有话可说，可不知该怎么开口，我是爱你们的，我会争气的。“爸爸妈妈，你们辛苦了！感谢你们”（陈思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即使千言万语也抵不上一句感谢你们，即使有再美好的祝福，也抵不上一句我爱你们！              （谭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：您是最伟大的，您无私的付出使我感动，感谢您这么多年来对我的关心及教诲。您辛苦了！谢谢您！             （闫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辛苦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孩儿我长大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好好孝顺你们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聂胜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从小到大，你们给我最深刻的印象那就是呵护。你们呵护我成长，你们给了我无私的爱，你们让我感受到了幸福。你们的怀抱让我感受到了前所未有的温馨，我爱你们！              （沈如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爱你们！感谢你们十几年来对我的教诲与关爱，你们辛苦了！（刘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谢谢你们给予我生命，感谢你们为我指点迷津，让我明确前进的方向，我爱你们！                            （刘统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你们辛苦了！感谢你们对我的教育，我不会辜负你们对我的一片苦心，我将来一定会好好报答你们。谢谢你们对我的养育之情。谢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                               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蔼可亲的爸爸妈妈，是你们让我来到了这个色彩斑斓、多姿多彩的世界。然而也是你们让我能尽情地在这片蔚蓝的天空之下，焕发出充满青春活力的乐章，向更美好的明天迈出这值得回忆的步伐。啊！爸，妈，千言万语换成一句话，我爱你们！                    （陈立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99"/>
                </a:solidFill>
                <a:latin typeface="Arial"/>
                <a:ea typeface="华文隶书"/>
              </a:rPr>
              <a:t>亲子互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亲子摸摸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亲子猜猜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 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孩子根据指定词组做动作，由父母来猜出此词组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默契大比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（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针对某一生活细节分别提问父母及子女，看答案的相似度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92360" y="1052640"/>
            <a:ext cx="561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明天会更好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03280" y="1557360"/>
            <a:ext cx="6615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班会总结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59659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2863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462960" y="0"/>
            <a:ext cx="286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Arial"/>
                <a:ea typeface="黑体"/>
              </a:rPr>
              <a:t>感谢光临指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大爱无言，母爱如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曾经流传着这样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故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每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母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曾经都是一个漂亮的仙女，有一件漂亮的衣裳。当她们决定要做某个孩子的母亲，呵护某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生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时候，就会褪去这件衣裳，变成一个普通的女子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平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奇，一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亲唯一一张年轻时的照片被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姐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心翼翼地珍藏在相册里。母亲已走过了四十多个春秋，却没有拍过几张真正的照片，家里的相册满满一本的都是我和姐姐跟同学的相片，而真正属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父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却是寥寥可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亲是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拥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个孩子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女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曾几何时我们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童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都是在母亲的臂弯里度过的，我们在母亲的怀里拥有了一个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快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/>
              </a:rPr>
              <a:t>美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童年，却不知道留给年轻母亲的是多重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3"/>
              </a:rPr>
              <a:t>生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母亲不知道有母亲节这个节日，她只知道每年在我们三姐弟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生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那天都要煮上一碗热乎乎的鸡蛋面和春节前给我们准备的新衣裳。母亲一生中没有给自己买过几件新衣服，也从没有认认真真地给自己过生日。母亲一直在细致地操持着我们这个家，却从未细致地为自己着想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二那年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工伤住院，母亲一个人里里外外照料了大半年，在我们感到生活的负担突然压下来的时候，是母亲用她柔弱的身子为我们扛起了一片晴朗的天空。我想母亲是从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相信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命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，因为她总是在和生活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挫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着最艰辛，最顽强的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今，母亲曾经的美好容颜已经消失殆尽，岁月留给她的是一脸深浅不一的沟壑，和风霜摧残后瘦弱，多病的身子。当我们越来越健壮的时候，母亲却在岁月的蹂躏中越来越瘦小。我想这应该就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母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好诠释，朴素而深沉的一种付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姐姐每次回家总要让母亲做一些家乡的食物，每每这样，母亲总会高兴地答应着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满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各种各样的要求。我想，大爱无言！母亲对于我们，并不要求什么，她最大的希望只不过是儿女的平安，她从不向我们索取什么，相反地总是在我们的索取中感到异常的幸福而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姐弟三人中，属弟弟个性最要强，老弟总会惹是生非，每每都要让母亲生气，母亲每次打他的时候我都看到母亲眼里蒙上的薄雾，我知道母亲是心疼的，虽然每每打弟弟都很重，但我知道她的心里更是不好受。现在，弟弟长大懂事了，在外打工，也寄钱回家，母亲心里该是踏实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异地求学的日子，很难再见到母亲。清明节回了一趟家，知道母亲在一家工厂做包袋，晚上经常熬夜加班，我知道母亲的身子不行，总希望她换回原来的工作。劝母亲多吃一点好的，她总是不愿，我知道她是舍不得那点钱，为了这个家，为了他儿子的学业，母亲总是这样虐待自己的身子，忽视自己的健康，却还一直担心自己儿子是否吃好，穿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亲和姐姐都是属虎的。姐姐已将近谈婚论嫁的年龄，母亲希望姐姐能够找到自己的好归宿，却不希望姐姐嫁给属兔的男生。我想原因在于母亲害怕姐姐向她一样，不希望姐姐向她一样活得那么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想过去，母亲为我们做的事情数不胜数，而我们真正为母亲做的却微乎其微。现在能为母亲做的事就是活得好好的，好好的，让母亲少一份担心，少一份牵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母亲还是会一直站在我生命的最高点，为我默默地指引着人生的道路，我在母亲的指引中学会了审视生命的高度，母亲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爱无言，母爱如水，这种爱，温柔而深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748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8360" y="2637000"/>
            <a:ext cx="7777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奇迹的名字叫父亲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9:21:24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42:17Z</dcterms:modified>
  <cp:revision>21</cp:revision>
  <dc:subject>主题班会课件(分28大类): http://shop62905894.taobao.com</dc:subject>
  <dc:title>主题班会课件(分28大类): http://shop62905894.taobao.com</dc:title>
</cp:coreProperties>
</file>