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675-EF83-45AA-B492-486A47A8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FCF-C79E-4104-AB69-1FE948C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10D-ECD2-4234-A9FF-C95CCA7E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B2E-0D5A-4EB8-8662-28C71928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6FE-38AF-4816-AC1C-55A4EDA3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995-84D8-45CA-BBEA-24A7DEC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F25-0664-4BD1-9322-7E9E3E07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D23-A07E-4548-BFE8-E0023C4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EF5-A6D7-4335-8AFD-31C9418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1BC-FD7D-4266-8EF4-882888B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EBB-3423-46B8-9EE9-CE6A4E0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B6B-7837-4625-B269-3C36E5F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4E3F-2C72-4351-A3C4-B297AE1B99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0"/>
            <a:ext cx="8229600" cy="54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华文新魏"/>
              </a:rPr>
              <a:t>step1: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华文新魏"/>
              </a:rPr>
              <a:t>走进经典，理解感恩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205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23840" y="1346040"/>
            <a:ext cx="722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797360"/>
            <a:ext cx="76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歌曲：相信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89000"/>
            <a:ext cx="31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社会真情剧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6000" y="2205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360" y="22194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80360" y="2781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4007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254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79640" y="620640"/>
            <a:ext cx="7164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祝您生日快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416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35840" y="128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感恩宣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11240"/>
            <a:ext cx="80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心怀感恩，海阔天空感恩，让我们在不幸中找到安慰在失落中获得温暖让我们孝敬父母，学会感恩从今天开始，立即行动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让生活永远充满阳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让心田永远溢满温馨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我，鲁中高一（</a:t>
            </a: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）班的一员，现在，我宣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968400"/>
            <a:ext cx="88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从我做起，从小做起，以我的行动，永不停止：让善良得到鼓舞，让心灵得到回归，让爱心得到弘扬！感谢社会，感谢学校，感谢你我，赐予我宽广的舞台，让我更好地——用执着对待人生，用平淡对待挫折，用真诚礼遇朋友，用虔诚企盼幸福，用感恩回报社会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感恩的心，感谢有你！心随梦动，让爱充满人间！我们在这里宣誓：不让父母的血汗白流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不让老师的愿望破灭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不让青春在自己手中流逝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让父母的辛劳成为我们不断前进的动力！让老师的鼓励教导化为我们攀登的勇气！让我们迎着春风，踏着朝阳，昂首向前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5840" y="128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感恩宣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700360" y="1125360"/>
            <a:ext cx="28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step4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42920" y="3068640"/>
            <a:ext cx="63374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升华感情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传递感恩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89000"/>
            <a:ext cx="885636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让我们</a:t>
            </a:r>
            <a:r>
              <a:rPr b="1" lang="zh-CN" sz="6000" spc="-1" strike="noStrike">
                <a:solidFill>
                  <a:srgbClr val="ff0066"/>
                </a:solidFill>
                <a:latin typeface="华文琥珀"/>
                <a:ea typeface="华文琥珀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    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用心去</a:t>
            </a:r>
            <a:r>
              <a:rPr b="1" lang="zh-CN" sz="6000" spc="-1" strike="noStrike">
                <a:solidFill>
                  <a:srgbClr val="ff0066"/>
                </a:solidFill>
                <a:latin typeface="方正舒体"/>
                <a:ea typeface="方正舒体"/>
              </a:rPr>
              <a:t>感恩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    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用心去</a:t>
            </a:r>
            <a:r>
              <a:rPr b="1" lang="zh-CN" sz="6000" spc="-1" strike="noStrike">
                <a:solidFill>
                  <a:srgbClr val="ff0066"/>
                </a:solidFill>
                <a:latin typeface="方正舒体"/>
                <a:ea typeface="方正舒体"/>
              </a:rPr>
              <a:t>珍惜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    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用心去</a:t>
            </a:r>
            <a:r>
              <a:rPr b="1" lang="zh-CN" sz="6000" spc="-1" strike="noStrike">
                <a:solidFill>
                  <a:srgbClr val="ff0066"/>
                </a:solidFill>
                <a:latin typeface="方正舒体"/>
                <a:ea typeface="方正舒体"/>
              </a:rPr>
              <a:t>付出</a:t>
            </a:r>
            <a:r>
              <a:rPr b="1" lang="zh-CN" sz="6000" spc="-1" strike="noStrike">
                <a:solidFill>
                  <a:srgbClr val="0066ff"/>
                </a:solidFill>
                <a:latin typeface="方正舒体"/>
                <a:ea typeface="方正舒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创造出美好的明天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8360" y="836640"/>
            <a:ext cx="80629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谢谢指导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907920"/>
            <a:ext cx="80629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谢谢指导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628640"/>
            <a:ext cx="6840000" cy="3240000"/>
            <a:chOff x="250920" y="1628640"/>
            <a:chExt cx="6840000" cy="3240000"/>
          </a:xfrm>
        </p:grpSpPr>
        <p:sp>
          <p:nvSpPr>
            <p:cNvPr id="44" name=""/>
            <p:cNvSpPr txBox="1"/>
            <p:nvPr/>
          </p:nvSpPr>
          <p:spPr>
            <a:xfrm>
              <a:off x="250920" y="1628640"/>
              <a:ext cx="6760080" cy="315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隶书"/>
                </a:rPr>
                <a:t>学会感恩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  <a:ea typeface="华文隶书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330840" y="1715760"/>
              <a:ext cx="6760080" cy="31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隶书"/>
                </a:rPr>
                <a:t>学会感恩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  <a:ea typeface="华文隶书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85320" y="189000"/>
            <a:ext cx="30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黑体"/>
                <a:ea typeface="黑体"/>
              </a:rPr>
              <a:t>高一</a:t>
            </a:r>
            <a:r>
              <a:rPr b="1" lang="zh-CN" sz="3600" spc="-1" strike="noStrike">
                <a:solidFill>
                  <a:srgbClr val="ff66cc"/>
                </a:solidFill>
                <a:latin typeface="黑体"/>
                <a:ea typeface="黑体"/>
              </a:rPr>
              <a:t>(5)</a:t>
            </a:r>
            <a:r>
              <a:rPr b="1" lang="zh-CN" sz="3600" spc="-1" strike="noStrike">
                <a:solidFill>
                  <a:srgbClr val="ff66cc"/>
                </a:solidFill>
                <a:latin typeface="黑体"/>
                <a:ea typeface="黑体"/>
              </a:rPr>
              <a:t>班主题班会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9360" y="219240"/>
            <a:ext cx="30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高一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(5)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班主题班会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8440" y="530208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恩欲报，怨欲忘；     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213372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谁言寸草心，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925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谁知盘中餐， 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3718080"/>
            <a:ext cx="75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滴水之恩，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5100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衔环结草，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213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报得三春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2852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3645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4365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5157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5950080"/>
            <a:ext cx="32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2924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粒粒皆辛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93720" y="3716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当涌泉相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443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以德报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22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报怨短，报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2920" y="189000"/>
            <a:ext cx="720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经典格言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059280" y="836640"/>
            <a:ext cx="2952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华文新魏"/>
              </a:rPr>
              <a:t>step2: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0920" y="2133720"/>
            <a:ext cx="5185080" cy="19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真情领悟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享感恩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920" y="476280"/>
            <a:ext cx="4248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家庭温馨剧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44000" y="4508640"/>
            <a:ext cx="610920" cy="610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77720" y="2388960"/>
            <a:ext cx="81885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《听，电话那头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254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50920" y="476280"/>
            <a:ext cx="4248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家庭温馨剧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《听，电话那头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20160" y="5734080"/>
            <a:ext cx="1023840" cy="112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5400000">
            <a:off x="-1619640" y="2996280"/>
            <a:ext cx="561636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latin typeface="华文新魏"/>
              </a:rPr>
              <a:t>七嘴八舌，表达感恩</a:t>
            </a:r>
            <a:endParaRPr b="1" lang="en-US" sz="1800" spc="1" strike="noStrike">
              <a:ln cap="rnd" w="936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latin typeface="华文新魏"/>
              <a:ea typeface="华文新魏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2987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latin typeface="华文新魏"/>
              </a:rPr>
              <a:t>step3:</a:t>
            </a:r>
            <a:endParaRPr b="1" lang="en-US" sz="1800" spc="1" strike="noStrike">
              <a:ln cap="rnd" w="936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latin typeface="华文新魏"/>
              <a:ea typeface="华文新魏"/>
            </a:endParaRPr>
          </a:p>
        </p:txBody>
      </p:sp>
      <p:sp>
        <p:nvSpPr>
          <p:cNvPr id="82" name=""/>
          <p:cNvSpPr/>
          <p:nvPr/>
        </p:nvSpPr>
        <p:spPr>
          <a:xfrm rot="1248000">
            <a:off x="6899400" y="104256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黑体"/>
              </a:rPr>
              <a:t>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720200">
            <a:off x="6881400" y="240336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黑体"/>
              </a:rPr>
              <a:t>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465400">
            <a:off x="5919120" y="346500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黑体"/>
              </a:rPr>
              <a:t>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558400">
            <a:off x="4765320" y="425412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黑体"/>
              </a:rPr>
              <a:t>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815800">
            <a:off x="3801960" y="513324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1744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朗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206280" y="1988640"/>
            <a:ext cx="957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育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使你体验生命； 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抚养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使你不断成长。  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帮助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使你度过难关。 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怀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给你温暖。     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鼓励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给你力量。     感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你的人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因为他们开化你的蒙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205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23840" y="1346040"/>
            <a:ext cx="722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797360"/>
            <a:ext cx="76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89000"/>
            <a:ext cx="31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社会真情剧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2205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360" y="22194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华文琥珀"/>
                <a:ea typeface="华文琥珀"/>
              </a:rPr>
              <a:t>《一句谢谢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80360" y="2781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254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5:39Z</dcterms:modified>
  <cp:revision>10</cp:revision>
  <dc:subject>主题班会课件(分28大类): http://shop62905894.taobao.com</dc:subject>
  <dc:title>主题班会课件(分28大类): http://shop62905894.taobao.com</dc:title>
</cp:coreProperties>
</file>