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349-ABD3-4111-891F-726FA599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CE8-CD38-46AE-A86C-DC5AF42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E3B-6085-46E3-9C8E-E071430F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B0B-2BC0-482F-BCE5-C67BAA3E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D97-22DF-48C3-9D52-E50D3E3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270-0F88-4B94-885D-24BB240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FA7-8746-4D42-8ACA-2B054CD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321-5858-4DE7-B95A-4CC0C65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BC5-90BE-4596-B08C-C4E669CC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9AD-89F8-4B83-AD4D-DBDD601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963-643A-42F3-A695-BFB10CE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BD6-74A3-44FD-820F-72169FC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DBF-99E8-4090-852C-C2C55418D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21608;&#20116;&#21021;&#19968;&#20027;&#39064;&#29677;&#20250;&#39064;&#26448;\&#23398;&#20250;&#19982;&#29238;&#27597;&#27807;&#36890;\&#33529;&#26524;&#26641;&#30340;&#25925;&#20107;.fl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&#26700;&#38754;\&#38472;&#23567;&#33459;-&#27807;&#36890;\love.mi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C:\Documents and Settings\Owner\&#26700;&#38754;\&#38472;&#23567;&#33459;-&#27807;&#36890;\SOS&#25327;&#25937;&#29238;&#27597;.swf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chenxiaofang\&#26700;&#38754;\&#27807;&#36890;\&#26641;&#19982;&#29482;.sw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268280"/>
            <a:ext cx="7056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隶书"/>
              </a:rPr>
              <a:t>架起心与心的桥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9402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学会与父母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765000"/>
            <a:ext cx="4913280" cy="501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627280" y="3500280"/>
            <a:ext cx="36734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沟通从心开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11280" y="1628640"/>
            <a:ext cx="4465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汉仪黛玉体简"/>
                <a:ea typeface="汉仪黛玉体简"/>
              </a:rPr>
              <a:t>THE END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汉仪黛玉体简"/>
                <a:ea typeface="汉仪黛玉体简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宣战书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张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xx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：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我感谢你生育了我，但我不是你的奴隶，我是一个自由的人，从今开始，如果你还要我这个女儿，必须做到以下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条：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不许动我的书包抽屉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不许看我的聊天记录、日记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不许强迫我必须穿你买的超级难看的衣服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不许拦截我的电话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不许当着亲戚朋友的面说我比别的孩子差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允许我每天晚上有一小时的自由支配时间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允许我每周日休息时晚点起床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允许我的朋友到家里来做客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允许我听孙燕姿、周杰伦的歌；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允许我反驳你的意见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  你做不到其中任何一项，我宁可露宿街头，去做小偷，也要毫不犹豫地离开这个家，让你永远也找不到我！我说到做到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               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由天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16720" y="4886280"/>
            <a:ext cx="262728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隶书"/>
              </a:rPr>
              <a:t>给妈妈的十四条建议</a:t>
            </a:r>
            <a:br>
              <a:rPr sz="4000"/>
            </a:br>
            <a:r>
              <a:rPr b="0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甘肃  晓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我需要帮助，同时也需要独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为了成长，请允许我犯些错误，让我自己在生活中学会如何生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请不要强迫我按照您的模式生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请自觉地保护我的自尊心和隐私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如果您想成为我的朋友，那就得放下家长的架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不要把简单的事情复杂化，不要把过去的错误扩大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请不要让我当您的出气筒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宠了我就别说把我宠坏了。多一些建议，少一些命令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请不要第一百零一次告诉我某事该怎么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我不仅学习您告诉我的东西，还学习您身上表现出来的东西，包括坏的习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我不仅需要爱，还需要学会爱别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即使您能替我做所有的事，也请您把它们留给我自己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因为我是菊花，所以请别让我在夏天开花；因为我是白杨，所以请别指望从我身上摘下松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华文隶书"/>
              </a:rPr>
              <a:t>我们曾经如此的亲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95480" y="1989000"/>
            <a:ext cx="678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候认为妈妈是最漂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候趴在爸爸的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候拉着妈妈的手开心的奔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3762360"/>
            <a:ext cx="5286240" cy="309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华文隶书"/>
              </a:rPr>
              <a:t>可是现在怎么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213336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否与父母发生过矛盾冲突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与父母发生矛盾冲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父母发生矛盾冲突后，你采取什么行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68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48200" y="4791240"/>
            <a:ext cx="3295800" cy="206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68360" y="1844640"/>
            <a:ext cx="401004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SOS 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拯救父母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6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332100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05280" y="3762360"/>
            <a:ext cx="5238720" cy="3095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华文隶书"/>
              </a:rPr>
              <a:t>是什么使我们疏远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488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青春期心理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性增强；封锁性增强；逆反性凸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父母方面的不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视子女的心理需要；自身不良行为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与父母的差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阅历   成长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角色   行为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想行为   情感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57840" y="4292640"/>
            <a:ext cx="4286160" cy="2438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华文隶书"/>
              </a:rPr>
              <a:t>我们还能像以前那样亲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846080"/>
            <a:ext cx="7705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艰难的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大家拿出一张纸，在上面写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你最爱的人，然后按照教师的要求，根据自己的抉择一次删掉一个，最后只剩下一个。大家一起来分享删除的顺序以及留下最后一个人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367160"/>
            <a:ext cx="3203640" cy="2490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华文隶书"/>
              </a:rPr>
              <a:t>我们还能像以前那样亲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5194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理解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尊重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善于与父母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51:24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12:46Z</dcterms:modified>
  <cp:revision>39</cp:revision>
  <dc:subject>主题班会课件(分28大类): http://shop62905894.taobao.com</dc:subject>
  <dc:title>主题班会课件(分28大类): http://shop62905894.taobao.com</dc:title>
</cp:coreProperties>
</file>