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0FF-AEE3-4075-9BBD-3A0C1EF2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6D9-321F-4376-87F7-B0A1940C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BBB-4FCA-4356-9F57-34BF5969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9DF-5F18-4CEA-8C85-C38277CD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D84-D338-4680-AC36-7509FDDA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9AF-F614-4D9C-ACD7-BB2C19F8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DA5-9D81-4A5B-B6A4-7121358F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7A4-262A-4EC7-B58B-72CA229A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EB2-9D55-4EBA-A6DE-1766169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845-B76B-4A17-827A-211235C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C62-16B9-443F-8210-6B998F2C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3A3-73AB-43CB-AF17-9111FB1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2E44-5D05-477C-80C8-98F812737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1143000"/>
            <a:ext cx="8269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7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感恩父母，埋头苦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5877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母亲曾背着我们劳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7920"/>
            <a:ext cx="7093080" cy="975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70160" y="0"/>
            <a:ext cx="23738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我们熟睡时，母亲也舍不的把我们放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71240" y="228600"/>
            <a:ext cx="292356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我们痛哭时，父亲给我们拭去泪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9436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父亲也曾背着我们来上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56680" y="609480"/>
            <a:ext cx="26492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母亲也曾陪着我们做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03280" y="476280"/>
            <a:ext cx="6408720" cy="1944720"/>
          </a:xfrm>
          <a:prstGeom prst="cloudCallout">
            <a:avLst>
              <a:gd name="adj1" fmla="val -45365"/>
              <a:gd name="adj2" fmla="val 1669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3280" y="76500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可现在怎么了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3213000"/>
            <a:ext cx="5184720" cy="3168720"/>
          </a:xfrm>
          <a:prstGeom prst="wedgeEllipseCallout">
            <a:avLst>
              <a:gd name="adj1" fmla="val -63041"/>
              <a:gd name="adj2" fmla="val -6863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跟父母的埋怨多了，跟父母的沟通也少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55640" y="1197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2205000"/>
            <a:ext cx="5832360" cy="1191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与父母的沟通有没有出现问题？怎样的情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4005360"/>
            <a:ext cx="7993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在家里最经常对父母说的话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母经常对我说的话是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1557360"/>
            <a:ext cx="4176720" cy="35060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在家最常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回来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哦，我知道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真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吃什么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没钱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要你签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2492280"/>
            <a:ext cx="3527280" cy="132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母最常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要好好读书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16000" y="1052640"/>
            <a:ext cx="4392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是什么使我们疏远了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357720"/>
            <a:ext cx="7273800" cy="2447640"/>
          </a:xfrm>
          <a:prstGeom prst="cloudCallout">
            <a:avLst>
              <a:gd name="adj1" fmla="val -46879"/>
              <a:gd name="adj2" fmla="val -87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组讨论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是什么使我们不再像以前那样亲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1628640"/>
            <a:ext cx="453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们还能亲密如初吗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3213000"/>
            <a:ext cx="5905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什么方法能让我们更好地沟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做什么爸爸妈妈最高兴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曾经如此幸福快乐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916280"/>
            <a:ext cx="6697440" cy="26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回忆以前跟父母一起的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时光，并跟同学们分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66880" y="1295280"/>
            <a:ext cx="41911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、回家端一杯茶水，向父母真挚地道一声“谢谢”，并为他们锤锤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、铭记老师的教诲，以实际的行动埋头苦学做到少让父母操心，多让父母高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33720" y="1197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父母写一封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人给父母写一封信，在信中要写以下内容：一是表达对父母养育自己的感恩之情；二是总结自己高一入学以来的学习情况；三是明确自己的长期奋斗目标（三年后的高考）和短期的学习目标（一个多月后的寒假统考）；四是制定实现目标的计划和具体措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PMingLiU"/>
                <a:ea typeface="PMingLiU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PMingLiU"/>
                <a:ea typeface="PMingLiU"/>
              </a:rPr>
              <a:t>埋头苦读”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PMingLiU"/>
                <a:ea typeface="PMingLiU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PMingLiU"/>
                <a:ea typeface="PMingLiU"/>
              </a:rPr>
              <a:t>、活动目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PMingLiU"/>
                <a:ea typeface="PMingLiU"/>
              </a:rPr>
              <a:t>良好的习惯和严明的纪律是取得成功的保障。规范学习习惯，强化学习纪律，从而提高学习效率是我们开展这个活动的最终目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活动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埋头苦读”活动的主要内容是除了继续进行严格的常规教学检查外，重点对下午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自习和晚上自习进行抬头率检查。在“埋头苦读”活动月中，所有同学在自习上，没有老师的明确要求，任何学生上自习不准抬头，不准回头，更不准交头接耳说话。各班必须在教室后门张贴座次表，严禁任何学生私自调位子，以便检查老师公布违纪学生名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7150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我们也曾经感受过母亲的爱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095880"/>
            <a:ext cx="883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我们也曾经感受过父亲的嬉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752480" y="-380880"/>
            <a:ext cx="8305560" cy="746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65240" y="228600"/>
            <a:ext cx="2373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母爱似水，举手之间滋润我们心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52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80520" y="533520"/>
            <a:ext cx="383796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父爱如山，宽阔的肩膀托起我们的身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580536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母亲想让我们笑得更灿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6659640" cy="7921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713720" y="692280"/>
            <a:ext cx="458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8480" y="304920"/>
            <a:ext cx="2923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父亲想让我们飞得更高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5580000" cy="724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90560" y="620640"/>
            <a:ext cx="2191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父亲曾陪我们看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12:07:37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03:55Z</dcterms:modified>
  <cp:revision>39</cp:revision>
  <dc:subject>主题班会课件(分28大类): http://shop62905894.taobao.com</dc:subject>
  <dc:title>主题班会课件(分28大类): http://shop62905894.taobao.com</dc:title>
</cp:coreProperties>
</file>