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517-D9F1-43D8-B477-2AFB3271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A7E-705F-4FC7-803A-6664A34F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ACA9A-ABF2-4430-A43A-7330D026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7C0C9-9A7B-449C-B4AA-0D9A3488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87D52-7685-4514-8AC2-00ACD810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A1863-E1A0-4F9B-8AF3-0264E74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3CDB3-CF50-461A-A0E9-B41A5696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D3456-E98C-4994-90BC-E2C55566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94F30-BC62-4ECC-8CCD-F9E9A824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F1CD4-E063-4DC2-B3A4-C77326FF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50FC3-882B-45FA-8A2E-FC129326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608D3-492D-4469-A253-1B286B0D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D7F-79C7-4DF4-96E8-09194529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CBB94-61AB-459B-9D7A-26DA0B0F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EB411-3ABF-4F33-A316-65EFFC50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63F17-F611-462A-9D7D-781F2810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FC9A3-6C7B-433E-8924-3B0EFAAA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AF922-C40C-4F1A-9FDE-854B09DA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FAAF3-B227-4F82-A67F-9403B10E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0C34D-04F7-421A-8BC4-1C421EEA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05779-ED1D-48DE-B683-A9699F62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F4F12-CD56-47DA-A7D0-F79F4D42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D6E21-C13B-44B0-B22B-62B29856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53F-2DF4-44E1-AB46-387BD8A7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1C2A2-1411-4DEA-8A31-2DA1900F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4C3E6-8A94-4102-90BC-C4BCB300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D2AEF-6B66-41AF-85BC-D5B81452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C6412-984D-4727-8652-EAD61025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28B90-13D8-4470-A2E7-F03B2E23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D66CD-0F8E-4D63-8778-5775A69F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76B57-5CD6-4C11-AD6F-BEAD0BDD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30EDC-2A0D-4F1C-81B8-C441A011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A6F3B-E1DB-4864-8DB2-46E1392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D986F-A530-4262-A7D9-B7419E96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9777-5CB4-4E7B-88F3-914888A4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E304B-2B54-407E-AC37-0E52AB4E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7CA5F-AF9A-4757-B37B-FAA567E6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2EB4D-BDF5-4668-9BBB-009A01D3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47F0-4481-428A-83F1-0CE5D20E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59BD-E7FD-4B78-A161-D8A223E6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3EEA-E701-4B26-9E5D-12D60B1C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B28A-D7D3-4BB9-990C-CEF2C268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09B8-E28A-4617-AEDF-361AC16C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1E37-859E-4DB6-9660-D88DB90C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892-91B0-43DE-B4A9-C0EBDE00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ECDA-FC5C-40B8-9D5B-7185CA46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2147-7E8B-43C2-B6F0-CD70776C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F1C2-A072-4A14-9A3D-D3485FFD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3797-1428-4A4C-99DB-1BCF8105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8451-5A2C-48B4-B77A-318E6B7A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BF76-449F-4C3C-A737-38ABC55C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D6A7-C47B-49DE-9B22-1D83340D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8E2D-1762-4A6A-B9A1-96ED90C7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0ECDD-C184-4F28-8173-9B63BB80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CA2C-49DC-4742-B988-2A8DE6B1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AF7-019C-47CB-8148-C3388D2E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C42DE-FD30-4544-BA6D-0DA79EAE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89CDE-A6EE-438D-971C-0CD615FA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A233-B35C-4C6B-9D99-F230ACB0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C17A-5495-4A92-A8A5-706234D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383F0-064B-418F-ACDB-81FB4A6E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D0CE7-1DB8-4DFB-A3FC-720D8AF0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A780-4F49-4890-87F9-D66D516B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13035-27DE-4DE6-9102-40801B5F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55554-16C0-4AE4-B98F-2B39EB3E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718A6-4BC4-4D58-900E-112D043C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157-12D8-407F-9D3E-D5C3E8E2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3A0AD-6DA6-4FBF-B6CE-3E59E5BD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913F-CBE1-4131-A926-6B127DCE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E02B-1FB7-452E-A273-A6D89668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BAAB-A61E-45EC-A98C-EE03C760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570F-FD53-4035-B9D2-C1E9F4F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B623E-55BE-4EF3-B9CD-6EAA1036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C99D-7A8A-4AE9-8BAB-AD44C9AA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E2FF-7A43-47E0-A1F6-9BF913B1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99AB5-88BD-4789-A29C-2380152F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EC745-BE25-4563-95BB-E1812A6C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792-A4C5-47F5-A4A6-EB3CFF74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CD041-1B75-4443-8426-F3EDDAEF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FD820-9EA0-4D75-9AC9-D0337DD3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9D2C-940C-47E7-AA16-B281E39A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57195-C321-497B-A114-E622AFAD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8178-720D-4321-942A-4B837500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77DFA-4418-4980-ADC6-D801D2AB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DF584-B55A-4E69-946D-E3893DBD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E3CCA-2BF7-4DC9-9A99-65D9991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18D97-05E3-47B5-A838-DF9CDB20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DFCA3-1FDF-482A-8DBB-F214C404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E0F-3FF7-4365-9ABD-2A358D98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132FB-883E-4AE8-A8CA-1CA08B1A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90F52-1BCE-4111-A2E0-D7850616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1823C-167D-4FEB-8764-8BB64DAC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38FF7-046A-47BF-B129-B3D952F6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5CC25-EEA2-4E58-BD48-3EF118EE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3B3F7-81A4-422D-AFCD-AF20F3A9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4A70D-77FB-4A72-87B0-4EEB3301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05158-270B-4A08-9195-B7E6D381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68C98-CF93-4CC2-AC22-13FA6ECC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1654E-4203-410E-9A8B-C762912F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F37-1536-4D42-9F0C-06C9F882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06526-EB7B-4841-B12A-8A47945C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E4ACF-6C3C-447A-9DAF-173EC894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DF92B-B958-4424-B15D-AD02391E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7E27C-9020-4B24-BF24-B9F54338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6C550-57D6-40BA-84A3-A5075CF8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F490-921F-40CD-878D-BABCB8CA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83331-3702-4EBD-B986-F08B073B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BF83F-D6AE-4B3E-9159-395247A9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6998C-E551-4562-B3F6-73D9BE22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33A1B-870F-404C-A1FB-3899CA49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2BA-EE4B-4B86-ADF2-7DF7F7DB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D8C49-FE39-4319-A5FC-948C04AE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22447-0926-471D-910C-158C65C6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CD3BC-A39D-44FF-A15F-A9124BCC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C73F5-5C8E-450F-9334-0AABD146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8918-56D1-4FBB-A9E9-00EC8798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0F15E-B1B8-4E3F-918E-BD2B3C4F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41AFF-7FA7-43E2-89AA-02197D54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7352B-D3CB-4344-BEFA-101BF80B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82C71-BB4B-469E-B302-D5373E03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C5E4E-D777-4E35-B20E-22E0775A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834-A179-4970-AA7C-96F63990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64BDB-648A-4219-B427-AECC0C29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C0845-6F7E-42CD-A92E-CA73CB71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6E394-E92C-46B2-8477-FE129D7B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7CCE5-BE02-4F53-8FC7-DA854C1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124CB-0D34-49A7-AFE6-1297A4FC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46759-E800-433C-9B90-B8FD4A43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A3D6D-A990-4BDB-9CB8-B9BEB56C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8C7B3-BF0C-4DC9-AFB5-CB85F627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62607-3741-487D-B4C1-684B2B52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C6CE9-262C-460D-AC1B-7C2423B9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F96E-BCE7-44AF-9003-BBB8662645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4AF2-41C2-48CB-98F7-E656D33A7DEC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817F-AD06-4D46-9BEF-7DA057426199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0795-EBA3-44CC-8DF3-CF992835B7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EF51-1E82-4668-942F-5DDAF52DB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F596-9533-4A79-954F-CD4259D167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2EEF-33B3-4401-86CB-3EB5BABE23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DD46-A374-411D-A758-DE07A407DE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7CD7-EB9D-4B01-96F1-14BD643E66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0228-8E5D-4911-9FF2-B8370B652C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E220-C9A5-44E4-B52B-45F2FB7AEC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Times New Roman"/>
                <a:ea typeface="华文行楷"/>
              </a:rPr>
              <a:t>“</a:t>
            </a:r>
            <a:r>
              <a:rPr b="1" lang="zh-CN" sz="5400" spc="-1" strike="noStrike">
                <a:solidFill>
                  <a:srgbClr val="feec94"/>
                </a:solidFill>
                <a:latin typeface="Times New Roman"/>
                <a:ea typeface="楷体_GB2312"/>
              </a:rPr>
              <a:t>惜时报恩</a:t>
            </a:r>
            <a:r>
              <a:rPr b="1" lang="zh-CN" sz="5400" spc="-1" strike="noStrike">
                <a:solidFill>
                  <a:srgbClr val="feec94"/>
                </a:solidFill>
                <a:latin typeface="Times New Roman"/>
                <a:ea typeface="华文行楷"/>
              </a:rPr>
              <a:t>”主题班会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998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43762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 txBox="1"/>
          <p:nvPr/>
        </p:nvSpPr>
        <p:spPr>
          <a:xfrm rot="20685600">
            <a:off x="1187280" y="2276280"/>
            <a:ext cx="554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明天会更好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20730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 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5796000" cy="5661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7308720" y="5589720"/>
            <a:ext cx="14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774072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64280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b9d6"/>
                </a:solidFill>
                <a:latin typeface="Arial"/>
              </a:rPr>
              <a:t>一封辛酸父亲的来信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亲爱的儿子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　　尽管你伤透了我的心，但你终究是我的儿子。虽然，自从你考上大学，成为我们家几代里出的唯一一个大学生之后，心里已分不清咱俩谁是谁的儿子了。从扛着行李陪你去大学报到，到挂蚊帐缝被子买饭菜票甚至教你挤牙膏，这一切，在你看来是天经地义的，你甚至感觉你这个不争气的老爸给你这位争气的大学生儿子服务，是一件特沾光特荣耀的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　　的确，你考上大学，你爸妈确实为你骄傲。虽然现今的大学生也不一定能找到工作，但这毕竟是你爸妈几十年的梦想。我们那阵，上大学不是凭本事考的，要看手上的茧子和出身成分，有些人还要用贞操和人格去换。这也就是我们以你为荣的原因。然而，你的骄傲却是不可理喻的。在你读大学的第一学期，我们收到过你的</a:t>
            </a: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封信，加起来比一份电报长不了多少，言简意赅，主题鲜明，通篇字迹潦草，只一个“钱”字特别工整而且清晰。你说你学习很忙，没时间写信，但同院里你高中时代的女同学，却能收到你洋洋洒洒几十页的信，而且每周一封。每次从收发室门口过，我和你妈看着你熟悉的字，却不能认领。那种痛苦是咋样的，你知道吗</a:t>
            </a: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b9d6"/>
                </a:solidFill>
                <a:latin typeface="Arial"/>
              </a:rPr>
              <a:t>一封辛酸父亲的来信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后来，随着你读二年级，这种痛苦煎熬逐渐少了，据你那位高中同学说，是因为你谈恋爱了。其实，她不说我们也知道，从你一封接一封的催款信上我们能感受到，言辞之急迫、语调之恳切，让人感觉你今后毕业大可以去当个优秀的讨债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　　当时，正值你妈下岗，而你爸微薄的工资，显然不够你出入卡拉</a:t>
            </a: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OK</a:t>
            </a: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酒吧餐厅。在这样的状况下，你不仅没有半句安慰，居然破天荒来了一封长信，大谈别人的老爸老妈如何大方。你给我和你妈心上戳了重重一刀，还撒了一把盐。最令我伤心的是，今年暑假，你居然偷改入学收费通知，虚报学费。这之前，我在报纸上已看到这种事情。没想你也同时看到这则新闻，一时间相见恨晚，及时娴熟地运用这一招，来对付生你养你爱你疼你的父亲母亲。虽然，得知真相后我并没发作，但从开学到今天，两个月里，我一想到这事就痛苦，就失眠。这已经成为一种心病，病根就是你—————我亲手抚养大却又倍感陌生的大学生儿子。不知在大学里，你除了增加文化知识和社交阅历之外，还能否长一丁点善良的心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  <a:ea typeface="隶书"/>
              </a:rPr>
              <a:t>你知道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你知道父母的年龄吗？他们的出生年月日？他们的属相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你经常帮助父母做家务吗？都有那些家务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你是否知道母亲节和父亲节是哪一天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你给父母洗过脚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你经常与父母沟通谈心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在报到那天，送别时看到父母离去的背影，你是否有感动的瞬间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796000" y="692280"/>
            <a:ext cx="2286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659640" y="189000"/>
            <a:ext cx="72072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084720" y="404640"/>
            <a:ext cx="576360" cy="9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有一种朴素伟大的名字叫父亲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有一种朴素但真诚的情感叫父爱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他用沾满泥巴的双脚为儿女踩开一条平坦开阔的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他用粗糙干裂的双手为儿女撑开一张挡风遮雨的伞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我们曾经有的忏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把我们对亲情的认识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把我们今后的打算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亲口讲给我们的父母听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844640"/>
            <a:ext cx="85406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你打算在今后的生活中如何去做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回报父母的养育之恩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988720" cy="68914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867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24000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09:24:34Z</dcterms:created>
  <dc:creator>主题班会课件(分28大类): http://shop62905894.taobao.com</dc:creator>
  <dc:description/>
  <cp:keywords>主题班会课件(分28大类): http://shop62905894.taobao.com</cp:keywords>
  <dc:language>en-US</dc:language>
  <cp:lastModifiedBy>User</cp:lastModifiedBy>
  <dcterms:modified xsi:type="dcterms:W3CDTF">2013-04-13T17:01:26Z</dcterms:modified>
  <cp:revision>6</cp:revision>
  <dc:subject>主题班会课件(分28大类): http://shop62905894.taobao.com</dc:subject>
  <dc:title>主题班会课件(分28大类): http://shop62905894.taobao.com</dc:title>
</cp:coreProperties>
</file>