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9.gif" ContentType="image/gif"/>
  <Override PartName="/ppt/media/image7.png" ContentType="image/png"/>
  <Override PartName="/ppt/media/image1.jpeg" ContentType="image/jpeg"/>
  <Override PartName="/ppt/media/image6.gif" ContentType="image/gif"/>
  <Override PartName="/ppt/media/image15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5.gif" ContentType="image/gif"/>
  <Override PartName="/ppt/media/image10.gif" ContentType="image/gif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DA8-80FC-428C-90D2-3257C84B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182-014A-4888-A202-BFB4FA94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113-99B8-44FE-B71F-ACCE3B87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877-3C2B-46A8-B4D0-5463B4D9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EF7-9941-40EE-830F-686DEEC4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7B6-F52D-4C01-9953-BEFABC39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56B-95E8-438A-8651-56932C84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879-00BA-461C-9628-0AC37DF8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010-A040-4B6D-BD85-7AD1D0F4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979-510F-4B36-ABF2-432E62AC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E0D-706A-4DE5-80FD-CBDAA05C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65A-D075-4863-A0B6-E32A4A09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1968-C47A-41A2-A3FF-02C41990CF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主题班会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论  自  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952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随我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685800" y="-514440"/>
            <a:ext cx="9829800" cy="737244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-228600" y="228600"/>
            <a:ext cx="2133720" cy="1768320"/>
            <a:chOff x="-228600" y="228600"/>
            <a:chExt cx="2133720" cy="1768320"/>
          </a:xfrm>
        </p:grpSpPr>
        <p:graphicFrame>
          <p:nvGraphicFramePr>
            <p:cNvPr id="81" name=""/>
            <p:cNvGraphicFramePr/>
            <p:nvPr/>
          </p:nvGraphicFramePr>
          <p:xfrm>
            <a:off x="-228600" y="228600"/>
            <a:ext cx="2133720" cy="1768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228600" y="228600"/>
                      <a:ext cx="2133720" cy="17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 txBox="1"/>
            <p:nvPr/>
          </p:nvSpPr>
          <p:spPr>
            <a:xfrm>
              <a:off x="-228600" y="228600"/>
              <a:ext cx="2133720" cy="176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629400" y="4800600"/>
            <a:ext cx="175248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533520"/>
            <a:ext cx="77724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懂得自爱，就是要塑造自己有良好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　　一方面，要美化自己的外在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另一方面，更应该美化自己的内在形象。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品德、理想、学识、个性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自爱，还应该自尊和自强。珍惜自己的名誉、不屈从于艰难困苦、珍爱生命、热爱生活。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案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唐某被北京一名牌大学录取了，但是上万元的上学费用让她的一家难以筹借。一家制药厂得知此事后答应只要唐某在报刊、广播、电视上说是服了他们厂生产的健脑口服液才考上大学的，就给她一笔巨款。面对这意外的诱惑，唐某贫穷不移志，她立即拒绝做虚假广告，她说：“如果为了贪图钱财而说谎话，我今后在社会上怎么做人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你认为什么是自爱？唐某自爱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自爱就是要塑造自己良好形象，要求自尊自强。唐某的行为是一种自尊自强的行为。所以说，唐某是一个懂得自爱的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2057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对照《中学生守则》《中学生日常行为规范》，当发现自己有缺点、错误的时候，你该怎样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981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447920" y="380880"/>
            <a:ext cx="197172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议一议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71600" y="1066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能够自律的人，一定是善于自我控制的人，能够自己对自己进行监督和催促的人。人最难战胜的敌人就是自己的惰性，自己的缺点，自己的不良习惯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自我控制，则是克服惰性、缺点和不良习惯的保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76720" y="487692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523880" y="762120"/>
            <a:ext cx="6019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自控力小测验</a:t>
            </a:r>
            <a:endParaRPr b="1" i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1752480"/>
            <a:ext cx="7238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请对下列题目如实作出“是”或“否”的选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星期天复习功课时，容易受娱乐的诱惑而中断。（是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做事情容易受情绪或环境的干扰。            （是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否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学习中遇到困难时，常常叫苦连天。          （是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明明知道是自己不对，可就是管不住自己。    （是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受到委屈、冤枉时，常常暴跳如雷。          （是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遭受失败、挫折时，容易悲观失望。          （是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在成绩、成功面前，容易沾沾自喜、骄傲自满。（是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自己定下的学习计划，常常落空，不能实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    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是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243828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181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905120"/>
            <a:ext cx="739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、懂得自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自爱，要塑造自己良好的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①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要美化自己的外在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②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更应该美化自己的内在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自爱，还应该自尊和自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、勇于自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能够经常地、冷静地回顾自己的思想和行为，寻找并克服自己的缺点，努力改正错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、善于自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善于自我控制，能够自己对自己进行监督和催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04920"/>
            <a:ext cx="19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099280" y="4572000"/>
            <a:ext cx="104472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43200" y="53352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华文行楷"/>
              </a:rPr>
              <a:t>一、自律的表现——　　自爱、自省、自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事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场慰问第二次世界大战退伍军人的演出正在进行。观众席上第一排坐着两个男人，他们在战争中一个失去了左手，一个失去了右手，现在正在一起鼓掌，拍得又开心，又响亮。失去了一只手的人还在努力为精彩的表演而鼓掌，健康的人有什么理由放弃为生命喝彩的勇气和机会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读完这一事例后，你有何感受和体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02920" y="682560"/>
            <a:ext cx="456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华文行楷"/>
                <a:ea typeface="华文行楷"/>
              </a:rPr>
              <a:t>今天轮到第三组值日，可是组里其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华文行楷"/>
                <a:ea typeface="华文行楷"/>
              </a:rPr>
              <a:t>同学都有事走了，教室里只剩下塔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华文行楷"/>
                <a:ea typeface="华文行楷"/>
              </a:rPr>
              <a:t>一个人，这时塔娜的行动有三种可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华文行楷"/>
                <a:ea typeface="华文行楷"/>
              </a:rPr>
              <a:t>    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A.</a:t>
            </a:r>
            <a:r>
              <a:rPr b="0" lang="zh-CN" sz="3600" spc="-1" strike="noStrike">
                <a:solidFill>
                  <a:srgbClr val="000066"/>
                </a:solidFill>
                <a:latin typeface="华文行楷"/>
                <a:ea typeface="华文行楷"/>
              </a:rPr>
              <a:t>一个人把教室打扫干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华文行楷"/>
                <a:ea typeface="华文行楷"/>
              </a:rPr>
              <a:t>    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B.</a:t>
            </a:r>
            <a:r>
              <a:rPr b="0" lang="zh-CN" sz="3600" spc="-1" strike="noStrike">
                <a:solidFill>
                  <a:srgbClr val="000066"/>
                </a:solidFill>
                <a:latin typeface="华文行楷"/>
                <a:ea typeface="华文行楷"/>
              </a:rPr>
              <a:t>马马虎虎地打扫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华文行楷"/>
                <a:ea typeface="华文行楷"/>
              </a:rPr>
              <a:t>    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C.</a:t>
            </a:r>
            <a:r>
              <a:rPr b="0" lang="zh-CN" sz="3600" spc="-1" strike="noStrike">
                <a:solidFill>
                  <a:srgbClr val="000066"/>
                </a:solidFill>
                <a:latin typeface="华文行楷"/>
                <a:ea typeface="华文行楷"/>
              </a:rPr>
              <a:t>不打扫教室就回家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4419720"/>
            <a:ext cx="56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如果你是值日生塔娜，你会选择那一种行动？并请说明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82880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6200" y="39625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文鼎中特广告体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6481800" cy="5621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937200" y="1268280"/>
            <a:ext cx="18338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你有何感受和体会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020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谓“自律”就是不管在学校、在家庭、在社会，都能自觉遵守各项规章制度，遵守各项纪律，不靠老师或他人“监督”着，“管”着。能约束自己，能管住自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7885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本质上讲，自律就是你被迫行动前，有勇气自动去做你必须做的事情。自律往往和你不愿做或懒于去做但却不得不做的事情相联系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4791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如，刷牙洗脸是每天必须要做的事情，但是有一天你回到家筋疲力尽，如果你倒床就睡，是在放纵自己的行为；如果你克服身体上的疲惫，坚持进行洗漱，这是你自律的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32000" y="765000"/>
            <a:ext cx="72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警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050920" y="4437000"/>
            <a:ext cx="1752840" cy="1828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19280" y="22050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不懂得自律，自爱，自控的人将一事无成，一生一塌糊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788000" y="3429000"/>
            <a:ext cx="2819160" cy="2077560"/>
            <a:chOff x="4788000" y="3429000"/>
            <a:chExt cx="2819160" cy="2077560"/>
          </a:xfrm>
        </p:grpSpPr>
        <p:sp>
          <p:nvSpPr>
            <p:cNvPr id="117" name=""/>
            <p:cNvSpPr/>
            <p:nvPr/>
          </p:nvSpPr>
          <p:spPr>
            <a:xfrm>
              <a:off x="4788000" y="3429000"/>
              <a:ext cx="2819160" cy="2077560"/>
            </a:xfrm>
            <a:prstGeom prst="cloudCallout">
              <a:avLst>
                <a:gd name="adj1" fmla="val -77365"/>
                <a:gd name="adj2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70880" y="4011840"/>
              <a:ext cx="18468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105520" y="4038480"/>
            <a:ext cx="24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听我的没错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564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律的方式，一般来说有两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5520" y="33004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二是不做不能做、不应该做而自己想做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480" y="10666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是去做应该做而不愿或不想做的事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1787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比如你每天早晨坚持锻炼身体，某一天天气特别寒冷，你不想冒寒冷继续坚持，但是你最终走出家门，继续锻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44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如你想聊天，但因为是午修的时候，你必须忍住内心的欲望不发出声音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88344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情况下，自律和意志是紧密相连的，意志薄弱者，自律能力较差；意志顽强者，自律能力较强。加强自律也就是磨炼意志的过程。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6510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成功者无不懂得自律。自律是修身立志成大事者必须具备的能力和条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066680"/>
            <a:ext cx="528948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38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我的修养要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13000" y="5791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周恩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762120"/>
            <a:ext cx="6705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、加紧学习，抓住中心，宁精勿杂，宁专勿多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二、努力工作，要有计划，有重点，有条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三、习作合一，要注意时间、空间和条件，使之配合适当，要注意检讨和整理，要有发现和创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四、要与自己的他人的一切不正确的思想意识作原则上坚决的斗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五、适当的发扬自己的长处，具体的纠正自己的短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六、永远不与群众隔离，向群众学习，并帮助他们。过集体生活，注意调研，遵守纪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七、健全自己身体，保持合理的规律生活，这是自我修养的物质基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04920" y="1752480"/>
          <a:ext cx="8534160" cy="44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534160" cy="44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8120" y="304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看周恩来七条《我的修养要则》，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思考并回答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447920"/>
            <a:ext cx="56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周恩来的事例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65760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周恩来是我们严于律己的榜样，我们既要努力学习文化科学知识，又要加强自身的修养，养成自律的习惯，增强自律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205740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这说明了他非常注重自身修养，严格自律，具有非凡的自觉性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5120" y="3200400"/>
            <a:ext cx="35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能从中受到什么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209680" cy="312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438280" y="380880"/>
            <a:ext cx="181944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2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 </a:t>
            </a: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想一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295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你如何判断一个人是否具有自律能力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6520" y="4038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律的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514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懂得自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038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勇于自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54864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善于自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2743200"/>
            <a:ext cx="338040" cy="3276720"/>
          </a:xfrm>
          <a:custGeom>
            <a:avLst/>
            <a:gdLst>
              <a:gd name="textAreaLeft" fmla="*/ 216000 w 338040"/>
              <a:gd name="textAreaRight" fmla="*/ 338400 w 33804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19320" y="16002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青少年时期，是人生的春天，是人的生长时期、打基础时期，同时也是塑造良好心理品质、培养健康人格和高尚道德情操的关键时期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所以我们既要努力学习文化科学知识，又要加强自身的修养，养成自律的习惯，增强自律能力，切切不可虚度光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00200" cy="990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02000" y="17082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1:56Z</dcterms:modified>
  <cp:revision>3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