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E88-1382-495E-A04E-2CACFED0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AE7-92EC-4AA9-99A5-459FE352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725-034C-4C51-A386-2F1B3D48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882-BFF2-4C80-A5BD-FAEB7AB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F8E-40A1-4371-8F36-C70AEE9D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5A1-915F-47EF-A034-42440AEA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01E-0E94-4982-BD78-5A44B862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13B-A2F5-4829-BA20-5C81A6D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79A-F608-40E4-9ABF-BC31313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6A9-AFDF-47BE-8898-C05A02E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4A2-1C32-4192-B7D4-9A9AF372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7AC-0403-4AA7-83CD-4629233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1E73-7730-4CF6-AFF9-61C806543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852640"/>
            <a:ext cx="5832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给学习以无限动力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77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营造良好的学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4005360"/>
            <a:ext cx="576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培养学习主动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5076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0" y="1413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小明是班里面数一数二的尖子生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但他一直都认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学习是自己的事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自己的事都做不好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找人帮助只会让别人看不起自己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甚至他不但不肯问别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而且还不肯帮同学解决问题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一天小红拿着一道数学题找小明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但小明却说自己不会教小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自己的事应该自己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不应该去寻求别人的帮助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如果你是班长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你会怎样对待这一件事情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请你发表一下自己的看法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论述题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98100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列举题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学风建设是一个长期的事情，要经常抓，抓经常。从平时的学生管理中我们都注意到：我们的不少学生存在着自觉学习能力差、学习目的不明确、靠惯性学习、围绕考试学习、有逃课和抄袭作业的现象，课余时间利用率差等等。针对这种种行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你有什么好建议去改善这些情况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要求至少列举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种方法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超过一条加一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0" y="24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很多的学校都是应付考试而办的，大部分教师教学只是为了三年或年的那一次最后的考试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每一个学生都是为了应付最后的考试而接受知识的，全部都处于一种比较被动的关系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使同学们对学习的积极性有所减小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面对这些问题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你有什么好的意见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怎样才可以让他们转变观念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至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条意见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超过一条加一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9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列举题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42920" y="836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论述题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419640" y="0"/>
            <a:ext cx="54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些学校本着为学生着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什么一切都是为了学生的成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让学生一天除了吃饭与睡觉的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它都是学习再学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对着学校的做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们精力疲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当中某些人还甚至厌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针对这一些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是学生会的一员你会怎样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提高这些人的学习积极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 rot="21190800">
            <a:off x="2339640" y="1125000"/>
            <a:ext cx="65977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希望你通过这一次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84360" y="3573360"/>
            <a:ext cx="63039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班会你会有点收获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19700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班风学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班风：尊重  信任  理解  团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具体内涵：尊重——尊重自己、尊重父母、尊重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信任——信任自己、信任父母、信任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理解——理解学校、理解老师、理解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团结——同心协力，“众人拾柴火焰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学风：苦学  勤思  好问  求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具体内涵：苦学——“思而不学则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勤思——“学而不思则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好问——“舍问，其奚决焉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求实——踏实是学习之本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看了上面的话不知道你是否对学风有点认识。学风关系到一个班的发展，它也是一个班的灵魂所在，那什么是学风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92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风，即学习风气，一方面指学习的目的和动力、学习的热情和信心，另一方面指学习的态度。学院开展的“优化教学秩序，树立良好学风”活动一方面大大的提高了同学的学习效率和学习的积极性；另一方面也为同学们营造一个良好的学习外部环境，在全院师生中收到良好的效果。随着活动月的开展，我们看到全院学生的学习理念正在发生转变，自觉的学习在他们中间已蔚然成风。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640" y="170028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加强与建立良好学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78136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风，从大家做起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3573360"/>
            <a:ext cx="31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建议与方法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风是学生思想道德素质的反映，加强学风建设必须着力加强学生的思想政治教育，通过形式多样、内容丰富的活动，引导学生明确学习目的，端正学习态度，改进学习方法，提高学习效果，增强成才意识，树立献身科学、爱国、成才、奉献的远大抱负。学风教育要把好新生入学关，从新生入学开始就加强理想教育，把学风建设和道德教育紧密结合起来，教育学生为人要正，诚信为本；求学要勤，严谨刻苦；增强自律和自制能力。学院及各教学单位必须尽快建立起正确的引导机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一、加强思想教育，激励学生成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47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优良的教风是促进学风建设的前提和保证，师德建设是优良教风的基础。要加强师德教育和青年教师培养，把教师的职业道德要求和岗位职责考评相结合。教师是教学活动的组织者，是学生学习知识、提高综合素质的引导者，所有教师要为人师表，严谨治学，以自己的人格力量和科学精神感染熏陶学生。广大教师要牢记教书育人的宗旨，成为学生的良师益友，成为学风建设指导者和实践者，在讲授知识的同时引导学生树立正确的学习态度，掌握科学的学习方法，把提高学生综合素质作为评价教学效果的重要尺度。对青年教师要通过传、帮、带，示范教学、教学期中检查、教案评展、教学经验交流等形式，帮助他们改进教学方法，提高教学效果，强化教书育人意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55960" y="-50760"/>
            <a:ext cx="3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二、重视教风建设，深化教书育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25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纪律和考试纪律是保障教学质量的重要环节之一。任课教师要严抓课堂教学纪律，严格考勤和作业检查。院、系教学管理人员、学生政治辅导员、班主任老师要加强对学生的学风教育、考风考纪教育，把学风建设落到实处。要进一步发挥学院、系教学督导的作用，教学督导要督教与督学并重，经常深入课堂，与任课教师交流，检查教学纪律、授课效果，了解学生意见和建议，使教与学共同提高。各院系要适时开展学风讲评、师生座谈等活动，密切师生关系，促进学风建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三、规范教学秩序，严格教学管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充分发挥团、学组织在学风建设中的生力军的作用，重视学生干部的示范作用。各学生组织的干部要以身作则，以突出的综合素质和优良的学习成绩影响和感染周围同学，在学风建设中起模范带头作用。要通过开展形式多样的集体活动，加深同学之间的相互了解，增进同学的感情和友谊，在生活和学习上互相帮助、互相鼓励、互相监督、互相约束，培养自律意识，增强集体荣誉感，形成良好的校风，促进学风建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四、发挥学生主体作用，抓校风促学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7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既然大家对学风有了些认识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下面有四组题目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请各组同学努力完成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.(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其中有列举题、论述题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270828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71640" y="270828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88000" y="2708280"/>
            <a:ext cx="107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04000" y="270828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6:01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16Z</dcterms:modified>
  <cp:revision>10</cp:revision>
  <dc:subject>主题班会课件(分28大类): http://shop62905894.taobao.com</dc:subject>
  <dc:title>主题班会课件(分28大类): http://shop62905894.taobao.com</dc:title>
</cp:coreProperties>
</file>